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2.jpeg" ContentType="image/jpeg"/>
  <Override PartName="/ppt/media/image34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4BA-B3F7-42E0-A4F3-4BAEE55B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905-8C78-4991-9058-B173D08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D3C-1BB0-47DB-9D49-35463F44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097-8AD4-4564-8196-B6E571BC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B488-ECFD-4F65-B1BB-925243DF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DE1-A8AB-4D05-B414-B500386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27B-FFD1-4FE6-8CD3-9699E6D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43BE-4ECD-4FA6-A107-D535FD0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77DE-D472-4D2C-A1EE-8CC48CE6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8EFE-8091-4C16-B8D4-9725527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53F-54BC-4E19-9F5E-94DE709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D91-8173-417B-9762-EA448C9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1706-2DA2-4D03-B468-6339915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53BB-0272-4675-B1A9-BF9CF10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FCB-55C2-4012-A5B8-8DD973B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91AD-BE13-4B32-A7BA-0939EA7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5C9-B8D7-4539-9F46-B071123B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180-3F9C-4509-957E-3E92AE6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5A-85E2-4B27-AA4F-65A9065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F8B-200F-4271-B55F-145AA06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D18-5A81-490A-BE65-F08EA18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6B9-A358-483D-9562-23143EF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4CC-EB76-4F3D-A350-7427B5E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525-6044-42CA-9104-97E5AFE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71F4-DFCE-4D2E-A85B-BFF8B98BE69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5CA-B79A-4F31-83C1-13ECF2DC1C0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a3d7a"/>
                </a:solidFill>
                <a:latin typeface="Times New Roman"/>
              </a:rPr>
              <a:t>Ядовитые организмы</a:t>
            </a:r>
            <a:br>
              <a:rPr sz="6000"/>
            </a:b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а: Бунтова Т.</a:t>
            </a:r>
            <a:br>
              <a:rPr sz="2000"/>
            </a:b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учитель:Лисовская А.А.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905120" y="1219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Борщевик Сосновског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952880" y="2362320"/>
            <a:ext cx="38102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Ядовито все растени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9e12"/>
                </a:solidFill>
                <a:latin typeface="Times New Roman"/>
              </a:rPr>
              <a:t>Картина отравления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ильны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жог кожи, озноб,повышение температур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5" descr="60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66680" y="2133720"/>
            <a:ext cx="2948040" cy="404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90920" y="12193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Ландыш майски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267080" y="2514600"/>
            <a:ext cx="40388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довито все растени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9e12"/>
                </a:solidFill>
                <a:latin typeface="Times New Roman"/>
              </a:rPr>
              <a:t>Картина отравления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вота, боли в желудке, головокружение, шум в ушах, судорог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6" descr="60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2133720"/>
            <a:ext cx="271476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133720" y="1447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Вороний глаз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105520" y="2362320"/>
            <a:ext cx="37335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Ядовито корневищ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и ягод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9e12"/>
                </a:solidFill>
                <a:latin typeface="Times New Roman"/>
              </a:rPr>
              <a:t>Картина отравления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ошнота,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рвота, боли в животе, расширение зрачк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5" descr="60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19320" y="2286000"/>
            <a:ext cx="24717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95280" y="10666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61044"/>
                </a:solidFill>
                <a:latin typeface="Times New Roman"/>
              </a:rPr>
              <a:t>Первая помощь при отравления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19320" y="2590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удалить содержимое желудочно-кишечного тракт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600200" y="3962520"/>
            <a:ext cx="6095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инять внутрь адсорбирующие и обволакивающие вещества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838080" y="10666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Правила для профилактики отравлени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14400" y="2438280"/>
            <a:ext cx="746748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 есть незнакомые плоды, семе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 брать в рот травинки, не делать свистулек и дудочек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 находиться в зарослях сильнопахнущих растени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 употреблять бесконтрольно лекарств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з ядовитых раст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447920" y="10666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04920" y="76212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6f60"/>
                </a:solidFill>
                <a:latin typeface="Times New Roman"/>
              </a:rPr>
              <a:t>Ядовитые животные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4" descr="medyanka"/>
          <p:cNvPicPr/>
          <p:nvPr/>
        </p:nvPicPr>
        <p:blipFill>
          <a:blip r:embed="rId1"/>
          <a:stretch/>
        </p:blipFill>
        <p:spPr>
          <a:xfrm>
            <a:off x="685800" y="3733920"/>
            <a:ext cx="3429000" cy="2560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чесночница"/>
          <p:cNvPicPr/>
          <p:nvPr/>
        </p:nvPicPr>
        <p:blipFill>
          <a:blip r:embed="rId2"/>
          <a:stretch/>
        </p:blipFill>
        <p:spPr>
          <a:xfrm>
            <a:off x="5105520" y="44197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аракурт"/>
          <p:cNvPicPr/>
          <p:nvPr/>
        </p:nvPicPr>
        <p:blipFill>
          <a:blip r:embed="rId3"/>
          <a:stretch/>
        </p:blipFill>
        <p:spPr>
          <a:xfrm>
            <a:off x="6095880" y="18288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6967080" y="640080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Гусевой О. 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295280" y="685800"/>
            <a:ext cx="731520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Содержание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1.Классификация ядовитых животны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2.Виды зоотоксин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3.Биологические барьеры организма к распространению токсических вещест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4.Средства борьбы с отравлениями зоотоксинами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5.Знакомство с ядовитыми животным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6.Вывод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7.Контрольные вопрос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981080" y="1066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ЛАССИФИКАЦИЯ ЯДОВИТЫХ ЖИВОТНЫ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133720" y="23623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ядовитые животны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219320" y="3048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ервично-ядовитые           вторично-ядовиты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3428640" y="2819520"/>
            <a:ext cx="160020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62120" y="38098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5410080" y="2819520"/>
            <a:ext cx="221004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952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активно-ядовитые      пассивно-ядовиты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2438280" y="3505320"/>
            <a:ext cx="137160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114800" y="3505320"/>
            <a:ext cx="167652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143000" y="5181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оружённые       невооружённы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2895480" y="4495680"/>
            <a:ext cx="457200" cy="60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4419720" y="4495680"/>
            <a:ext cx="457200" cy="60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676520" y="12952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6f60"/>
                </a:solidFill>
                <a:latin typeface="Times New Roman"/>
              </a:rPr>
              <a:t>ВИДЫ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e6f60"/>
                </a:solidFill>
                <a:latin typeface="Times New Roman"/>
              </a:rPr>
              <a:t>ЗООТОКСИН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676520" y="20574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елковые токсины( змеи, паукообразные, насекомые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оксины небелковой природы(моллюски, амфибии, некоторые рыбы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600200" y="121932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БИОЛОГИЧЕСКИЕ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БАРЬЕР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к распространению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токсических соединен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 flipH="1">
            <a:off x="5653800" y="4038480"/>
            <a:ext cx="120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371600" y="342900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1.Стенки капилляр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2.Клеточные мембран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3.Гематоэнцефалический барье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4.Плацентарный барье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43000" y="144792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1044"/>
                </a:solidFill>
                <a:latin typeface="Times New Roman"/>
              </a:rPr>
              <a:t>Ядовитые растения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60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867280" y="2743200"/>
            <a:ext cx="2197080" cy="328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608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14400" y="3200400"/>
            <a:ext cx="3962520" cy="2751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990720" y="6095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207120" y="640080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ривоногова Г.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43000" y="17524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ce37"/>
                </a:solidFill>
                <a:latin typeface="Times New Roman"/>
              </a:rPr>
              <a:t>ДЕТОКСИКАЦИЯ И ВЫВЕДЕНИ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ce37"/>
                </a:solidFill>
                <a:latin typeface="Times New Roman"/>
              </a:rPr>
              <a:t>ЗООТОКСИНО ИЗ ОРГАНИЗ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43000" y="3581280"/>
            <a:ext cx="7620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1.печен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2.поч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3.кож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4.молоко кормящей матер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8" name="Picture 4" descr="bd06663_"/>
          <p:cNvPicPr/>
          <p:nvPr/>
        </p:nvPicPr>
        <p:blipFill>
          <a:blip r:embed="rId1"/>
          <a:stretch/>
        </p:blipFill>
        <p:spPr>
          <a:xfrm>
            <a:off x="6324480" y="396252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ce37"/>
                </a:solidFill>
                <a:latin typeface="Times New Roman"/>
              </a:rPr>
              <a:t>Средства борьбы с отравлениями</a:t>
            </a:r>
            <a:r>
              <a:rPr b="0" lang="ru-RU" sz="3200" spc="-1" strike="noStrike">
                <a:solidFill>
                  <a:srgbClr val="1ece37"/>
                </a:solidFill>
                <a:latin typeface="Times New Roman"/>
              </a:rPr>
              <a:t> зоотоксинами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. противоядные сыворотки(«Антикобра», «Антигюрза»,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.иммунизация населе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Picture 4" descr="bd06152_"/>
          <p:cNvPicPr/>
          <p:nvPr/>
        </p:nvPicPr>
        <p:blipFill>
          <a:blip r:embed="rId1"/>
          <a:stretch/>
        </p:blipFill>
        <p:spPr>
          <a:xfrm>
            <a:off x="6934320" y="3809880"/>
            <a:ext cx="134604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914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ознакомимся с ядовитыми животным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438280" y="1752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6f60"/>
                </a:solidFill>
                <a:latin typeface="Times New Roman"/>
              </a:rPr>
              <a:t>скорпион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715000" y="37749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8320" y="3276720"/>
            <a:ext cx="3581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оследствия ужаления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л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слабост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нарушение сознан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судорог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8582040" y="5019840"/>
            <a:ext cx="18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7" name="Picture 7" descr="скорпион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 flipH="1" flipV="1">
            <a:off x="1676520" y="1600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1523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ce37"/>
                </a:solidFill>
                <a:latin typeface="Times New Roman"/>
              </a:rPr>
              <a:t>Меры первой помощи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724280" y="2209680"/>
            <a:ext cx="32004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окой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тепло на зону ужалени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ринять анальгетик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обратиться ко врач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1" name="Picture 5" descr="скорпион"/>
          <p:cNvPicPr/>
          <p:nvPr/>
        </p:nvPicPr>
        <p:blipFill>
          <a:blip r:embed="rId1"/>
          <a:stretch/>
        </p:blipFill>
        <p:spPr>
          <a:xfrm>
            <a:off x="685800" y="3200400"/>
            <a:ext cx="327672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752480" y="10666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6f60"/>
                </a:solidFill>
                <a:latin typeface="Times New Roman"/>
              </a:rPr>
              <a:t>каракур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343400" y="1981080"/>
            <a:ext cx="426708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оследствия ужаления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гучая боль по всему тел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резкое напряжение мышц брюшного пресса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дыш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сердцебиени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ремо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затемнение созн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бре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Picture 4" descr="karakurt"/>
          <p:cNvPicPr/>
          <p:nvPr/>
        </p:nvPicPr>
        <p:blipFill>
          <a:blip r:embed="rId1"/>
          <a:stretch/>
        </p:blipFill>
        <p:spPr>
          <a:xfrm>
            <a:off x="533520" y="2424240"/>
            <a:ext cx="37335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905120" y="1600200"/>
            <a:ext cx="6095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ece37"/>
                </a:solidFill>
                <a:latin typeface="Times New Roman"/>
              </a:rPr>
              <a:t>Меры первой</a:t>
            </a:r>
            <a:r>
              <a:rPr b="1" lang="ru-RU" sz="3200" spc="-1" strike="noStrike">
                <a:solidFill>
                  <a:srgbClr val="c3e68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1ece37"/>
                </a:solidFill>
                <a:latin typeface="Times New Roman"/>
              </a:rPr>
              <a:t>помощи</a:t>
            </a:r>
            <a:r>
              <a:rPr b="1" lang="ru-RU" sz="3200" spc="-1" strike="noStrike">
                <a:solidFill>
                  <a:srgbClr val="c3e68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257800" y="3429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ведение противокараруртовой сыворот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7" name="Picture 4" descr="karakurta"/>
          <p:cNvPicPr/>
          <p:nvPr/>
        </p:nvPicPr>
        <p:blipFill>
          <a:blip r:embed="rId1"/>
          <a:stretch/>
        </p:blipFill>
        <p:spPr>
          <a:xfrm>
            <a:off x="1295280" y="3276720"/>
            <a:ext cx="19558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905120" y="1295280"/>
            <a:ext cx="60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6f60"/>
                </a:solidFill>
                <a:latin typeface="Times New Roman"/>
              </a:rPr>
              <a:t>тарантул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724280" y="2590920"/>
            <a:ext cx="441972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оследствия укуса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боль в месте укус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щая тяжесть тел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сонливо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зноб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тливо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Picture 4" descr="tarantul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905120" y="1295280"/>
            <a:ext cx="60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6f60"/>
                </a:solidFill>
                <a:latin typeface="Times New Roman"/>
              </a:rPr>
              <a:t>тарантул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724280" y="2590920"/>
            <a:ext cx="441972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оследствия укуса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боль в месте укус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щая тяжесть тел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сонливо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зноб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тливо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3" name="Picture 4" descr="tarantul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ece37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1ece37"/>
                </a:solidFill>
                <a:latin typeface="Times New Roman"/>
              </a:rPr>
              <a:t>Меры</a:t>
            </a:r>
            <a:r>
              <a:rPr b="0" lang="ru-RU" sz="4000" spc="-1" strike="noStrike">
                <a:solidFill>
                  <a:srgbClr val="1ece37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1ece37"/>
                </a:solidFill>
                <a:latin typeface="Times New Roman"/>
              </a:rPr>
              <a:t>первой помощи: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952880" y="2666880"/>
            <a:ext cx="32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введение лечебной сыворотки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Picture 4" descr="tarantula4"/>
          <p:cNvPicPr/>
          <p:nvPr/>
        </p:nvPicPr>
        <p:blipFill>
          <a:blip r:embed="rId1"/>
          <a:stretch/>
        </p:blipFill>
        <p:spPr>
          <a:xfrm>
            <a:off x="1295280" y="2743200"/>
            <a:ext cx="312444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523880" y="10666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6f60"/>
                </a:solidFill>
                <a:latin typeface="Times New Roman"/>
              </a:rPr>
              <a:t>МЕДОНОСНАЯ ПЧЕЛА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648320" y="3657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952880" y="26668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733920" y="2819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следствия ужаления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38480" y="2895480"/>
            <a:ext cx="54104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бол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те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аллерг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оражение внутренних органов (почек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2" name="Picture 7" descr="пчела на желтом цветке"/>
          <p:cNvPicPr/>
          <p:nvPr/>
        </p:nvPicPr>
        <p:blipFill>
          <a:blip r:embed="rId1"/>
          <a:stretch/>
        </p:blipFill>
        <p:spPr>
          <a:xfrm>
            <a:off x="609480" y="2895480"/>
            <a:ext cx="3353040" cy="280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755640" y="2666880"/>
            <a:ext cx="80978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вырабатывают токсические веществ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379e12"/>
                </a:solidFill>
                <a:latin typeface="Times New Roman"/>
              </a:rPr>
              <a:t>фитотоксины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43000" y="45720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вызывают смерть и поражение организма человек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990720" y="16002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61044"/>
                </a:solidFill>
                <a:latin typeface="Times New Roman"/>
              </a:rPr>
              <a:t>Ядовитые растения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676520" y="11430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ce37"/>
                </a:solidFill>
                <a:latin typeface="Times New Roman"/>
              </a:rPr>
              <a:t>Меры первой помощи</a:t>
            </a:r>
            <a:r>
              <a:rPr b="1" lang="ru-RU" sz="2400" spc="-1" strike="noStrike">
                <a:solidFill>
                  <a:srgbClr val="1ece3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343400" y="1981080"/>
            <a:ext cx="44956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удалить жало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ромыть поражённый участок раствором этилового или нашатырного спирт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ринять антигистаминные препарат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братиться ко врач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Picture 4" descr="группа пчел"/>
          <p:cNvPicPr/>
          <p:nvPr/>
        </p:nvPicPr>
        <p:blipFill>
          <a:blip r:embed="rId1"/>
          <a:stretch/>
        </p:blipFill>
        <p:spPr>
          <a:xfrm>
            <a:off x="304920" y="2743200"/>
            <a:ext cx="373356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057400" y="10666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6f60"/>
                </a:solidFill>
                <a:latin typeface="Times New Roman"/>
              </a:rPr>
              <a:t>скат-хвостокол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971800" y="2133720"/>
            <a:ext cx="59436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следствия ударов «стилета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»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рваные ран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бол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тё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дыш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арушение пульса 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смерть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8" name="Picture 4" descr="скат-1"/>
          <p:cNvPicPr/>
          <p:nvPr/>
        </p:nvPicPr>
        <p:blipFill>
          <a:blip r:embed="rId1"/>
          <a:stretch/>
        </p:blipFill>
        <p:spPr>
          <a:xfrm>
            <a:off x="990720" y="3276720"/>
            <a:ext cx="289872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057400" y="990720"/>
            <a:ext cx="67816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ece37"/>
                </a:solidFill>
                <a:latin typeface="Times New Roman"/>
              </a:rPr>
              <a:t>Меры первой помощи: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0" name="Picture 3" descr="скат-2"/>
          <p:cNvPicPr/>
          <p:nvPr/>
        </p:nvPicPr>
        <p:blipFill>
          <a:blip r:embed="rId1"/>
          <a:stretch/>
        </p:blipFill>
        <p:spPr>
          <a:xfrm>
            <a:off x="914400" y="2819520"/>
            <a:ext cx="3886200" cy="25239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5105520" y="4191120"/>
            <a:ext cx="335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рочно обратиться ко врач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6f60"/>
                </a:solidFill>
                <a:latin typeface="Times New Roman"/>
              </a:rPr>
              <a:t>МАРИНКА обыкновенная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809880" y="2157480"/>
            <a:ext cx="472464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следствия отравления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крой и брюшиной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цианоз лица и слизистых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ошнота, рвота, диаре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аралич ног и диафрагмы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становка дыхани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Picture 5" descr="fr_fish_ris01"/>
          <p:cNvPicPr/>
          <p:nvPr/>
        </p:nvPicPr>
        <p:blipFill>
          <a:blip r:embed="rId1"/>
          <a:stretch/>
        </p:blipFill>
        <p:spPr>
          <a:xfrm>
            <a:off x="1447920" y="2286000"/>
            <a:ext cx="224460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52480" y="1752480"/>
            <a:ext cx="67057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ece37"/>
                </a:solidFill>
                <a:latin typeface="Times New Roman"/>
              </a:rPr>
              <a:t>Меры первой</a:t>
            </a:r>
            <a:r>
              <a:rPr b="1" lang="ru-RU" sz="3600" spc="-1" strike="noStrike">
                <a:solidFill>
                  <a:srgbClr val="1ece37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1ece37"/>
                </a:solidFill>
                <a:latin typeface="Times New Roman"/>
              </a:rPr>
              <a:t>помощи</a:t>
            </a:r>
            <a:r>
              <a:rPr b="1" lang="ru-RU" sz="3600" spc="-1" strike="noStrike">
                <a:solidFill>
                  <a:srgbClr val="1ece37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мывание желудк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ратиться ко врач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7" name="Picture 3" descr="pe02716_"/>
          <p:cNvPicPr/>
          <p:nvPr/>
        </p:nvPicPr>
        <p:blipFill>
          <a:blip r:embed="rId1"/>
          <a:stretch/>
        </p:blipFill>
        <p:spPr>
          <a:xfrm>
            <a:off x="914400" y="4572000"/>
            <a:ext cx="1820880" cy="1717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6f60"/>
                </a:solidFill>
                <a:latin typeface="Times New Roman"/>
              </a:rPr>
              <a:t>обыкновенная и зелёная жабы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114800" y="2133720"/>
            <a:ext cx="502920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следствия попадания яда на слизистые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раздражение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бол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конъюнктивит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керати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0" name="Picture 4" descr="jaba"/>
          <p:cNvPicPr/>
          <p:nvPr/>
        </p:nvPicPr>
        <p:blipFill>
          <a:blip r:embed="rId1"/>
          <a:stretch/>
        </p:blipFill>
        <p:spPr>
          <a:xfrm>
            <a:off x="7086600" y="4114800"/>
            <a:ext cx="2057400" cy="2222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жаба на ветке"/>
          <p:cNvPicPr/>
          <p:nvPr/>
        </p:nvPicPr>
        <p:blipFill>
          <a:blip r:embed="rId2"/>
          <a:stretch/>
        </p:blipFill>
        <p:spPr>
          <a:xfrm>
            <a:off x="609480" y="2362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752480" y="1066680"/>
            <a:ext cx="63248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ce37"/>
                </a:solidFill>
                <a:latin typeface="Times New Roman"/>
              </a:rPr>
              <a:t>Меры первой помощи</a:t>
            </a:r>
            <a:r>
              <a:rPr b="1" lang="ru-RU" sz="3200" spc="-1" strike="noStrike">
                <a:solidFill>
                  <a:srgbClr val="c3e68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ромывание слизистых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рименение антигистаминных препаратов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3" name="Picture 3" descr="жаба зеленая"/>
          <p:cNvPicPr/>
          <p:nvPr/>
        </p:nvPicPr>
        <p:blipFill>
          <a:blip r:embed="rId1"/>
          <a:stretch/>
        </p:blipFill>
        <p:spPr>
          <a:xfrm>
            <a:off x="5715000" y="3581280"/>
            <a:ext cx="320040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6002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6f60"/>
                </a:solidFill>
                <a:latin typeface="Times New Roman"/>
              </a:rPr>
              <a:t>ГАДЮКА ОБЫКНОВЕННА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4267080" y="1523880"/>
            <a:ext cx="51055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оследствия укуса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местная бол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геморрагический отёк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слабост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головокружение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арушение сердечной деятельност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почечная недостаточност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" name="Picture 4" descr="гадюка на камне"/>
          <p:cNvPicPr/>
          <p:nvPr/>
        </p:nvPicPr>
        <p:blipFill>
          <a:blip r:embed="rId1"/>
          <a:stretch/>
        </p:blipFill>
        <p:spPr>
          <a:xfrm>
            <a:off x="685800" y="4419720"/>
            <a:ext cx="30481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адюка на фоне"/>
          <p:cNvPicPr/>
          <p:nvPr/>
        </p:nvPicPr>
        <p:blipFill>
          <a:blip r:embed="rId2"/>
          <a:stretch/>
        </p:blipFill>
        <p:spPr>
          <a:xfrm>
            <a:off x="685800" y="1600200"/>
            <a:ext cx="254016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06668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ce37"/>
                </a:solidFill>
                <a:latin typeface="Times New Roman"/>
              </a:rPr>
              <a:t>Меры первой помощи</a:t>
            </a:r>
            <a:r>
              <a:rPr b="1" lang="ru-RU" sz="3200" spc="-1" strike="noStrike">
                <a:solidFill>
                  <a:srgbClr val="1ece37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495680" y="1211400"/>
            <a:ext cx="4038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тсосать яд,сплёвывая жидкость( при здоровых зубах и полости рта)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граничить движе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обильное питьё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вести противозмеиную сыворотку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как можно скорее обратиться ко врач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0" name="Picture 4" descr="гадюка всесезонная"/>
          <p:cNvPicPr/>
          <p:nvPr/>
        </p:nvPicPr>
        <p:blipFill>
          <a:blip r:embed="rId1"/>
          <a:stretch/>
        </p:blipFill>
        <p:spPr>
          <a:xfrm>
            <a:off x="914400" y="2057400"/>
            <a:ext cx="285768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600200" y="762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6f60"/>
                </a:solidFill>
                <a:latin typeface="Times New Roman"/>
              </a:rPr>
              <a:t>Правила поведения в «змеиных местах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66680" y="228600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5b524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не трогать зме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2. быть внимательным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3. носить высокую обув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4. пользоваться ночью фонарё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5. бороться с грызунам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6. устраивать ночлег в безопасном мест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3" name="Picture 4" descr="Жарарака"/>
          <p:cNvPicPr/>
          <p:nvPr/>
        </p:nvPicPr>
        <p:blipFill>
          <a:blip r:embed="rId1"/>
          <a:stretch/>
        </p:blipFill>
        <p:spPr>
          <a:xfrm>
            <a:off x="5562720" y="2209680"/>
            <a:ext cx="29908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76520" y="17524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4269"/>
                </a:solidFill>
                <a:latin typeface="Times New Roman"/>
              </a:rPr>
              <a:t>Классификация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47920" y="2971800"/>
            <a:ext cx="6172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b524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безусловно ядовитые </a:t>
            </a:r>
            <a:br>
              <a:rPr sz="3600"/>
            </a:br>
            <a:r>
              <a:rPr b="1" i="1" lang="ru-RU" sz="2800" spc="-1" strike="noStrike">
                <a:solidFill>
                  <a:srgbClr val="379e12"/>
                </a:solidFill>
                <a:latin typeface="Times New Roman"/>
              </a:rPr>
              <a:t>(с подгруппой особо ядовитые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47920" y="4495680"/>
            <a:ext cx="7010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b524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условно ядовитые</a:t>
            </a:r>
            <a:br>
              <a:rPr sz="3600"/>
            </a:br>
            <a:r>
              <a:rPr b="1" i="1" lang="ru-RU" sz="2800" spc="-1" strike="noStrike">
                <a:solidFill>
                  <a:srgbClr val="379e12"/>
                </a:solidFill>
                <a:latin typeface="Times New Roman"/>
              </a:rPr>
              <a:t>(в определенных местах обитаниях, при неправильном хранении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371600" y="9144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6f60"/>
                </a:solidFill>
                <a:latin typeface="Times New Roman"/>
              </a:rPr>
              <a:t>короткохвостая бурозубк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876920" y="2819520"/>
            <a:ext cx="3657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Единственное ядовито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млекопитающее. Яд нервно-паралитического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ействия убивает жертв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6" name="Picture 4" descr="землеройка"/>
          <p:cNvPicPr/>
          <p:nvPr/>
        </p:nvPicPr>
        <p:blipFill>
          <a:blip r:embed="rId1"/>
          <a:stretch/>
        </p:blipFill>
        <p:spPr>
          <a:xfrm>
            <a:off x="685800" y="1981080"/>
            <a:ext cx="4114800" cy="294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295280" y="669960"/>
            <a:ext cx="739152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Ядовитые животные-опасны для человека ,но нуждаются в защите и охран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ПОЧЕМУ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1.Вид занимает экологическую ниш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2.Появляются новые экологические ниш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3d7a"/>
                </a:solidFill>
                <a:latin typeface="Times New Roman"/>
              </a:rPr>
              <a:t>3.Обеспечивается бесконечность эволюц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752480" y="1752480"/>
            <a:ext cx="67057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ece37"/>
                </a:solidFill>
                <a:latin typeface="Times New Roman"/>
              </a:rPr>
              <a:t>Меры первой</a:t>
            </a:r>
            <a:r>
              <a:rPr b="1" lang="ru-RU" sz="3600" spc="-1" strike="noStrike">
                <a:solidFill>
                  <a:srgbClr val="1ece37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1ece37"/>
                </a:solidFill>
                <a:latin typeface="Times New Roman"/>
              </a:rPr>
              <a:t>помощи</a:t>
            </a:r>
            <a:r>
              <a:rPr b="1" lang="ru-RU" sz="3600" spc="-1" strike="noStrike">
                <a:solidFill>
                  <a:srgbClr val="1ece37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мывание желудк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ратиться ко врач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9" name="Picture 3" descr="pe02716_"/>
          <p:cNvPicPr/>
          <p:nvPr/>
        </p:nvPicPr>
        <p:blipFill>
          <a:blip r:embed="rId1"/>
          <a:stretch/>
        </p:blipFill>
        <p:spPr>
          <a:xfrm>
            <a:off x="914400" y="4572000"/>
            <a:ext cx="1820880" cy="1717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914400" y="914400"/>
            <a:ext cx="77724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Контрольные вопросы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1.Что такое ядовитость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.Какие существуют средства борьбы с отравлениям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зоотоксинами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3.Каких ядовитых животных Вы знаете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4.Какие существуют правила поведения в « змеины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местах»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5.Каковы меры первой помощи при укусе ядовито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змеи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6.Почему ядовитые животные нуждаются в охране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3880" y="685800"/>
            <a:ext cx="6858000" cy="74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ru-RU" sz="3600" spc="-1" strike="noStrike">
                <a:solidFill>
                  <a:srgbClr val="5b5249"/>
                </a:solidFill>
                <a:latin typeface="Times New Roman"/>
              </a:rPr>
              <a:t>писок литературы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1.Орлов Б. Н. и др. Ядовитые животные и растения СССР: Справочное пособие для студентов вузов по спец. «Биология» (Б.Н. Орлов, Д.Б. Гелашвили, А.К. Ибрагимов. – М. : Высш. ШК., 1990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2.О ядовитых  змеях. Газета «Биология» №48, 1996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3.Ядовитые земноводные. Газета «Биология» №2, 1998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4.Ядовитые насекомые. Газета «Биология»  №34, 1998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5.Ядовитые рыбы. Газета «Биология» №43, 1997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Ядовитые гриб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43" name="Picture 4" descr="рис"/>
          <p:cNvPicPr/>
          <p:nvPr/>
        </p:nvPicPr>
        <p:blipFill>
          <a:blip r:embed="rId1"/>
          <a:stretch/>
        </p:blipFill>
        <p:spPr>
          <a:xfrm>
            <a:off x="684360" y="2133720"/>
            <a:ext cx="5499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Ложный дождевик обыкновенный"/>
          <p:cNvPicPr/>
          <p:nvPr/>
        </p:nvPicPr>
        <p:blipFill>
          <a:blip r:embed="rId1"/>
          <a:stretch/>
        </p:blipFill>
        <p:spPr>
          <a:xfrm>
            <a:off x="971640" y="2060640"/>
            <a:ext cx="3620880" cy="39686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5040" y="6165720"/>
            <a:ext cx="46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ожный дождевик обыкновенн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6" name="Picture 12" descr="Ядовитые грибы"/>
          <p:cNvPicPr/>
          <p:nvPr/>
        </p:nvPicPr>
        <p:blipFill>
          <a:blip r:embed="rId2"/>
          <a:stretch/>
        </p:blipFill>
        <p:spPr>
          <a:xfrm>
            <a:off x="4616280" y="0"/>
            <a:ext cx="45277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Мухомор вонючий"/>
          <p:cNvPicPr/>
          <p:nvPr/>
        </p:nvPicPr>
        <p:blipFill>
          <a:blip r:embed="rId1"/>
          <a:stretch/>
        </p:blipFill>
        <p:spPr>
          <a:xfrm>
            <a:off x="426960" y="1341360"/>
            <a:ext cx="4337280" cy="4802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Мухомор красный"/>
          <p:cNvPicPr/>
          <p:nvPr/>
        </p:nvPicPr>
        <p:blipFill>
          <a:blip r:embed="rId2"/>
          <a:stretch/>
        </p:blipFill>
        <p:spPr>
          <a:xfrm>
            <a:off x="4788000" y="1341360"/>
            <a:ext cx="4290840" cy="480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777280" y="61135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ухомор красн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603080" y="60418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ухомор вонюч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Мухомор серорозовый"/>
          <p:cNvPicPr/>
          <p:nvPr/>
        </p:nvPicPr>
        <p:blipFill>
          <a:blip r:embed="rId1"/>
          <a:stretch/>
        </p:blipFill>
        <p:spPr>
          <a:xfrm>
            <a:off x="500040" y="1484280"/>
            <a:ext cx="4245120" cy="4594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Мухомор толстый"/>
          <p:cNvPicPr/>
          <p:nvPr/>
        </p:nvPicPr>
        <p:blipFill>
          <a:blip r:embed="rId2"/>
          <a:stretch/>
        </p:blipFill>
        <p:spPr>
          <a:xfrm>
            <a:off x="4788000" y="1484280"/>
            <a:ext cx="4089240" cy="4594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0"/>
          <p:cNvSpPr/>
          <p:nvPr/>
        </p:nvSpPr>
        <p:spPr>
          <a:xfrm>
            <a:off x="5582520" y="602136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ухомор толст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1242360" y="59691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ухомор серорозов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Опенок ложный серо-желтый"/>
          <p:cNvPicPr/>
          <p:nvPr/>
        </p:nvPicPr>
        <p:blipFill>
          <a:blip r:embed="rId1"/>
          <a:stretch/>
        </p:blipFill>
        <p:spPr>
          <a:xfrm>
            <a:off x="2411280" y="765000"/>
            <a:ext cx="4881600" cy="54784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2919600" y="60930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пенок ложный серо-желты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4300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3c69"/>
                </a:solidFill>
                <a:latin typeface="Times New Roman"/>
              </a:rPr>
              <a:t>Пути отравления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21932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43000" y="22096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ием внутр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79e12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379e12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9e12"/>
                </a:solidFill>
                <a:latin typeface="Times New Roman"/>
              </a:rPr>
              <a:t>с пищей</a:t>
            </a:r>
            <a:r>
              <a:rPr b="0" lang="ru-RU" sz="3200" spc="-1" strike="noStrike">
                <a:solidFill>
                  <a:srgbClr val="379e12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43000" y="281952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контактные  </a:t>
            </a:r>
            <a:r>
              <a:rPr b="1" i="1" lang="ru-RU" sz="3200" spc="-1" strike="noStrike">
                <a:solidFill>
                  <a:srgbClr val="379e12"/>
                </a:solidFill>
                <a:latin typeface="Times New Roman"/>
              </a:rPr>
              <a:t>(повреждение кожи, слизистые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219320" y="51814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лекарственные</a:t>
            </a: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79e12"/>
                </a:solidFill>
                <a:latin typeface="Times New Roman"/>
              </a:rPr>
              <a:t>(передозировка растениями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219320" y="4114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дистанционные  </a:t>
            </a:r>
            <a:r>
              <a:rPr b="1" i="1" lang="ru-RU" sz="3600" spc="-1" strike="noStrike">
                <a:solidFill>
                  <a:srgbClr val="379e12"/>
                </a:solidFill>
                <a:latin typeface="Times New Roman"/>
              </a:rPr>
              <a:t>(вдыхание ядовитых выделений</a:t>
            </a:r>
            <a:r>
              <a:rPr b="0" lang="ru-RU" sz="3600" spc="-1" strike="noStrike">
                <a:solidFill>
                  <a:srgbClr val="379e12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58" name="Picture 4" descr="Поганка бледная"/>
          <p:cNvPicPr/>
          <p:nvPr/>
        </p:nvPicPr>
        <p:blipFill>
          <a:blip r:embed="rId1"/>
          <a:stretch/>
        </p:blipFill>
        <p:spPr>
          <a:xfrm>
            <a:off x="1179360" y="2211480"/>
            <a:ext cx="3584880" cy="3895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Сыроежка жгуче-едкая"/>
          <p:cNvPicPr/>
          <p:nvPr/>
        </p:nvPicPr>
        <p:blipFill>
          <a:blip r:embed="rId2"/>
          <a:stretch/>
        </p:blipFill>
        <p:spPr>
          <a:xfrm>
            <a:off x="5159520" y="2174760"/>
            <a:ext cx="3547800" cy="3969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5293440" y="60213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ыроежка жгуче-едк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549080" y="609300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ганка блед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14600" y="30481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b0f40"/>
                </a:solidFill>
                <a:latin typeface="Times New Roman"/>
              </a:rPr>
              <a:t>Будьте с ними осторожны!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11" descr="60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55640" y="1052640"/>
            <a:ext cx="1521000" cy="213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600"/>
          <p:cNvPicPr/>
          <p:nvPr/>
        </p:nvPicPr>
        <p:blipFill>
          <a:blip r:embed="rId2"/>
          <a:stretch/>
        </p:blipFill>
        <p:spPr>
          <a:xfrm>
            <a:off x="2819520" y="1066680"/>
            <a:ext cx="1355760" cy="184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606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990720"/>
            <a:ext cx="1280880" cy="191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607"/>
          <p:cNvPicPr/>
          <p:nvPr/>
        </p:nvPicPr>
        <p:blipFill>
          <a:blip r:embed="rId4"/>
          <a:stretch/>
        </p:blipFill>
        <p:spPr>
          <a:xfrm>
            <a:off x="6934320" y="990720"/>
            <a:ext cx="1382760" cy="206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604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934320" y="3962520"/>
            <a:ext cx="1671480" cy="2295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605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838080" y="4114800"/>
            <a:ext cx="1516320" cy="229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608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3581280" y="4724280"/>
            <a:ext cx="2667240" cy="1852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981080" y="10666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b0f40"/>
                </a:solidFill>
                <a:latin typeface="Times New Roman"/>
              </a:rPr>
              <a:t>Белена че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181480" y="22096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Ядовито все растение и семен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05520" y="3505320"/>
            <a:ext cx="342900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9e12"/>
                </a:solidFill>
                <a:latin typeface="Times New Roman"/>
              </a:rPr>
              <a:t>Картина отравления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вигательное и речевое возбуждение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ердцебиение, жар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7" descr="60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38080" y="2057400"/>
            <a:ext cx="304164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905120" y="114300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Дурман обыкновенны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648320" y="2895480"/>
            <a:ext cx="426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2362320"/>
            <a:ext cx="36576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Ядовито все растение и семе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9e12"/>
                </a:solidFill>
                <a:latin typeface="Times New Roman"/>
              </a:rPr>
              <a:t>Картина отравления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ухост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о рту, расширени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зрачков, жар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6" descr="60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19320" y="1981080"/>
            <a:ext cx="285912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905120" y="1143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61044"/>
                </a:solidFill>
                <a:latin typeface="Times New Roman"/>
              </a:rPr>
              <a:t>Волчье лык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952880" y="2057400"/>
            <a:ext cx="3886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Ядовито все растение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9e12"/>
                </a:solidFill>
                <a:latin typeface="Times New Roman"/>
              </a:rPr>
              <a:t>Картина отравления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жжение во рту, слюнотечение, рвота, судорог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60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19320" y="1981080"/>
            <a:ext cx="3035160" cy="413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5:52:07Z</dcterms:created>
  <dc:creator>Admin</dc:creator>
  <dc:description/>
  <dc:language>en-US</dc:language>
  <cp:lastModifiedBy>Школа</cp:lastModifiedBy>
  <dcterms:modified xsi:type="dcterms:W3CDTF">2019-12-09T14:35:42Z</dcterms:modified>
  <cp:revision>60</cp:revision>
  <dc:subject/>
  <dc:title>Презентация PowerPoint</dc:title>
</cp:coreProperties>
</file>