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5.jpeg" ContentType="image/jpeg"/>
  <Override PartName="/ppt/media/image3.gif" ContentType="image/gif"/>
  <Override PartName="/ppt/media/image31.png" ContentType="image/png"/>
  <Override PartName="/ppt/media/image6.png" ContentType="image/png"/>
  <Override PartName="/ppt/media/image11.gif" ContentType="image/gif"/>
  <Override PartName="/ppt/media/image5.jpeg" ContentType="image/jpeg"/>
  <Override PartName="/ppt/media/image26.jpeg" ContentType="image/jpeg"/>
  <Override PartName="/ppt/media/image32.jpeg" ContentType="image/jpeg"/>
  <Override PartName="/ppt/media/image4.gif" ContentType="image/gif"/>
  <Override PartName="/ppt/media/image7.gif" ContentType="image/gif"/>
  <Override PartName="/ppt/media/image29.jpeg" ContentType="image/jpeg"/>
  <Override PartName="/ppt/media/image8.jpeg" ContentType="image/jpeg"/>
  <Override PartName="/ppt/media/image30.png" ContentType="image/png"/>
  <Override PartName="/ppt/media/image24.jpeg" ContentType="image/jpeg"/>
  <Override PartName="/ppt/media/image13.jpeg" ContentType="image/jpeg"/>
  <Override PartName="/ppt/media/image10.png" ContentType="image/png"/>
  <Override PartName="/ppt/media/image27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2.gif" ContentType="image/gif"/>
  <Override PartName="/ppt/media/image17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21.png" ContentType="image/png"/>
  <Override PartName="/ppt/media/image18.jpeg" ContentType="image/jpeg"/>
  <Override PartName="/ppt/media/image2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2A6-B837-40C7-931E-82A8E676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E38-A38A-4913-B8CA-2475E54C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2F92-1303-4532-914A-BB184329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F7A-E996-466C-8FED-49130B89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BC25-2463-4ED5-932F-411F2F0E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2502-BE50-444F-856E-A942ACED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5E69-83D5-4D26-964D-E5352B17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4323-FD7E-4930-A0EB-F6552E26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F07E-1A5E-4293-8F50-A4570057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BFAC-F39B-4F43-8C15-BB6B7096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1F99-B76D-4E61-A22B-9B509CAE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69F3-EEDF-4006-A81F-1264246A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A148-EF8C-422E-997B-54DDF39E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ADCA-1D3E-4530-8565-C0D50E6E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8DD8-5AD2-4781-8306-7B19171C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6A6F-5766-426E-80AA-F3636071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6A31-09D5-472F-9321-1AF19562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8E1BC-4C96-4218-A2F5-50696830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F1FB5-929A-4E2D-8509-26A4DFD5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5205D-AC5A-480C-A36F-1A895FF2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45684-C431-44F3-BE0C-B4A06996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F3E14-57A6-4607-A060-79C53A59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1FE-F119-4932-BB05-555AD91C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D0A59-24EC-45D7-8358-83F277D8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86CDC-83B7-47AF-B313-6AC4B5EB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C21EB-641F-4EDC-9DAD-F8DB6746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2AA77-21D8-420B-8DA9-9E1670D0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4E099-0956-4273-B393-63008194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AEBFB-1E06-4344-96C6-41F4C548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11841-5DD7-430E-95D2-2A9CF542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D3446-F824-48D9-9222-C3B1B4F2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6E61E-5EDA-4D0A-A238-161699EB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CB44B-1C97-4033-A95F-BB617CAF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EAB-C8B2-4624-BD05-F78F31D6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345FF-7257-4F26-9EB2-C168D5CE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D8A88-378D-45B2-9599-C4DFD129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44F67-C545-4CA4-86F9-4FD1EC18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FC15D-2258-45C9-A871-B8D7DBC1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E4D62-33D0-47E1-B9D0-74EC910F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0F349-A289-4D03-BF65-09029FDC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2F4CF-E232-4795-A382-A0F7D904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90749-A4FA-4DB8-85C3-E80A50B1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629BC-9392-4D6F-B697-E99F29FB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C14B6-D385-4EC1-8930-50D8DC8B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0E7-5E55-492F-8B7E-F1A89F1E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E0826-FD4F-4B57-A2B8-00892F94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C9C48-4522-4C0F-93A9-ABF30B7B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D5860-CC60-4257-81E3-23AAFC26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38835-CDDD-4CC2-A702-944D9EC7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B81B9-379C-4BE3-94CF-C23C085B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7C235-E57D-4E3C-8B5E-D4C4EFE5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9F8C3-E395-481E-A731-84F7EC58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3E60D-14E5-4669-A2E8-73F46766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C673A-76D2-4876-A0C8-0BCD7884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C02B4-26C2-4A99-BE08-FEE6356D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31B-6FC2-47ED-9366-4D651E6B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D9C17-457A-4962-96E7-61A4A432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BD2FA-3697-4273-A989-CBA08E9C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4C878-3CCD-4E83-9410-20EA913C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8E9FC-2F4E-4852-A893-C7BA39E2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EEF5A-336D-41D5-99BE-7C2459EA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84E86-ADE8-474E-AC14-5543A063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B0F06-0ABA-4B51-9C2F-735486C3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20A77-109F-43DC-8B22-C7FC0BFC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A39EC-52EA-45D1-BF36-331942F8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B3AB4-00C2-4251-B01B-28A05E0F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1F0-112D-4357-8338-86DF650F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A42B5-21AD-4B86-9015-ADF77D7C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E2B6B-2277-4095-AEE6-CE7FC101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5607F-6408-4B36-85CD-ED01F4FA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69D0E-37CA-4C0A-9F1C-9EA3E025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39D5B-42DB-4C5F-8FFC-8E406AEF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7ED5A-0184-4ED3-8E2D-DCF756DC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5C88B-3D85-437A-8E27-A820D189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873EC-469A-45AB-96F0-F486BA85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590A8-C79A-47A5-A891-A160C54A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CD70C-A867-4AEB-BB10-BB5E89A8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3359-A46F-4B41-81AF-173BF013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E6749-71B7-4779-85B9-7BA9CD38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3507A-935F-4FF0-A83E-D21419C2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ACBCF-2D0C-4219-ABAB-C29259AB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A1F4F-3CA3-4AFB-8BF8-014AE628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4C10E-89EE-49D9-9291-EA6B7CEC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57A-015A-4696-8F7D-9F5ED614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AC8A-8F94-4D0A-8B34-378BC9CC20E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1810-82DD-482F-8621-1D28FDE3BE9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EE1A-335B-4925-8003-4C23F35CA81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F618-AF9F-47BE-B632-CC76C0ED923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55f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2650-2731-4D21-8393-C1B8E3538B05}" type="slidenum">
              <a:rPr b="0" lang="ru-RU" sz="1000" spc="-1" strike="noStrike">
                <a:solidFill>
                  <a:srgbClr val="455f5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683B-DCD1-499F-8B75-D2AD05C4162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CC32-13A9-4B34-B479-59341B9CFF8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copypast.ru/foto7/2276/fakty_fakty_fakty_15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ebaltsevo.com/_nw/5/15587244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herpes.ru/hudo/sp/slava1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40080" y="1150560"/>
            <a:ext cx="6875280" cy="1730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2dfcc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a7c29"/>
                </a:solidFill>
                <a:latin typeface="Calibri Light"/>
              </a:rPr>
              <a:t>Правила здорового питания школьников</a:t>
            </a: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05" name="Picture 4" descr="j0223780"/>
          <p:cNvPicPr/>
          <p:nvPr/>
        </p:nvPicPr>
        <p:blipFill>
          <a:blip r:embed="rId1"/>
          <a:stretch/>
        </p:blipFill>
        <p:spPr>
          <a:xfrm>
            <a:off x="4211640" y="4398840"/>
            <a:ext cx="2592360" cy="19735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j0223774"/>
          <p:cNvPicPr/>
          <p:nvPr/>
        </p:nvPicPr>
        <p:blipFill>
          <a:blip r:embed="rId2"/>
          <a:stretch/>
        </p:blipFill>
        <p:spPr>
          <a:xfrm>
            <a:off x="68400" y="39600"/>
            <a:ext cx="2425680" cy="1771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j0223773"/>
          <p:cNvPicPr/>
          <p:nvPr/>
        </p:nvPicPr>
        <p:blipFill>
          <a:blip r:embed="rId3"/>
          <a:stretch/>
        </p:blipFill>
        <p:spPr>
          <a:xfrm>
            <a:off x="395280" y="4425840"/>
            <a:ext cx="2424240" cy="1822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j0223786"/>
          <p:cNvPicPr/>
          <p:nvPr/>
        </p:nvPicPr>
        <p:blipFill>
          <a:blip r:embed="rId4"/>
          <a:stretch/>
        </p:blipFill>
        <p:spPr>
          <a:xfrm>
            <a:off x="0" y="2276640"/>
            <a:ext cx="2181240" cy="18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765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e2dfcc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a7c29"/>
                </a:solidFill>
                <a:latin typeface="Calibri Light"/>
              </a:rPr>
              <a:t>Необходимость горячего питания в школе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842920" y="1267920"/>
            <a:ext cx="615636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       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Установлено, что во время пребывания в школе суточные энергозатраты школьников младших классов в среднем составляют 2095-2510Дж (500-600ккал), среднего и старшего школьного возраста 2510-2929 Дж (600-700 ккал), что ровно примерно 1\4 суточной потребности в энергии и основных пищевых веществах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Эти энерготраты необходимо восполнять горячими школьными завтраками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7" name="Picture 5" descr="j0289116"/>
          <p:cNvPicPr/>
          <p:nvPr/>
        </p:nvPicPr>
        <p:blipFill>
          <a:blip r:embed="rId1"/>
          <a:stretch/>
        </p:blipFill>
        <p:spPr>
          <a:xfrm>
            <a:off x="169920" y="1635120"/>
            <a:ext cx="1981080" cy="30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836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e2dfcc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a7c29"/>
                </a:solidFill>
                <a:latin typeface="Calibri Light"/>
              </a:rPr>
              <a:t>Рекомендации школьникам</a:t>
            </a: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340000" y="620280"/>
            <a:ext cx="680400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В питании всё должно быть в меру;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Пища должна быть разнообразной;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Еда должна быть тёплой;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Тщательно пережёвывать пищу;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Есть овощи и фрукты;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Есть 3—4 раза в день;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Не есть перед сном;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Не есть копчёного, жареного и острого;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Не есть всухомятку;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Меньше есть сладостей;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Не перекусывать чипсами и сухариками;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Обязательно брать в школе горячий обед</a:t>
            </a:r>
            <a:r>
              <a:rPr b="1" lang="ru-RU" sz="1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0" name="Picture 4" descr="j0289312"/>
          <p:cNvPicPr/>
          <p:nvPr/>
        </p:nvPicPr>
        <p:blipFill>
          <a:blip r:embed="rId1"/>
          <a:stretch/>
        </p:blipFill>
        <p:spPr>
          <a:xfrm>
            <a:off x="-3240" y="1268280"/>
            <a:ext cx="2049480" cy="30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0" y="-360"/>
            <a:ext cx="8834400" cy="6111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25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ФАСТ – ФУД  «МУСОРНАЯ ЕДА»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2386080" y="1155600"/>
            <a:ext cx="66024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ыстрая пища высококалорийна, содержит много жиров и мало витаминов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 быстрой еде нашли широкое применение трансжиры – ненатуральные изомеры жирных кислот. Их употребление грозит  неминуемым ожирением, поскольку они увеличивают вес больше, чем любая другая пища с тем же количеством калорий. Не случайно ученые называют их «жиры-убийцы»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0" descr="4"/>
          <p:cNvPicPr/>
          <p:nvPr/>
        </p:nvPicPr>
        <p:blipFill>
          <a:blip r:embed="rId1"/>
          <a:stretch/>
        </p:blipFill>
        <p:spPr>
          <a:xfrm>
            <a:off x="179280" y="1754280"/>
            <a:ext cx="2232000" cy="31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55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560" y="2246040"/>
            <a:ext cx="82278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74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2000" spc="-1" strike="noStrike" u="sng">
                <a:solidFill>
                  <a:srgbClr val="404040"/>
                </a:solidFill>
                <a:uFillTx/>
                <a:latin typeface="Wingdings 2"/>
                <a:ea typeface="Wingdings 2"/>
              </a:rPr>
              <a:t></a:t>
            </a:r>
            <a:r>
              <a:rPr b="1" lang="ru-RU" sz="2000" spc="-1" strike="noStrike" u="sng">
                <a:solidFill>
                  <a:srgbClr val="404040"/>
                </a:solidFill>
                <a:uFillTx/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404040"/>
                </a:solidFill>
                <a:uFillTx/>
                <a:latin typeface="Calibri"/>
              </a:rPr>
              <a:t>Доказано, что эти вещества оказывают токсичное действие на нервную систему животных и человека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В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картофеле фри и чипсах</a:t>
            </a: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 ученые обнаружили целый ряд вредных веществ, в том числе вещества, которые используются при производстве различных пластмасс и крас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2" descr="у"/>
          <p:cNvPicPr/>
          <p:nvPr/>
        </p:nvPicPr>
        <p:blipFill>
          <a:blip r:embed="rId1"/>
          <a:stretch/>
        </p:blipFill>
        <p:spPr>
          <a:xfrm>
            <a:off x="25560" y="3716280"/>
            <a:ext cx="4363920" cy="3135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" descr="Картинка 149 из 35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48000" y="3716280"/>
            <a:ext cx="489600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Картинка 83 из 537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27360" y="-360"/>
            <a:ext cx="91710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 Light"/>
              </a:rPr>
              <a:t>      </a:t>
            </a:r>
            <a:r>
              <a:rPr b="1" lang="ru-RU" sz="4000" spc="-1" strike="noStrike">
                <a:solidFill>
                  <a:srgbClr val="739a28"/>
                </a:solidFill>
                <a:latin typeface="Calibri Light"/>
              </a:rPr>
              <a:t>И пусть еда всегда приносит вам</a:t>
            </a:r>
            <a:br>
              <a:rPr sz="4000"/>
            </a:br>
            <a:r>
              <a:rPr b="1" lang="ru-RU" sz="4000" spc="-1" strike="noStrike">
                <a:solidFill>
                  <a:srgbClr val="739a28"/>
                </a:solidFill>
                <a:latin typeface="Calibri Light"/>
              </a:rPr>
              <a:t>                                     удовольствие  и пользу .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61" name="Picture 5" descr="Картинка 138 из 537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70120" y="1197000"/>
            <a:ext cx="7377120" cy="52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3" descr=""/>
          <p:cNvPicPr/>
          <p:nvPr/>
        </p:nvPicPr>
        <p:blipFill>
          <a:blip r:embed="rId1"/>
          <a:stretch/>
        </p:blipFill>
        <p:spPr>
          <a:xfrm>
            <a:off x="-79200" y="-133200"/>
            <a:ext cx="9047160" cy="4187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j0289476"/>
          <p:cNvPicPr/>
          <p:nvPr/>
        </p:nvPicPr>
        <p:blipFill>
          <a:blip r:embed="rId2"/>
          <a:stretch/>
        </p:blipFill>
        <p:spPr>
          <a:xfrm>
            <a:off x="1962000" y="3068640"/>
            <a:ext cx="504036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3640" y="70920"/>
            <a:ext cx="8515080" cy="119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4a7c29"/>
                </a:solidFill>
                <a:uFillTx/>
                <a:latin typeface="Calibri Light"/>
              </a:rPr>
              <a:t>«Мы едим ,чтобы жить , </a:t>
            </a:r>
            <a:br>
              <a:rPr sz="4000"/>
            </a:br>
            <a:r>
              <a:rPr b="1" i="1" lang="ru-RU" sz="4000" spc="-1" strike="noStrike">
                <a:solidFill>
                  <a:srgbClr val="4a7c29"/>
                </a:solidFill>
                <a:latin typeface="Calibri Light"/>
              </a:rPr>
              <a:t>                   </a:t>
            </a:r>
            <a:r>
              <a:rPr b="1" i="1" lang="ru-RU" sz="4000" spc="-1" strike="noStrike" u="sng">
                <a:solidFill>
                  <a:srgbClr val="4a7c29"/>
                </a:solidFill>
                <a:uFillTx/>
                <a:latin typeface="Calibri Light"/>
              </a:rPr>
              <a:t>а не живём , чтобы есть »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0" name="Picture 9" descr="MPj04330170000[1]"/>
          <p:cNvPicPr/>
          <p:nvPr/>
        </p:nvPicPr>
        <p:blipFill>
          <a:blip r:embed="rId1"/>
          <a:stretch/>
        </p:blipFill>
        <p:spPr>
          <a:xfrm>
            <a:off x="5116680" y="4405320"/>
            <a:ext cx="2939760" cy="19620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1"/>
          <p:cNvSpPr/>
          <p:nvPr/>
        </p:nvSpPr>
        <p:spPr>
          <a:xfrm>
            <a:off x="-60480" y="1654200"/>
            <a:ext cx="48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Bookman Old Style"/>
              </a:rPr>
              <a:t>Каждый человек в состоянии самостоятельно заботиться о собственном здоров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6"/>
          <p:cNvSpPr/>
          <p:nvPr/>
        </p:nvSpPr>
        <p:spPr>
          <a:xfrm>
            <a:off x="4211640" y="1755720"/>
            <a:ext cx="475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Bookman Old Style"/>
              </a:rPr>
              <a:t>Движение к этой цели должно быть постепенным - шаг за шагом. Каждый шаг продлевает активные годы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8" descr="344530c2a76c"/>
          <p:cNvPicPr/>
          <p:nvPr/>
        </p:nvPicPr>
        <p:blipFill>
          <a:blip r:embed="rId2"/>
          <a:stretch/>
        </p:blipFill>
        <p:spPr>
          <a:xfrm>
            <a:off x="684360" y="4070520"/>
            <a:ext cx="2879640" cy="22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31560" y="15840"/>
            <a:ext cx="8591400" cy="1440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e2dfcc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a7c29"/>
                </a:solidFill>
                <a:latin typeface="Calibri Light"/>
              </a:rPr>
              <a:t>Здоровое питание школьника – </a:t>
            </a:r>
            <a:br>
              <a:rPr sz="4000"/>
            </a:br>
            <a:r>
              <a:rPr b="1" i="1" lang="ru-RU" sz="4000" spc="-1" strike="noStrike">
                <a:solidFill>
                  <a:srgbClr val="4a7c29"/>
                </a:solidFill>
                <a:latin typeface="Calibri Light"/>
              </a:rPr>
              <a:t>                    залог успеха в  учебном году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2410920" y="2060640"/>
            <a:ext cx="6357960" cy="380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Правильное питание - это основа здоровья человека. Как правило, пищевая ценность различных блюд во многом зависит от того, как они приготовлены 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6" name="Picture 4" descr="j0223776"/>
          <p:cNvPicPr/>
          <p:nvPr/>
        </p:nvPicPr>
        <p:blipFill>
          <a:blip r:embed="rId1"/>
          <a:stretch/>
        </p:blipFill>
        <p:spPr>
          <a:xfrm>
            <a:off x="12600" y="1916280"/>
            <a:ext cx="2076480" cy="1512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007"/>
          <p:cNvPicPr/>
          <p:nvPr/>
        </p:nvPicPr>
        <p:blipFill>
          <a:blip r:embed="rId2"/>
          <a:stretch/>
        </p:blipFill>
        <p:spPr>
          <a:xfrm>
            <a:off x="104760" y="3838680"/>
            <a:ext cx="2090880" cy="24890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j0254479"/>
          <p:cNvPicPr/>
          <p:nvPr/>
        </p:nvPicPr>
        <p:blipFill>
          <a:blip r:embed="rId3"/>
          <a:stretch/>
        </p:blipFill>
        <p:spPr>
          <a:xfrm>
            <a:off x="4140360" y="4822920"/>
            <a:ext cx="280800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5905440" cy="620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e2dfcc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a7c29"/>
                </a:solidFill>
                <a:latin typeface="Calibri Light"/>
              </a:rPr>
              <a:t>Правильное питание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815840" y="609480"/>
            <a:ext cx="7327800" cy="6818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ища – единственный источник, с которым учащийся  получает необходимый пластический материал и энергию. Нормальная деятельность головного мозга и организма зависит в основном от качества употребляемой пищи. 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одителям полезно знать о том, что «трудный» характер ребенка часто является результатом нерационального питания, что правильное питание улучшает умственные способности, развивает память у детей и таким образом облегчает для него процесс обучения. 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1" name="Picture 5" descr="14"/>
          <p:cNvPicPr/>
          <p:nvPr/>
        </p:nvPicPr>
        <p:blipFill>
          <a:blip r:embed="rId1"/>
          <a:stretch/>
        </p:blipFill>
        <p:spPr>
          <a:xfrm>
            <a:off x="20520" y="103320"/>
            <a:ext cx="1790640" cy="1552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j0223783"/>
          <p:cNvPicPr/>
          <p:nvPr/>
        </p:nvPicPr>
        <p:blipFill>
          <a:blip r:embed="rId2"/>
          <a:stretch/>
        </p:blipFill>
        <p:spPr>
          <a:xfrm>
            <a:off x="15840" y="2781360"/>
            <a:ext cx="1900440" cy="1368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j0213504"/>
          <p:cNvPicPr/>
          <p:nvPr/>
        </p:nvPicPr>
        <p:blipFill>
          <a:blip r:embed="rId3"/>
          <a:stretch/>
        </p:blipFill>
        <p:spPr>
          <a:xfrm>
            <a:off x="15840" y="4508640"/>
            <a:ext cx="1496880" cy="14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03280" y="-360"/>
            <a:ext cx="5411880" cy="576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e2dfcc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4a7c29"/>
                </a:solidFill>
                <a:latin typeface="Calibri Light"/>
              </a:rPr>
              <a:t>Рацион   питания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2268000" y="981000"/>
            <a:ext cx="687564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Питание обеспечивает нормальную деятельность растущего организма  школьника, тем самым, поддерживая его рост, развитие и работоспособность.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Для этого необходимо сбалансировать рацион в зависимости от индивидуальных потребностей  учащегося, которые должны соответствовать его возрасту и  полу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6" name="Picture 5" descr="7"/>
          <p:cNvPicPr/>
          <p:nvPr/>
        </p:nvPicPr>
        <p:blipFill>
          <a:blip r:embed="rId1"/>
          <a:stretch/>
        </p:blipFill>
        <p:spPr>
          <a:xfrm>
            <a:off x="395280" y="3573360"/>
            <a:ext cx="1800360" cy="1411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14"/>
          <p:cNvPicPr/>
          <p:nvPr/>
        </p:nvPicPr>
        <p:blipFill>
          <a:blip r:embed="rId2"/>
          <a:stretch/>
        </p:blipFill>
        <p:spPr>
          <a:xfrm>
            <a:off x="250920" y="981000"/>
            <a:ext cx="2089080" cy="18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5832360" cy="765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e2dfcc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a7c29"/>
                </a:solidFill>
                <a:latin typeface="Calibri Light"/>
              </a:rPr>
              <a:t>Питание школьника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276720" y="794880"/>
            <a:ext cx="58672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Питание школьника должно быть сбалансированным. Для здоровья детей важнейшее значение имеет правильное соотношение питательных веществ. В меню школьника обязательно должны входить продукты, содержащие не только белки, жиры и углеводы, но и незаменимые аминокислоты, витамины, некоторые жирные кислоты, минералы и микроэлементы.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0" name="Picture 5" descr="17"/>
          <p:cNvPicPr/>
          <p:nvPr/>
        </p:nvPicPr>
        <p:blipFill>
          <a:blip r:embed="rId1"/>
          <a:stretch/>
        </p:blipFill>
        <p:spPr>
          <a:xfrm>
            <a:off x="468360" y="4140360"/>
            <a:ext cx="2448000" cy="21891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10"/>
          <p:cNvPicPr/>
          <p:nvPr/>
        </p:nvPicPr>
        <p:blipFill>
          <a:blip r:embed="rId2"/>
          <a:stretch/>
        </p:blipFill>
        <p:spPr>
          <a:xfrm>
            <a:off x="0" y="760320"/>
            <a:ext cx="216072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492000" y="0"/>
            <a:ext cx="5472360" cy="620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e2dfcc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7c29"/>
                </a:solidFill>
                <a:latin typeface="Calibri Light"/>
              </a:rPr>
              <a:t>Питание школьника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340000" y="836640"/>
            <a:ext cx="680400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Питание школьника должно быть оптимальным. При составлении меню обязательно учитываются потребности организма, связанных с его ростом и развитием, с изменением условий внешней среды, с повышенной физической или эмоциональной нагрузкой. При оптимальной системе питания соблюдается баланс между поступлением и расходованием основных пищевых веществ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4" name="Picture 5" descr="15"/>
          <p:cNvPicPr/>
          <p:nvPr/>
        </p:nvPicPr>
        <p:blipFill>
          <a:blip r:embed="rId1"/>
          <a:stretch/>
        </p:blipFill>
        <p:spPr>
          <a:xfrm>
            <a:off x="179280" y="284040"/>
            <a:ext cx="1728720" cy="1683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12"/>
          <p:cNvPicPr/>
          <p:nvPr/>
        </p:nvPicPr>
        <p:blipFill>
          <a:blip r:embed="rId2"/>
          <a:stretch/>
        </p:blipFill>
        <p:spPr>
          <a:xfrm>
            <a:off x="395280" y="3068640"/>
            <a:ext cx="1871640" cy="17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e2dfcc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a7c29"/>
                </a:solidFill>
                <a:latin typeface="Calibri Light"/>
              </a:rPr>
              <a:t>Признаки правильного </a:t>
            </a:r>
            <a:br>
              <a:rPr sz="4000"/>
            </a:br>
            <a:r>
              <a:rPr b="1" i="1" lang="ru-RU" sz="4000" spc="-1" strike="noStrike">
                <a:solidFill>
                  <a:srgbClr val="4a7c29"/>
                </a:solidFill>
                <a:latin typeface="Calibri Light"/>
              </a:rPr>
              <a:t>                                            питания школьника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828800" y="1052640"/>
            <a:ext cx="7315200" cy="5805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По каким признакам можно определить, что ребенок стал питаться более правильно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Главными непосредственными проявлениями эффекта дополненного питания является прежде всего улучшение настроения и повышение активности детей, исчезновение жалоб на утомляемость и головные боли, повышение внимания, памяти и успеваемости в школе, снижение уровня конфликтности в поведении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Сегодня меньше пяти процентов учащихся младших классов могут считаться абсолютно здоровыми. При этом самочувствие школьников стремительно ухудшается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Этому способствует значительное увеличение нагрузки на детей в школе и дома, как физической так и интеллектуальной и психоэмоциональной. При этом дети мало бывают на воздухе, недостаточно двигаются и спят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8" name="Picture 5" descr="19"/>
          <p:cNvPicPr/>
          <p:nvPr/>
        </p:nvPicPr>
        <p:blipFill>
          <a:blip r:embed="rId1"/>
          <a:stretch/>
        </p:blipFill>
        <p:spPr>
          <a:xfrm>
            <a:off x="0" y="1413000"/>
            <a:ext cx="1828800" cy="21603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8"/>
          <p:cNvPicPr/>
          <p:nvPr/>
        </p:nvPicPr>
        <p:blipFill>
          <a:blip r:embed="rId2"/>
          <a:stretch/>
        </p:blipFill>
        <p:spPr>
          <a:xfrm>
            <a:off x="28440" y="391788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740720" cy="6922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e2dfcc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4a7c29"/>
                </a:solidFill>
                <a:latin typeface="Calibri Light"/>
              </a:rPr>
              <a:t>Польза  горячего питания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124000" y="838080"/>
            <a:ext cx="702000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Наблюдения показали, что дети, получающие горячее питание в условиях школы, меньше устают, у них на более длительный срок сохраняется высокий уровень  работоспособности и выше успеваемость. В связи с этим в задачу медицинского и педагогического персонала школы входит добиваться 100% охвата школьников горячими завтраками  и обедами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2" name="Picture 4" descr="001"/>
          <p:cNvPicPr/>
          <p:nvPr/>
        </p:nvPicPr>
        <p:blipFill>
          <a:blip r:embed="rId1"/>
          <a:stretch/>
        </p:blipFill>
        <p:spPr>
          <a:xfrm>
            <a:off x="0" y="143208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j0255592"/>
          <p:cNvPicPr/>
          <p:nvPr/>
        </p:nvPicPr>
        <p:blipFill>
          <a:blip r:embed="rId2"/>
          <a:stretch/>
        </p:blipFill>
        <p:spPr>
          <a:xfrm>
            <a:off x="4516560" y="5005440"/>
            <a:ext cx="2238120" cy="1487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j0223775"/>
          <p:cNvPicPr/>
          <p:nvPr/>
        </p:nvPicPr>
        <p:blipFill>
          <a:blip r:embed="rId3"/>
          <a:stretch/>
        </p:blipFill>
        <p:spPr>
          <a:xfrm>
            <a:off x="0" y="3564000"/>
            <a:ext cx="2016000" cy="161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6:28:21Z</dcterms:created>
  <dc:creator>1</dc:creator>
  <dc:description/>
  <dc:language>en-US</dc:language>
  <cp:lastModifiedBy>Татьяна Бубенцова</cp:lastModifiedBy>
  <dcterms:modified xsi:type="dcterms:W3CDTF">2018-02-06T15:50:33Z</dcterms:modified>
  <cp:revision>1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91049</vt:lpwstr>
  </property>
</Properties>
</file>