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AB6-13DA-4B38-A610-10BFC87A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773-A2F9-4F9D-B2D9-C6E8E328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7C1-27A1-4EC7-A3C1-7FE2389A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2BF-BD02-447C-BE81-93ACEF1D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FB20-254E-420C-A0FC-C6136808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BB7D-3C8D-4C07-A340-5B967FA5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D8CF-6E4B-4F53-BF5A-ED7CD5C6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C9C0-6777-407A-910C-41E85186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ABD3-A6A6-49B9-9430-41D46563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B82E-008D-41F2-AB79-ED4B2D61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FE17-16BE-4E83-A6E3-FCF66F4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02B-21F2-4671-B05E-6C761C9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BD18-6523-4CA4-969C-46E33CB6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86BE-B066-49D3-9DAB-F7BE24D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CABD-D134-4041-9865-60875457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EAD-EB7D-4E95-8B5D-86D97886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5410-FD08-4D78-A76B-6F93C14D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395-84DD-49F8-A0C5-B14D7538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775-EC93-448C-9031-7AB64181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854-3995-429A-ADE8-F5B9F1C9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E8A-CE73-4896-A311-2B31769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C13-EB96-478E-A3B0-48154508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CF0-17E6-447A-A7B9-9D44598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A95-F0E3-4785-A752-84B4197C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09A9-F13E-4CF7-922D-BB97D7BE4E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2FDD-1198-4402-AB36-0C8D4741E22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ndex.ru/yandpage?q=480700630&amp;p=1&amp;rpt2=simage&amp;qs=text%3D%25D0%25D2%25D5%25C4%25CF%25D7%25C1%25D1%2B%25CE%25CF%25DE%25CE%25C9%25C3%25C1%26oldreq%3D2100545878%26serverurl%3Decoinf.uran.ru%26rpt%3Dimag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640720" cy="463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Животные , занесенные в Красную книгу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Нижегородской области.</a:t>
            </a:r>
            <a:br>
              <a:rPr sz="5100"/>
            </a:b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ыполнил Никулин Н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6" descr="card6"/>
          <p:cNvPicPr/>
          <p:nvPr/>
        </p:nvPicPr>
        <p:blipFill>
          <a:blip r:embed="rId1"/>
          <a:stretch/>
        </p:blipFill>
        <p:spPr>
          <a:xfrm>
            <a:off x="7524720" y="5229360"/>
            <a:ext cx="952560" cy="130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 ЖИВОТНЫ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47640" y="1628640"/>
          <a:ext cx="6096240" cy="489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истематические группы животны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Число видов, занесенных в Красную книгу Нижегородской област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лекопитающ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тиц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7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емноводные и пресмыкающиес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ыбы и круглорот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секом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ругие беспозвоноч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лекопитающие: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прудовая ночниц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67280" y="1699920"/>
            <a:ext cx="46195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носительно короткоухая летучая мышь средних размеров. Длина тела 51 - 73, длина хвоста 40 - 53, высота уха 15 - 19, высота козелка 6,5 - 8,5, общая длина черепа 16,4 - 18, кондилобазальная длина черепа 15,8 - 17,3, межглазничный промежуток 4,9 - 5,7, длина верхнего ряда зубов 6 - 6,9 мм. Крылья относительно широкие. Козелок едва достигает половины уха. Окраска верхней части тела изменчива от светло-пепельной до черно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6" descr="i?id=30927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3695760" cy="27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1401"/>
          <p:cNvPicPr/>
          <p:nvPr/>
        </p:nvPicPr>
        <p:blipFill>
          <a:blip r:embed="rId3"/>
          <a:stretch/>
        </p:blipFill>
        <p:spPr>
          <a:xfrm>
            <a:off x="179280" y="3284640"/>
            <a:ext cx="3810240" cy="2809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?id=3092788"/>
          <p:cNvPicPr/>
          <p:nvPr/>
        </p:nvPicPr>
        <p:blipFill>
          <a:blip r:embed="rId4"/>
          <a:stretch/>
        </p:blipFill>
        <p:spPr>
          <a:xfrm>
            <a:off x="0" y="260280"/>
            <a:ext cx="369576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игантская вечерниц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9200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амая крупная летучая мышь России: длина тела 84-104 мм, длина предплечья 63-70 мм. Окраска рыжевато-палевая, брюхо более светлое, летательная перепонка темно-серая. Крылья узкие, длинные, заостренные. Уши закругленные, с кожными складками. Козелок булавовидный. Шпора с эпиблем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5" descr="1-10"/>
          <p:cNvPicPr/>
          <p:nvPr/>
        </p:nvPicPr>
        <p:blipFill>
          <a:blip r:embed="rId1"/>
          <a:stretch/>
        </p:blipFill>
        <p:spPr>
          <a:xfrm>
            <a:off x="0" y="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д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08360" y="1341360"/>
            <a:ext cx="5184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Тело выдры вытянутое, гибкое, подвижное. Зверек приземистый. Хвост длинный, составляет половину длины туловища, толстый у основания, суживающийся к концу. Голова небольшая, уплощенная сверху вниз, овальная. Шея короткая, уши округлые, маленькие, едва выступающие из меха. Глаза большие. Ноги короткие, с небольшими когтями и развитыми перепонками между пальцами. Волосяной покров темно-коричневого цвета, очень густой и ровный по всему телу. Цвет волос на брюшке несколько светлее, чем на спине. Длина тела взрослой особи 60-90 см, масса 6-10 кг. Самки меньше самцов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Речная выдра"/>
          <p:cNvPicPr/>
          <p:nvPr/>
        </p:nvPicPr>
        <p:blipFill>
          <a:blip r:embed="rId1"/>
          <a:stretch/>
        </p:blipFill>
        <p:spPr>
          <a:xfrm>
            <a:off x="155520" y="46080"/>
            <a:ext cx="32702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     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хухол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71640" y="2393640"/>
            <a:ext cx="612144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лекопитающее отряда насекомоядных (семейство кротовые). Длина тела до 22 см, хвоста до 20 см. Встречается только в бассейне Волги, Дона и Урала. Акклиматизирована в бассейне Оби. Ведёт полуводный образ жизни. Мех очень ценный. Численность сокращается главным образом из-за нарушения среды обитани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5" descr="vyhuhol"/>
          <p:cNvPicPr/>
          <p:nvPr/>
        </p:nvPicPr>
        <p:blipFill>
          <a:blip r:embed="rId1"/>
          <a:stretch/>
        </p:blipFill>
        <p:spPr>
          <a:xfrm>
            <a:off x="0" y="0"/>
            <a:ext cx="485928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тицы: серая цапл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7672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рупная цапля (вес до 2 кг). Спина и бока серые, брюхо белое. Хохол на голове, концы крыльев и полоска на шее черные. Ноги желто-бурые. Полет плавный, небыстрый, с медленными взмахами крыльев. Взлетает неуклюже, болтая ногами. В полете, шея сложена, и голова втянута в плечи. Кормится на мелководье. Очень осторожна. Молчалива. Голос - короткий, скрипучий, пронзительный крик вроде "крянк"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5" descr="i?id=1037280"/>
          <p:cNvPicPr/>
          <p:nvPr/>
        </p:nvPicPr>
        <p:blipFill>
          <a:blip r:embed="rId1"/>
          <a:stretch/>
        </p:blipFill>
        <p:spPr>
          <a:xfrm>
            <a:off x="155520" y="46080"/>
            <a:ext cx="27385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ерку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Берку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Aquila chrysaëtus),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семейства ястребиных отряда хищных. Длина до 95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см,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крылья в размахе до 2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м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перение темно-бурое. Питается зайцами, а также мелкими грызунами, птицами, пресмыкающимися, лягушками, насекомыми и падалью. Редок. Гнездится на деревьях и на скалах. В кладке 1-2 яйца. Полезен истреблением грызунов.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ернозобая гага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5" descr="i?id=4909984"/>
          <p:cNvPicPr/>
          <p:nvPr/>
        </p:nvPicPr>
        <p:blipFill>
          <a:blip r:embed="rId1"/>
          <a:stretch/>
        </p:blipFill>
        <p:spPr>
          <a:xfrm>
            <a:off x="395280" y="260280"/>
            <a:ext cx="3635280" cy="279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7:01:02Z</dcterms:created>
  <dc:creator>group</dc:creator>
  <dc:description/>
  <dc:language>en-US</dc:language>
  <cp:lastModifiedBy>Школа</cp:lastModifiedBy>
  <dcterms:modified xsi:type="dcterms:W3CDTF">2019-12-09T14:47:34Z</dcterms:modified>
  <cp:revision>26</cp:revision>
  <dc:subject/>
  <dc:title>Животные Нижегородской области, занесенные в Красную книгу.</dc:title>
</cp:coreProperties>
</file>