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E28-B684-4308-8F87-D399C75A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ADD-2879-4918-8E43-3419AA8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B14-AE1B-4731-8DC4-70E52E04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DB1-700D-409E-B797-26D02D34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80-F315-47EA-8E05-685C347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8FA-A186-4D13-B5FB-B5AFC954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52D-630B-425E-AC3B-2FF06526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F6B-E2F7-416A-94DF-FA53522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0CF-A616-4918-9624-FFBBF3C1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A64-6E59-471E-9B72-2C17E70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AE9-110F-4E91-9280-E2A0272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F12-0F38-47F9-86F3-BD4819F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2604-04F3-4552-96C8-CB17BFDDC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Мое портфоли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560" y="388620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______________________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____ класс «___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2286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МБОУ «Солнечная СОШ №1» </a:t>
            </a:r>
            <a:r>
              <a:rPr b="1" i="1" lang="ru-RU" sz="2000" spc="-1" strike="noStrike">
                <a:solidFill>
                  <a:srgbClr val="000099"/>
                </a:solidFill>
                <a:latin typeface="Bookman Old Style"/>
              </a:rPr>
              <a:t>филиал «Сытоминская С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438280" y="60199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С. Сытомино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O00629_"/>
          <p:cNvPicPr/>
          <p:nvPr/>
        </p:nvPicPr>
        <p:blipFill>
          <a:blip r:embed="rId2"/>
          <a:stretch/>
        </p:blipFill>
        <p:spPr>
          <a:xfrm>
            <a:off x="609480" y="3505320"/>
            <a:ext cx="2186280" cy="2749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Arial"/>
              </a:rPr>
              <a:t>Мой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44792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715000" y="5562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28600" y="1295280"/>
            <a:ext cx="4191120" cy="3288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1 сен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48320" y="2971800"/>
            <a:ext cx="4343400" cy="3288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Окончание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Сведения об участии в интеллектуальных марафонах, олимпиадах и конферен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876920" y="1752480"/>
            <a:ext cx="3657600" cy="464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7 клас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Марафон по  ……..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-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Олимпиада по 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                      …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Научно-практическая конференция    …..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752480"/>
            <a:ext cx="3657600" cy="464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Начальная шко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Марафон по  ……..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-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Олимпиада по 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                      …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Научно-практическая конференция    …..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5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5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5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5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5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5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5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50" fill="hold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5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5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5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5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0" fill="hold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0" fill="hold"/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Мои любимый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предмет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44792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715000" y="5562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38080" y="1600200"/>
            <a:ext cx="7467840" cy="454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( Небольшое сообщ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Участие в классных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и школь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 flipH="1">
            <a:off x="1676160" y="12952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80880" y="5105520"/>
            <a:ext cx="26672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«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Новогодний бал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5334120" y="4800600"/>
            <a:ext cx="2666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«Бессмертный пол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3200400" y="3429000"/>
            <a:ext cx="24382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«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мотр строя и песни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3886200" y="2057400"/>
            <a:ext cx="21337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«Осенний бал    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6477120" y="297180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«Нед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русского язы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6934320" y="1600200"/>
            <a:ext cx="22096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Исследователь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28600" y="1523880"/>
            <a:ext cx="21337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«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Шко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лимпиады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28600" y="2819520"/>
            <a:ext cx="2286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«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серосси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лимпиа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сы</a:t>
            </a: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4830840" y="1295280"/>
            <a:ext cx="46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 flipH="1">
            <a:off x="2057400" y="129528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 flipH="1">
            <a:off x="2514600" y="1295280"/>
            <a:ext cx="91440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3657600" y="1295280"/>
            <a:ext cx="2286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6705720" y="1295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6324480" y="1295280"/>
            <a:ext cx="6098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6095880" y="1295280"/>
            <a:ext cx="7632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900"/>
                            </p:stCondLst>
                            <p:childTnLst>
                              <p:par>
                                <p:cTn id="6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200"/>
                            </p:stCondLst>
                            <p:childTnLst>
                              <p:par>
                                <p:cTn id="6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550"/>
                            </p:stCondLst>
                            <p:childTnLst>
                              <p:par>
                                <p:cTn id="6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950"/>
                            </p:stCondLst>
                            <p:childTnLst>
                              <p:par>
                                <p:cTn id="6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500"/>
                            </p:stCondLst>
                            <p:childTnLst>
                              <p:par>
                                <p:cTn id="6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2600"/>
                            </p:stCondLst>
                            <p:childTnLst>
                              <p:par>
                                <p:cTn id="6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6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3600"/>
                            </p:stCondLst>
                            <p:childTnLst>
                              <p:par>
                                <p:cTn id="6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4100"/>
                            </p:stCondLst>
                            <p:childTnLst>
                              <p:par>
                                <p:cTn id="6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600"/>
                            </p:stCondLst>
                            <p:childTnLst>
                              <p:par>
                                <p:cTn id="6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100"/>
                            </p:stCondLst>
                            <p:childTnLst>
                              <p:par>
                                <p:cTn id="7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600"/>
                            </p:stCondLst>
                            <p:childTnLst>
                              <p:par>
                                <p:cTn id="7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6100"/>
                            </p:stCondLst>
                            <p:childTnLst>
                              <p:par>
                                <p:cTn id="7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Фоторепортаж с меро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486400" y="1676520"/>
            <a:ext cx="3048120" cy="2037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од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1676520"/>
            <a:ext cx="3048120" cy="2037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од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800600" y="4267080"/>
            <a:ext cx="3048120" cy="2037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од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143000" y="4267080"/>
            <a:ext cx="3048120" cy="2037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од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3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3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3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3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Занятия в школьных круж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1676520"/>
            <a:ext cx="3657600" cy="3933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1295280"/>
            <a:ext cx="35812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876920" y="4038480"/>
            <a:ext cx="35812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25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25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Вне школы я заним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676520"/>
            <a:ext cx="3657600" cy="3933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295280"/>
            <a:ext cx="35812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876920" y="4038480"/>
            <a:ext cx="35812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25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250"/>
                            </p:stCondLst>
                            <p:childTnLst>
                              <p:par>
                                <p:cTn id="8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Моё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76920" y="1295280"/>
            <a:ext cx="35812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876920" y="4038480"/>
            <a:ext cx="35812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09480" y="1295280"/>
            <a:ext cx="358164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09480" y="4038480"/>
            <a:ext cx="358164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6000"/>
                            </p:stCondLst>
                            <p:childTnLst>
                              <p:par>
                                <p:cTn id="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0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Отзыв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бо мн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Имя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Отчество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Фамилия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Возраст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           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Рост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                   с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Цвет волос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Bookman Old Style"/>
              </a:rPr>
              <a:t>Цвет глаз:</a:t>
            </a: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34120" y="167652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Вот такой я бы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800600" y="1600200"/>
            <a:ext cx="3733920" cy="47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Я родилась: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есто рож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город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Рост при рождении: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______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Вес при рождении:</a:t>
            </a: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 ______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90720" y="167652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6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6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6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6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Моя сем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676520"/>
            <a:ext cx="6781680" cy="454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 сем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генеалогическое д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(желательно с указанием род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4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В  200… году я поступила в детский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114800" y="1676520"/>
            <a:ext cx="4724280" cy="524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ой детский сад №………….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ои воспит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………………………………………………………………………………………………………………</a:t>
            </a: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,,,,,,,,,,,,,,,,,,,,,,,,,,,,,,,,,,,,,,,,,,,,,,,,,,,,,,,,,,,,,,,,,,,,,,,,,,,,,,,,,,,,,,,,,,,,,,,,,,,,,,,,,,,,,,,,,,,,,,,,,,,,,,,,,,,,,,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ои первые друз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……………………………………………………………………………………………………………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205740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8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8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8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78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98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В  200… году я поступила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в 1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038480" y="1600200"/>
            <a:ext cx="4724640" cy="3769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оя шко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……………………………………………………………………………………………………………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ой первый учитель</a:t>
            </a: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………………………………………………………………………………………………………………</a:t>
            </a: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Bookman Old Style"/>
              </a:rPr>
              <a:t>Мои друз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99"/>
                </a:solidFill>
                <a:uFillTx/>
                <a:latin typeface="Bookman Old Style"/>
              </a:rPr>
              <a:t>……………………………………………………………………………………………………………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205740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В  20… году я закончила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начальную шко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62120" y="190512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4120" y="190512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2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аботы, которыми я горж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62120" y="190512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еречень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или 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фот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34120" y="1905120"/>
            <a:ext cx="3047760" cy="370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4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4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Мои дост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5800" y="1371600"/>
            <a:ext cx="1905120" cy="2311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Похваль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33920" y="1371600"/>
            <a:ext cx="205740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Благод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629400" y="1371600"/>
            <a:ext cx="190512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Дип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553080" y="4191120"/>
            <a:ext cx="1905120" cy="2426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Ведомость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505320" y="4191120"/>
            <a:ext cx="198108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Дип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09480" y="4191120"/>
            <a:ext cx="1981440" cy="2454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ookman Old Style"/>
              </a:rPr>
              <a:t>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Галина</cp:lastModifiedBy>
  <dcterms:modified xsi:type="dcterms:W3CDTF">2018-04-03T16:36:2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