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AF5-13E4-451F-8559-F6192B21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1CE-C710-4FCF-972C-6FEABCCB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D5A-D8CB-4330-8E7C-D9984D4C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0AE-B2CA-4EB7-9B17-CEB5DA0B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3132-69B6-4956-BF9E-51D5089A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7C69-BCE4-4592-ABB7-20A99E1C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E998-2871-44A6-A793-3A0D9B41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D7EF-ECB1-46C3-91A6-11E06153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963A-1A19-4F73-A162-51C810D8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2FEE-A7C8-4FCC-AAE3-642E6EE5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97FC-81C8-44B0-87C8-E6CD5674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87F-FC84-4A80-9EC4-5AEB11DC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91BC-2C98-4A09-9042-F343A869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C8AF-B6FB-4EB6-A9F9-AC5B220F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9AF8-8200-4BA6-9B00-6C2D398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9DEC-BFF5-4BAA-829E-7C86858C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FFCC-F5E9-40FB-9A99-B12CA7FD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31F-ADC0-40F2-832A-B13C006C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CF2-2106-4C5D-A16D-FD6E4302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821-E56B-49DB-BFB5-CB439F01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D20-F25F-4F2F-9AAE-2C76CD91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0B08-966C-4EC5-BFB7-47A943B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9D1-9175-4668-AFF4-FB28B2C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208-5DAD-4F42-9C83-3F894F6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70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9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78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40F-0F48-4C5D-AACB-9D5A4D26B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9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78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1D17-DFFC-4B0A-9A90-681E9BB876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39840" y="16002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.Т. Аксаков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Аленький цветочек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Рисунок 3" descr="0_806f7_beae083d_orig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85800" y="914400"/>
            <a:ext cx="3635280" cy="5234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3" name="Прямоугольник 3"/>
          <p:cNvSpPr/>
          <p:nvPr/>
        </p:nvSpPr>
        <p:spPr>
          <a:xfrm>
            <a:off x="4952880" y="5257800"/>
            <a:ext cx="39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ю подготови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ускова Екатерина Владимиро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252360"/>
            <a:ext cx="4762440" cy="61722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5029200" y="54000"/>
            <a:ext cx="396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гей Тимофеевич Акса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791 – 185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л читать с 4 лет, в 5 лет декламировал стихи и читал сказки в лиц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8 лет учился в 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5 лет начал публиковать первые стихи, оче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овал студенческий театр, ставил пье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7 лет писал биографические очерки для деятелей искусства и политики того време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л цензором, литературным критиком, переводчиком, публиковал свои произведения под псевдонимом П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етная мечта С.Т. Аксакова – книга для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етские годы Багрова внук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https://ds04.infourok.ru/uploads/ex/020f/00056cc6-94c604b3/img25.jpg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162400" y="1052280"/>
            <a:ext cx="3981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последние годы жизни, работа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40" indent="1116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д книгой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40" indent="1116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«Детские годы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40" indent="1116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Багрова - внука»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40" indent="1116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ергей Тимофеевич вспомнил ключницу Пелагею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40" indent="1116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её замечательную сказку 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«Аленький цветочек»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40" indent="1116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 записал её по памяти. Впервые она была напечатана в 1858 г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395280" y="525780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пове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Детские годы Багрова-внук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ошла сказ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Аленький цветоче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Рисунок 4" descr="36842-aksakov-s-t-detskie-gody-bagrova-vnuka.jpg"/>
          <p:cNvPicPr/>
          <p:nvPr/>
        </p:nvPicPr>
        <p:blipFill>
          <a:blip r:embed="rId1"/>
          <a:stretch/>
        </p:blipFill>
        <p:spPr>
          <a:xfrm>
            <a:off x="152280" y="260280"/>
            <a:ext cx="2664000" cy="42624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2" name="Рисунок 5" descr="5541020.jpg"/>
          <p:cNvPicPr/>
          <p:nvPr/>
        </p:nvPicPr>
        <p:blipFill>
          <a:blip r:embed="rId2"/>
          <a:stretch/>
        </p:blipFill>
        <p:spPr>
          <a:xfrm>
            <a:off x="2846520" y="1905120"/>
            <a:ext cx="2328840" cy="3168360"/>
          </a:xfrm>
          <a:prstGeom prst="rect">
            <a:avLst/>
          </a:prstGeom>
          <a:ln w="19080">
            <a:solidFill>
              <a:srgbClr val="c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4" descr="1.jpg"/>
          <p:cNvPicPr/>
          <p:nvPr/>
        </p:nvPicPr>
        <p:blipFill>
          <a:blip r:embed="rId1"/>
          <a:stretch/>
        </p:blipFill>
        <p:spPr>
          <a:xfrm>
            <a:off x="609480" y="30240"/>
            <a:ext cx="3810240" cy="19429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108800" y="585720"/>
            <a:ext cx="28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колько дочер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было у куп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Рисунок 5" descr="alenkij_tsvetochek_0-03-05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52280" y="2057400"/>
            <a:ext cx="2786040" cy="209088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26" name="Рисунок 6" descr="alenkij_tsvetochek_023.jpg"/>
          <p:cNvPicPr/>
          <p:nvPr/>
        </p:nvPicPr>
        <p:blipFill>
          <a:blip r:embed="rId3"/>
          <a:stretch/>
        </p:blipFill>
        <p:spPr>
          <a:xfrm>
            <a:off x="3276720" y="2057400"/>
            <a:ext cx="2832120" cy="209088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27" name="Рисунок 7" descr="1268914001_1-alenkii_cvetochek_0-20-09_405.jpg"/>
          <p:cNvPicPr/>
          <p:nvPr/>
        </p:nvPicPr>
        <p:blipFill>
          <a:blip r:embed="rId4"/>
          <a:stretch/>
        </p:blipFill>
        <p:spPr>
          <a:xfrm>
            <a:off x="6445080" y="2057400"/>
            <a:ext cx="2514600" cy="2090880"/>
          </a:xfrm>
          <a:prstGeom prst="rect">
            <a:avLst/>
          </a:prstGeom>
          <a:ln w="28440">
            <a:solidFill>
              <a:srgbClr val="0099ff"/>
            </a:solidFill>
            <a:miter/>
          </a:ln>
        </p:spPr>
      </p:pic>
      <p:pic>
        <p:nvPicPr>
          <p:cNvPr id="228" name="TextBox 9" descr=""/>
          <p:cNvPicPr/>
          <p:nvPr/>
        </p:nvPicPr>
        <p:blipFill>
          <a:blip r:embed="rId5"/>
          <a:stretch/>
        </p:blipFill>
        <p:spPr>
          <a:xfrm>
            <a:off x="871560" y="628560"/>
            <a:ext cx="3286080" cy="8398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0"/>
          <p:cNvSpPr/>
          <p:nvPr/>
        </p:nvSpPr>
        <p:spPr>
          <a:xfrm>
            <a:off x="844560" y="6778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акие гостинцы попросили привезти купца его дочер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Рисунок 11" descr="diadema30.jpg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117360" y="4495680"/>
            <a:ext cx="2884680" cy="1366920"/>
          </a:xfrm>
          <a:prstGeom prst="rect">
            <a:avLst/>
          </a:prstGeom>
          <a:ln w="28440">
            <a:solidFill>
              <a:srgbClr val="0099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1" name="Рисунок 12" descr="MJR3051_PV10596-0.jpg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3276720" y="4465800"/>
            <a:ext cx="2832120" cy="2108160"/>
          </a:xfrm>
          <a:prstGeom prst="rect">
            <a:avLst/>
          </a:prstGeom>
          <a:ln w="28440">
            <a:solidFill>
              <a:srgbClr val="0099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2" name="Picture 2" descr="https://www.culture.ru/storage/images/680efe9a46c8b92156a0c9894e3f4fa2/fb4e2f1e6550ca29f581570047cb847c.jpeg"/>
          <p:cNvPicPr/>
          <p:nvPr/>
        </p:nvPicPr>
        <p:blipFill>
          <a:blip r:embed="rId8"/>
          <a:stretch/>
        </p:blipFill>
        <p:spPr>
          <a:xfrm>
            <a:off x="6305400" y="4495680"/>
            <a:ext cx="2794320" cy="1570320"/>
          </a:xfrm>
          <a:prstGeom prst="rect">
            <a:avLst/>
          </a:prstGeom>
          <a:ln w="28440">
            <a:solidFill>
              <a:srgbClr val="0099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alen-kij-tsvetochek-e1404080294252.jpg"/>
          <p:cNvPicPr/>
          <p:nvPr/>
        </p:nvPicPr>
        <p:blipFill>
          <a:blip r:embed="rId1"/>
          <a:stretch/>
        </p:blipFill>
        <p:spPr>
          <a:xfrm>
            <a:off x="3838680" y="28440"/>
            <a:ext cx="5283000" cy="3248280"/>
          </a:xfrm>
          <a:prstGeom prst="rect">
            <a:avLst/>
          </a:prstGeom>
          <a:ln w="28440">
            <a:solidFill>
              <a:srgbClr val="c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4" name="Рисунок 2" descr="maxresdefault.jpg"/>
          <p:cNvPicPr/>
          <p:nvPr/>
        </p:nvPicPr>
        <p:blipFill>
          <a:blip r:embed="rId2"/>
          <a:stretch/>
        </p:blipFill>
        <p:spPr>
          <a:xfrm>
            <a:off x="0" y="3352680"/>
            <a:ext cx="5867280" cy="3505320"/>
          </a:xfrm>
          <a:prstGeom prst="rect">
            <a:avLst/>
          </a:prstGeom>
          <a:ln w="2844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5" name="Рисунок 3" descr="1.jpg"/>
          <p:cNvPicPr/>
          <p:nvPr/>
        </p:nvPicPr>
        <p:blipFill>
          <a:blip r:embed="rId3"/>
          <a:stretch/>
        </p:blipFill>
        <p:spPr>
          <a:xfrm>
            <a:off x="19080" y="30240"/>
            <a:ext cx="3809880" cy="19429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254160" y="6778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акая иллюстрация подходит к сказке? 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я</dc:creator>
  <dc:description/>
  <dc:language>en-US</dc:language>
  <cp:lastModifiedBy>Кускова</cp:lastModifiedBy>
  <dcterms:modified xsi:type="dcterms:W3CDTF">2019-12-10T12:02:5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