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18A-1C92-4320-B6C0-793C6040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11D-D1AA-4D72-BDC5-A3D4EFF7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871-8332-4D55-BF92-B981D18C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092-7258-43DB-AC62-00B16BD4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1EF-925C-4F32-B14C-991A6F85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A62-958B-4C5A-B61D-D09BD5EE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EFE-6CB7-425D-B0D9-229300E1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B8B-0B84-448E-B4B1-B28C89F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1E4-6EC0-4C92-A857-4BCB5F4F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DD8-C888-423D-92F1-19B9BF2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4F6-3647-409D-BEC7-184ECBCA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D0B-8350-43A7-A870-A0CE7A8E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30AE-FC38-4A53-9D60-ECEE475254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ЕЗНОЕ ИЗ ПРОСТОГ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Воспитателя группы продленного д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ГБОУ СОШ №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расносельского района г. Санкт-Петербур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Тропиной Ольги Владимиров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8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8285400" cy="121284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9" descr=""/>
          <p:cNvPicPr/>
          <p:nvPr/>
        </p:nvPicPr>
        <p:blipFill>
          <a:blip r:embed="rId2"/>
          <a:stretch/>
        </p:blipFill>
        <p:spPr>
          <a:xfrm>
            <a:off x="281160" y="1504800"/>
            <a:ext cx="841212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астер-класса : изготовить наглядное пособие « Часы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ланируемый результа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закрепить навыки владения ножницами, циркулем ; научиться определять время по циферблату со стрелками ; новые понятия арабских и римских циф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он цвет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жки пластиковые(одноразовы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тки(для крепления стрело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тч, клей П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жницы, карандаш ,циркуль , швейная иголк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си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1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картона вырезать круг для циферблата, используя циркуль и ножн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жки укоротить при помощи ножниц или щипч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братной стороне круга отметить карандашом места крепления ложек, как на циферблате часов и прикрепить  ложки скотчем  к кру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1" descr=""/>
          <p:cNvPicPr/>
          <p:nvPr/>
        </p:nvPicPr>
        <p:blipFill>
          <a:blip r:embed="rId1"/>
          <a:stretch/>
        </p:blipFill>
        <p:spPr>
          <a:xfrm>
            <a:off x="968400" y="1600200"/>
            <a:ext cx="30160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2" descr=""/>
          <p:cNvPicPr/>
          <p:nvPr/>
        </p:nvPicPr>
        <p:blipFill>
          <a:blip r:embed="rId2"/>
          <a:stretch/>
        </p:blipFill>
        <p:spPr>
          <a:xfrm>
            <a:off x="5159520" y="160020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резать стрелки из картона  и при помощи иголки с ниткой и бусинки закрепить стрелки в центре циферблата. Вырезать цифры из цветной бумаги или воспользоваться наклейками. Наклеить цифры на цифербла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1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И ГОТОВО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6T18:17:25Z</dcterms:created>
  <dc:creator>Admin</dc:creator>
  <dc:description/>
  <dc:language>en-US</dc:language>
  <cp:lastModifiedBy>ООО</cp:lastModifiedBy>
  <dcterms:modified xsi:type="dcterms:W3CDTF">2019-12-10T17:15:55Z</dcterms:modified>
  <cp:revision>12</cp:revision>
  <dc:subject/>
  <dc:title>Полезное из простого</dc:title>
</cp:coreProperties>
</file>