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4CF9-99DB-4FE0-AEBA-5EDDF2EB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ABFC-A3D5-4335-AD17-F82B33E2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F4AD-0A3F-412E-B5A7-C3C8419E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4E47-08F2-415E-B50E-C1F22A17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26C3-5A71-4C93-B479-EB7FCF3F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280A-3A64-4486-A47E-3E55D78C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58AF-CF79-4B8F-8EDC-26FE1506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0B72-651D-4E29-B7A8-DFBD7D67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3C9B-5D1B-49AC-8A6C-4367E8A8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7A44-74E7-4C82-9C1B-921FC9D5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5684-F879-4D37-923D-EBA215C6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16B7-25CC-4A02-B36C-2E8F3A03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A8D9-7085-44FF-8E79-BDEDDFD28A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\Рабочий стол\угадай\Зелёный.gif"/>
          <p:cNvPicPr/>
          <p:nvPr/>
        </p:nvPicPr>
        <p:blipFill>
          <a:blip r:embed="rId3"/>
          <a:stretch/>
        </p:blipFill>
        <p:spPr>
          <a:xfrm>
            <a:off x="7500960" y="6507000"/>
            <a:ext cx="1643040" cy="351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60;&#1086;&#1073;&#1080;&#1103;" TargetMode="External"/><Relationship Id="rId2" Type="http://schemas.openxmlformats.org/officeDocument/2006/relationships/hyperlink" Target="https://ru.wikipedia.org/wiki/&#1051;&#1086;&#1075;&#1086;&#1085;&#1077;&#1074;&#1088;&#1086;&#1079;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14800" y="3135240"/>
            <a:ext cx="4781520" cy="26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а и коррекция невротических нарушений у дошкольников: логоневро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571400" y="213840"/>
            <a:ext cx="607212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признаки заик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бенок внезапно замолкает, отказывается говорить, это может длиться от двух часов до суток. После чего ребенок может снова говорить, но уже заикаяс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Употребляет перед отдельными словами лишние звуки (а,и)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вторяет первые слоги или целые слова вначале фразы, в конце фразы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Делает вынужденные остановки в середине слова, фразы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атрудняется перед началом реч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кание легче предупредить, чем лечит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кание появилось, что делат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ние при заикании нужно начинать немедлен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ние должно быть комплексным!</a:t>
            </a:r>
            <a:br>
              <a:rPr sz="20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 – психоневролог назначает необходимые лекарства;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 предотвращает образование невротических комплексов у ребенка, искажения личности;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 формирует правильные произносительные навыки;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 общие оздоровительные мероприятия (питание, физические нагрузки, режим дня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тноситься к заиканию у ребенка?</a:t>
            </a:r>
            <a:br>
              <a:rPr sz="2000"/>
            </a:br>
            <a:br>
              <a:rPr sz="20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взрослого – научить ребенка говорить медленнее!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68280"/>
            <a:ext cx="8445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ти себя СПОКОЙНО, не паниковать, не показывать свою озабоченность по поводу заика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«заикание» НЕ УПОТРЕБЛЯТЬ при ребенке, заменить на другие – сложность, трудность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критиковать, НЕ ругать, НЕ стыдить, не просить вдохнуть воздуха побольше (вдох должен быть рефлекторным, неосознанным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АВЛИВАТЬ АККУРАТНО речь ребенка с заиканием, не закреплять неправильный речевой стереотип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ТЬ ВЫСКАЗЫВАТЬСЯ., используя сопряженную (говорим вместе) или сопряженно - отраженную речь в виде диалога, где активную роль выполняет  взрослый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сти НАПЕВНУЮ, ЗАМЕДЛЕННУЮ речь в повседневную жизнь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 взрослого должна быть четкой и ясной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ИТЬ спонтанную речевую активность ребенк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РАТЬ лишние вопросы к ребенку, уважать темп ребенка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ТАКАТЬ ребенку во всем, во избежание срыва реч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ИТЬ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телевизионных передач, РЕГУЛИРОВАТЬ количество впечатлений: кино, чтени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играть в настольные игры: лото, мозаика, пластилин, глина, полезно играть с природным материалом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ЗНО петь вместе с ребенком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ные правила речи при заикан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24000" y="4842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 время речи смотри на собеседни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еди, чтобы в это время не было душевного перенапряжения и сильного напряжения мышц лиц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жде чем начать говорить, подумай, что ты хочешь сказать, сделай вдох и начинай говорить плавно на выдох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дух расходуй в основном на гласные зву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деляй ударный гласный зву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етко артикулируй все гласные зву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етко выдерживай паузы между предложениями. Длинные предложения дели на смысловые отрезки, между ними делай паузы (будто мысленно произносишь слово "пауза") - и лишь потом новый вдо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се слова в коротком предложении говори как одно длинное слов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вори выразительно, четко, громк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ужно помнить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гда перед речью сначала  сделать запас воздуха, расширив грудную клетку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тянуть низ живота, чтобы для звука имелась опора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править звук вперед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ечи во время дыхания должны быть в покое, недвиж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6240" y="115560"/>
            <a:ext cx="800244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и логоневр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24000" y="461880"/>
            <a:ext cx="8640720" cy="56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лечения зависит от степени развития заболевания, в котором современная медицина выделяет четыре стадии, или фазы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 характеризуется эпизодическими нарушениями речи (как правило, связанные с нервными стрессами или сильными переживаниями), между которыми следуют относительно длительные периоды, в течение которых таких нарушений не отмечается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- расстройство речи становится постоянным, с короткими периодами ремиссии (восстановления речи). Эта фаза характерна в основном для детей младшего школьного возраста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- характерна для более старшего возраста (до подросткового), когда интенсивность симптомов в значительной степени зависит от конкретной бытовой или социальной ситуаци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- проявляется в основном во взрослом возрасте и характеризуется страхом произнесения тех или иных слов и выражений, выраженным ожиданием и страхом заикания, поведенческими изменениями (страх ситуаций, требующих правильной речи), вынужденным многословием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наиболее характерных признаков логоневроза является страх речи – логофобия, которая выражается как в страхе перед собственно речью, так и перед ситуациями, в которых она необходим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Прямоугольник 1"/>
          <p:cNvSpPr/>
          <p:nvPr/>
        </p:nvSpPr>
        <p:spPr>
          <a:xfrm>
            <a:off x="971640" y="6126120"/>
            <a:ext cx="54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фоб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—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навязчивый стра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еред речью, связанный с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логоневрозо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заиканием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заикание,  логоневроз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невро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это вид речевого расстройства, который проявляется в виде  заикания и запинок в реч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кание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рушение речи, которое характеризуется частым повторением или удлинением звуков или слогов, или частыми остановками или нерешительностью в речи, разрывающей её ритмическое течение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ли заикание является расстройством реч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Прямоугольник 4"/>
          <p:cNvSpPr/>
          <p:nvPr/>
        </p:nvSpPr>
        <p:spPr>
          <a:xfrm>
            <a:off x="5454720" y="2055960"/>
            <a:ext cx="223200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ган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6"/>
          <p:cNvSpPr/>
          <p:nvPr/>
        </p:nvSpPr>
        <p:spPr>
          <a:xfrm>
            <a:off x="2089080" y="3187800"/>
            <a:ext cx="223380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врот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8"/>
          <p:cNvSpPr/>
          <p:nvPr/>
        </p:nvSpPr>
        <p:spPr>
          <a:xfrm>
            <a:off x="3222720" y="1300320"/>
            <a:ext cx="223200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ик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10"/>
          <p:cNvSpPr/>
          <p:nvPr/>
        </p:nvSpPr>
        <p:spPr>
          <a:xfrm>
            <a:off x="4838760" y="3197160"/>
            <a:ext cx="223344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врозоподоб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11"/>
          <p:cNvSpPr/>
          <p:nvPr/>
        </p:nvSpPr>
        <p:spPr>
          <a:xfrm>
            <a:off x="985680" y="2058840"/>
            <a:ext cx="2233800" cy="64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ункцион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Прямая со стрелкой 13"/>
          <p:cNvCxnSpPr/>
          <p:nvPr/>
        </p:nvCxnSpPr>
        <p:spPr>
          <a:xfrm flipH="1">
            <a:off x="2826720" y="1717200"/>
            <a:ext cx="448200" cy="329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19" name="Прямая со стрелкой 17"/>
          <p:cNvCxnSpPr/>
          <p:nvPr/>
        </p:nvCxnSpPr>
        <p:spPr>
          <a:xfrm>
            <a:off x="5452920" y="1712520"/>
            <a:ext cx="396000" cy="337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20" name="Прямая со стрелкой 7"/>
          <p:cNvCxnSpPr/>
          <p:nvPr/>
        </p:nvCxnSpPr>
        <p:spPr>
          <a:xfrm>
            <a:off x="5454360" y="2703240"/>
            <a:ext cx="1080" cy="494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21" name="Прямая со стрелкой 14"/>
          <p:cNvCxnSpPr/>
          <p:nvPr/>
        </p:nvCxnSpPr>
        <p:spPr>
          <a:xfrm>
            <a:off x="3206520" y="2703240"/>
            <a:ext cx="108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048360" cy="3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к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50920" y="5481720"/>
            <a:ext cx="259056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праксия – нарушение целенаправленных движе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Прямоугольник 6"/>
          <p:cNvSpPr/>
          <p:nvPr/>
        </p:nvSpPr>
        <p:spPr>
          <a:xfrm>
            <a:off x="393840" y="466560"/>
            <a:ext cx="244764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7"/>
          <p:cNvSpPr/>
          <p:nvPr/>
        </p:nvSpPr>
        <p:spPr>
          <a:xfrm>
            <a:off x="3046320" y="452520"/>
            <a:ext cx="5689800" cy="230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ое заикание возникает на основе слабости нервной деятельности без гибели самих клеток моз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 может быть в нор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 неожиданное ухудшение при возбуждении, эмоциональных нагрузк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8"/>
          <p:cNvSpPr/>
          <p:nvPr/>
        </p:nvSpPr>
        <p:spPr>
          <a:xfrm>
            <a:off x="393840" y="2989440"/>
            <a:ext cx="2447640" cy="79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9"/>
          <p:cNvSpPr/>
          <p:nvPr/>
        </p:nvSpPr>
        <p:spPr>
          <a:xfrm>
            <a:off x="3046320" y="2989440"/>
            <a:ext cx="5689800" cy="3260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неврологической симптомат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тонуса артикуляционных мыш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ы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акс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внутричерепного давления, вплоть до судорожной готовност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ает как следствие внутриутробных, послеродовых заболеваний,  травм ЦНС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 стабильный характер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тяжести одинакова в разных ситуациях об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к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Прямоугольник 6"/>
          <p:cNvSpPr/>
          <p:nvPr/>
        </p:nvSpPr>
        <p:spPr>
          <a:xfrm>
            <a:off x="393840" y="530280"/>
            <a:ext cx="244764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рот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7"/>
          <p:cNvSpPr/>
          <p:nvPr/>
        </p:nvSpPr>
        <p:spPr>
          <a:xfrm>
            <a:off x="2998800" y="272880"/>
            <a:ext cx="5688000" cy="257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едственное отягощ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ые соматические заболе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и носа, глотки, гортан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покойная обстановка в семь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введение второго языка общени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жание речи заикаю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апряжение тормозного процесса (испуг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8"/>
          <p:cNvSpPr/>
          <p:nvPr/>
        </p:nvSpPr>
        <p:spPr>
          <a:xfrm>
            <a:off x="393840" y="3141720"/>
            <a:ext cx="244764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розоподоб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9"/>
          <p:cNvSpPr/>
          <p:nvPr/>
        </p:nvSpPr>
        <p:spPr>
          <a:xfrm>
            <a:off x="2986200" y="3141720"/>
            <a:ext cx="5700600" cy="352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утробное органическое поражение ЦН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цефалопа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овые травмы, интоксик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речевого развити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ость развития моторики, чувства ритма, артикуляторных движений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ют три степени заик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528480" y="3137040"/>
          <a:ext cx="8158320" cy="1798560"/>
        </p:xfrm>
        <a:graphic>
          <a:graphicData uri="http://schemas.openxmlformats.org/drawingml/2006/table">
            <a:tbl>
              <a:tblPr/>
              <a:tblGrid>
                <a:gridCol w="2719440"/>
                <a:gridCol w="2719440"/>
                <a:gridCol w="2719440"/>
              </a:tblGrid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Заикаются лишь в возбужденном состоянии;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и стремлении быстро высказаться;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Задержки легко преодолеваются.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покойном состоянии и в привычной обстановке, говорят легко и мало заикаются;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 эмоциональном состоянии проявляется сильное заика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Заикаются в течении всей речи, с сопутствующими движениям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br>
                        <a:rPr sz="18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дороги в процессе реч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sp>
        <p:nvSpPr>
          <p:cNvPr id="338" name="Прямоугольник 3"/>
          <p:cNvSpPr/>
          <p:nvPr/>
        </p:nvSpPr>
        <p:spPr>
          <a:xfrm>
            <a:off x="971640" y="1844640"/>
            <a:ext cx="201600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г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4"/>
          <p:cNvSpPr/>
          <p:nvPr/>
        </p:nvSpPr>
        <p:spPr>
          <a:xfrm>
            <a:off x="3276720" y="1844640"/>
            <a:ext cx="201600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5"/>
          <p:cNvSpPr/>
          <p:nvPr/>
        </p:nvSpPr>
        <p:spPr>
          <a:xfrm>
            <a:off x="5724360" y="1835280"/>
            <a:ext cx="201636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яжел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1" name="Прямая со стрелкой 7"/>
          <p:cNvCxnSpPr/>
          <p:nvPr/>
        </p:nvCxnSpPr>
        <p:spPr>
          <a:xfrm>
            <a:off x="1979280" y="2492280"/>
            <a:ext cx="1080" cy="72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42" name="Прямая со стрелкой 9"/>
          <p:cNvCxnSpPr>
            <a:stCxn id="339" idx="2"/>
          </p:cNvCxnSpPr>
          <p:nvPr/>
        </p:nvCxnSpPr>
        <p:spPr>
          <a:xfrm>
            <a:off x="4284360" y="2492280"/>
            <a:ext cx="1080" cy="650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43" name="Прямая со стрелкой 11"/>
          <p:cNvCxnSpPr>
            <a:stCxn id="340" idx="2"/>
          </p:cNvCxnSpPr>
          <p:nvPr/>
        </p:nvCxnSpPr>
        <p:spPr>
          <a:xfrm>
            <a:off x="6732360" y="2482920"/>
            <a:ext cx="1080" cy="65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орог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95280" y="907560"/>
            <a:ext cx="8291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тся основным внешним симптомом заикания в процессе речевого ак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тельность их различна: от 02 сек. до 90 сек. (в тяжелых случая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ются по форме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ические, клонические, смешанны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ются по часто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ются по локализации: голосовые, артикуляционные, смешанные.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тонических судорогах наблюдается короткое толчкообразное или длительное спазматическое сокращение мышц – тонус (выдавливание)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-ополь»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лонических судорогах наблюдается ритмическое, с менее резко выраженным напряжением, повторение одних и тех же судорожных движений мыщц – клонус (повторение): «То-то- тополь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детей, склонных к заика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к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чатлительные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вожные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дчивы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ражительны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ксивые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ятся темнот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ются одни в комнате без взрослых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рудом привыкают к новой обстановк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хо спят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утомляются, быстрая смена настро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речевого развит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 иногда смазанна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 речи ускорен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детей с фактором риска по заика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66560" y="2940120"/>
          <a:ext cx="8229600" cy="2225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2255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язаны к матери, реагируют на изменения её настроения. Дети нередко дают реакцию в виде нарушения сна, аппетита, раздражительности, плаксивости в ответ на резкое изменение окружающей среды (детский сад, длительное отсутствие родител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таких детей первые слова появляются до год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1г.6 мес., появляется фразовая речь, в 2 г. – 2,6 говорят развернутыми фразами. Их речевая активность высока. В этот период речи появляются множественные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ерации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протекает часто в период инспираторный фазы дых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у детей с ЗРР невнятна, с множественными нарушениями звукопроизношения, у детей с родственниками с заиканием и левшей обнаруживается генетическая обусловленность речевой патологии. Дети, воспитывающиеся в семьях с двуязычием, так же находятся в группе рис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350" name="Прямоугольник 4"/>
          <p:cNvSpPr/>
          <p:nvPr/>
        </p:nvSpPr>
        <p:spPr>
          <a:xfrm>
            <a:off x="900000" y="1844640"/>
            <a:ext cx="237672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тревожными чертами характ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5"/>
          <p:cNvSpPr/>
          <p:nvPr/>
        </p:nvSpPr>
        <p:spPr>
          <a:xfrm>
            <a:off x="3384720" y="1844640"/>
            <a:ext cx="237456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ранним речевым развит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6"/>
          <p:cNvSpPr/>
          <p:nvPr/>
        </p:nvSpPr>
        <p:spPr>
          <a:xfrm>
            <a:off x="5867280" y="1844640"/>
            <a:ext cx="237672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ЗРР, левши, родственники с заика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Прямая со стрелкой 8"/>
          <p:cNvCxnSpPr/>
          <p:nvPr/>
        </p:nvCxnSpPr>
        <p:spPr>
          <a:xfrm>
            <a:off x="1979280" y="2349360"/>
            <a:ext cx="108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4" name="Прямая со стрелкой 10"/>
          <p:cNvCxnSpPr/>
          <p:nvPr/>
        </p:nvCxnSpPr>
        <p:spPr>
          <a:xfrm>
            <a:off x="4571640" y="2349000"/>
            <a:ext cx="1080" cy="57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5" name="Прямая со стрелкой 12"/>
          <p:cNvCxnSpPr>
            <a:stCxn id="352" idx="2"/>
          </p:cNvCxnSpPr>
          <p:nvPr/>
        </p:nvCxnSpPr>
        <p:spPr>
          <a:xfrm>
            <a:off x="7056000" y="2349000"/>
            <a:ext cx="1080" cy="57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56" name="Прямоугольник 14"/>
          <p:cNvSpPr/>
          <p:nvPr/>
        </p:nvSpPr>
        <p:spPr>
          <a:xfrm>
            <a:off x="457200" y="6093000"/>
            <a:ext cx="53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Итерация</a:t>
            </a:r>
            <a:r>
              <a:rPr b="0" lang="ru-RU" sz="1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  — повторение какого-либо действия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Первая фаза дыхательного цикла - </a:t>
            </a:r>
            <a:r>
              <a:rPr b="1" lang="ru-RU" sz="1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инспирац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04:08:07Z</dcterms:created>
  <dc:creator>Федотова Виктория Александровна</dc:creator>
  <dc:description/>
  <dc:language>en-US</dc:language>
  <cp:lastModifiedBy>Admin</cp:lastModifiedBy>
  <dcterms:modified xsi:type="dcterms:W3CDTF">2017-10-19T10:57:59Z</dcterms:modified>
  <cp:revision>35</cp:revision>
  <dc:subject/>
  <dc:title>Слайд 1</dc:title>
</cp:coreProperties>
</file>