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10.jpeg" ContentType="image/jpeg"/>
  <Override PartName="/ppt/media/image13.wmf" ContentType="image/x-wmf"/>
  <Override PartName="/ppt/media/image2.gif" ContentType="image/gif"/>
  <Override PartName="/ppt/media/image6.gif" ContentType="image/gif"/>
  <Override PartName="/ppt/media/image17.wmf" ContentType="image/x-wmf"/>
  <Override PartName="/ppt/media/image22.gif" ContentType="image/gif"/>
  <Override PartName="/ppt/media/image21.jpeg" ContentType="image/jpeg"/>
  <Override PartName="/ppt/media/image20.gif" ContentType="image/gif"/>
  <Override PartName="/ppt/media/image12.png" ContentType="image/png"/>
  <Override PartName="/ppt/media/image15.png" ContentType="image/png"/>
  <Override PartName="/ppt/media/image3.gif" ContentType="image/gif"/>
  <Override PartName="/ppt/media/image14.wmf" ContentType="image/x-wmf"/>
  <Override PartName="/ppt/media/image11.wmf" ContentType="image/x-wmf"/>
  <Override PartName="/ppt/media/image23.gif" ContentType="image/gif"/>
  <Override PartName="/ppt/media/image4.wmf" ContentType="image/x-wmf"/>
  <Override PartName="/ppt/media/image19.gif" ContentType="image/gif"/>
  <Override PartName="/ppt/media/image1.png" ContentType="image/png"/>
  <Override PartName="/ppt/media/image5.gif" ContentType="image/gi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C3F8-F22C-4132-9708-830A2848B3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F320-8CBE-498B-8028-22E688249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D55B-4F3A-4D6A-BE93-23DF45B50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трактор меня просто убивает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6C9-1EE9-4712-951F-05DCE5AD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9C1-622E-4BB5-9B8C-B5B9EB32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60B-C1A5-4B7E-AC04-A5F01D46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F6A-E2E7-443C-B731-2EBBFB22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A016-F7D2-4016-9BB6-B3BB4B6A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7A9B-9726-475A-9BE5-060988AE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988E-5546-4BE6-91C0-7D14B6C9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06C5-1EA2-4F92-983F-0ED4CB31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08A1-1CDD-4997-BD8A-D34610F6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E236-134C-4CC7-BB96-2DFE077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0D57-33B1-4294-B91B-1AD9BD84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132-82E3-43E5-894B-D04DBC18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A539-5287-4DB5-B7AD-0B124A18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F839-578C-463E-BC11-127BF08F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F5A7-3EFA-42E3-BF65-6A38BA45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B349-37FB-4BE3-9E80-0DA24367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BD5A-5583-4D23-8E6E-F078E9D4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3837-3DD7-462D-BDEC-6E8F325A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FE3D-7F91-4878-AA23-6AAD58D1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E5DA-1843-4A60-85D2-9961FF6E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4EA9-883C-4D47-9710-B16D6792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DEBE-5FBC-4326-9241-927483B5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BEE-F032-4473-86E1-453930BB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3929-DBA7-4642-8C57-F66ED81A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2FC7A-611E-492A-8893-3B3435F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4AF2-B7C4-4DC6-997C-5EEB7D8F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EE0C-CE40-4498-9597-841560A6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5807-F57C-44A8-A9F6-60F038CE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291E-2F18-4983-AB62-2A3F3D23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4BB1-49F2-4BEE-BED8-674ACA79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F0C-EE4E-4ECF-9F32-8624A769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2F6-789B-46AF-A963-087828E3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CA4-33B6-461B-BC31-510F70AC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AE1-BE1D-4F3D-AC93-B1307094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86D-40A9-45FD-B920-90F98FB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ED0-C834-4621-9120-984D78FC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964A-8208-4EA1-903E-DA0CC688FE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21C8-C238-45F5-90B9-4943B92C6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D29-4706-45AF-9854-0AB031051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 –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8920" y="3141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ДЕЕПРИЧАСТ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11" descr="antn071"/>
          <p:cNvPicPr/>
          <p:nvPr/>
        </p:nvPicPr>
        <p:blipFill>
          <a:blip r:embed="rId1"/>
          <a:stretch/>
        </p:blipFill>
        <p:spPr>
          <a:xfrm>
            <a:off x="250920" y="4508640"/>
            <a:ext cx="2376360" cy="19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HH00625_"/>
          <p:cNvPicPr/>
          <p:nvPr/>
        </p:nvPicPr>
        <p:blipFill>
          <a:blip r:embed="rId1"/>
          <a:stretch/>
        </p:blipFill>
        <p:spPr>
          <a:xfrm>
            <a:off x="0" y="765000"/>
            <a:ext cx="8713800" cy="4896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835280" y="981000"/>
            <a:ext cx="49086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i="1" lang="ru-RU" sz="3600" spc="-1" strike="noStrike">
                <a:solidFill>
                  <a:srgbClr val="9933ff"/>
                </a:solidFill>
                <a:latin typeface="Comic Sans MS"/>
              </a:rPr>
              <a:t>Н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еепричастиями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ишется  </a:t>
            </a:r>
            <a:r>
              <a:rPr b="0" i="1" lang="ru-RU" sz="3600" spc="-1" strike="noStrike">
                <a:solidFill>
                  <a:srgbClr val="9933ff"/>
                </a:solidFill>
                <a:latin typeface="Comic Sans MS"/>
              </a:rPr>
              <a:t>раздельно</a:t>
            </a:r>
            <a:r>
              <a:rPr b="0" lang="ru-RU" sz="3600" spc="-1" strike="noStrike">
                <a:solidFill>
                  <a:srgbClr val="9933ff"/>
                </a:solidFill>
                <a:latin typeface="Comic Sans MS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0af0"/>
                </a:solidFill>
                <a:latin typeface="Comic Sans MS"/>
              </a:rPr>
              <a:t>    </a:t>
            </a:r>
            <a:r>
              <a:rPr b="0" i="1" lang="ru-RU" sz="3600" spc="-1" strike="noStrike">
                <a:solidFill>
                  <a:srgbClr val="980af0"/>
                </a:solidFill>
                <a:latin typeface="Comic Sans MS"/>
              </a:rPr>
              <a:t>Слитно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пишутся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ишь тогда, когда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ово без н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0af0"/>
                </a:solidFill>
                <a:latin typeface="Comic Sans MS"/>
              </a:rPr>
              <a:t>   </a:t>
            </a:r>
            <a:r>
              <a:rPr b="0" i="1" lang="ru-RU" sz="3600" spc="-1" strike="noStrike">
                <a:solidFill>
                  <a:srgbClr val="980af0"/>
                </a:solidFill>
                <a:latin typeface="Comic Sans MS"/>
              </a:rPr>
              <a:t>не употребляетс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13" descr="j0293828"/>
          <p:cNvPicPr/>
          <p:nvPr/>
        </p:nvPicPr>
        <p:blipFill>
          <a:blip r:embed="rId2"/>
          <a:stretch/>
        </p:blipFill>
        <p:spPr>
          <a:xfrm>
            <a:off x="900000" y="26028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" descr="ED00019_"/>
          <p:cNvPicPr/>
          <p:nvPr/>
        </p:nvPicPr>
        <p:blipFill>
          <a:blip r:embed="rId3"/>
          <a:stretch/>
        </p:blipFill>
        <p:spPr>
          <a:xfrm>
            <a:off x="6167520" y="4027320"/>
            <a:ext cx="2976480" cy="2830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3"/>
          <p:cNvSpPr/>
          <p:nvPr/>
        </p:nvSpPr>
        <p:spPr>
          <a:xfrm>
            <a:off x="447120" y="6093000"/>
            <a:ext cx="61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af0"/>
                </a:solidFill>
                <a:latin typeface="Comic Sans MS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 недоумевая, негодуя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теперь маленький те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1. Деепричастие обозна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ризнак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действие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добавочное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признак предмета по дейст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2. Деепричастие соединило в себе признак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глагола и наре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наречия и прилага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прилагательного и причас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глагола и прилага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YBXFCA973YC9CA8T3WT0CAXH1I17CAV13TU5CAS6BJEXCAESBHH4CA41W4GZCAMBNUWLCANCP3HSCADB7A67CA10G7QDCA7J92MXCAIFXE3DCAE7R9HMCAF0631HCAEPHY6WCAGR2VSOCAKCT5VTCAJDAR2X"/>
          <p:cNvPicPr/>
          <p:nvPr/>
        </p:nvPicPr>
        <p:blipFill>
          <a:blip r:embed="rId1"/>
          <a:stretch/>
        </p:blipFill>
        <p:spPr>
          <a:xfrm>
            <a:off x="6084720" y="17002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3.Укажите суффиксы деепричастий совершенного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- ем, -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- вши, - в, -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- ущ, - ю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- вш, - 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4.Каким членом предложения являются деепричас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доп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обстоя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подлежа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) сказу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HH00546_"/>
          <p:cNvPicPr/>
          <p:nvPr/>
        </p:nvPicPr>
        <p:blipFill>
          <a:blip r:embed="rId1"/>
          <a:stretch/>
        </p:blipFill>
        <p:spPr>
          <a:xfrm>
            <a:off x="6156360" y="4149720"/>
            <a:ext cx="2389320" cy="24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ff"/>
                </a:solidFill>
                <a:uFillTx/>
                <a:latin typeface="Arial"/>
              </a:rPr>
              <a:t>Задание</a:t>
            </a: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: распредели слова по колонкам,       </a:t>
            </a:r>
            <a:br>
              <a:rPr sz="2800"/>
            </a:b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      поставив                  =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00200"/>
          <a:ext cx="8362800" cy="506880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е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Вечер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реп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ис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Закры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Нечаян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Откину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71" descr="0264"/>
          <p:cNvPicPr/>
          <p:nvPr/>
        </p:nvPicPr>
        <p:blipFill>
          <a:blip r:embed="rId1"/>
          <a:stretch/>
        </p:blipFill>
        <p:spPr>
          <a:xfrm>
            <a:off x="3059280" y="3860640"/>
            <a:ext cx="663480" cy="598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3" descr="0264"/>
          <p:cNvPicPr/>
          <p:nvPr/>
        </p:nvPicPr>
        <p:blipFill>
          <a:blip r:embed="rId2"/>
          <a:stretch/>
        </p:blipFill>
        <p:spPr>
          <a:xfrm>
            <a:off x="5219640" y="3213000"/>
            <a:ext cx="663480" cy="598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4" descr="0264"/>
          <p:cNvPicPr/>
          <p:nvPr/>
        </p:nvPicPr>
        <p:blipFill>
          <a:blip r:embed="rId3"/>
          <a:stretch/>
        </p:blipFill>
        <p:spPr>
          <a:xfrm>
            <a:off x="3132000" y="2492280"/>
            <a:ext cx="663840" cy="598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6" descr="0264"/>
          <p:cNvPicPr/>
          <p:nvPr/>
        </p:nvPicPr>
        <p:blipFill>
          <a:blip r:embed="rId4"/>
          <a:stretch/>
        </p:blipFill>
        <p:spPr>
          <a:xfrm>
            <a:off x="7308720" y="4581360"/>
            <a:ext cx="663840" cy="598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7" descr="0264"/>
          <p:cNvPicPr/>
          <p:nvPr/>
        </p:nvPicPr>
        <p:blipFill>
          <a:blip r:embed="rId5"/>
          <a:stretch/>
        </p:blipFill>
        <p:spPr>
          <a:xfrm>
            <a:off x="5219640" y="5300640"/>
            <a:ext cx="663480" cy="598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8" descr="0264"/>
          <p:cNvPicPr/>
          <p:nvPr/>
        </p:nvPicPr>
        <p:blipFill>
          <a:blip r:embed="rId6"/>
          <a:stretch/>
        </p:blipFill>
        <p:spPr>
          <a:xfrm>
            <a:off x="7236000" y="6021360"/>
            <a:ext cx="663480" cy="598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0" descr="0264"/>
          <p:cNvPicPr/>
          <p:nvPr/>
        </p:nvPicPr>
        <p:blipFill>
          <a:blip r:embed="rId7"/>
          <a:stretch/>
        </p:blipFill>
        <p:spPr>
          <a:xfrm>
            <a:off x="5003640" y="620640"/>
            <a:ext cx="100836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5"/>
          <p:cNvSpPr/>
          <p:nvPr/>
        </p:nvSpPr>
        <p:spPr>
          <a:xfrm>
            <a:off x="5003640" y="549360"/>
            <a:ext cx="3168720" cy="1617480"/>
          </a:xfrm>
          <a:prstGeom prst="cloudCallout">
            <a:avLst>
              <a:gd name="adj1" fmla="val -24949"/>
              <a:gd name="adj2" fmla="val 78166"/>
            </a:avLst>
          </a:prstGeom>
          <a:gradFill rotWithShape="0">
            <a:gsLst>
              <a:gs pos="0">
                <a:srgbClr val="ffb8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Comic Sans MS"/>
              </a:rPr>
              <a:t>Молодец!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Comic Sans MS"/>
              </a:rPr>
              <a:t>Так держа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7" descr="t2030[1]"/>
          <p:cNvPicPr/>
          <p:nvPr/>
        </p:nvPicPr>
        <p:blipFill>
          <a:blip r:embed="rId1"/>
          <a:stretch/>
        </p:blipFill>
        <p:spPr>
          <a:xfrm>
            <a:off x="3203640" y="2708280"/>
            <a:ext cx="3240000" cy="2116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36395347_20081007152411"/>
          <p:cNvPicPr/>
          <p:nvPr/>
        </p:nvPicPr>
        <p:blipFill>
          <a:blip r:embed="rId2"/>
          <a:stretch/>
        </p:blipFill>
        <p:spPr>
          <a:xfrm>
            <a:off x="0" y="3105000"/>
            <a:ext cx="3181320" cy="37530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0"/>
          <p:cNvSpPr/>
          <p:nvPr/>
        </p:nvSpPr>
        <p:spPr>
          <a:xfrm>
            <a:off x="250920" y="1197000"/>
            <a:ext cx="2663640" cy="1258920"/>
          </a:xfrm>
          <a:prstGeom prst="cloudCallout">
            <a:avLst>
              <a:gd name="adj1" fmla="val 3157"/>
              <a:gd name="adj2" fmla="val 109898"/>
            </a:avLst>
          </a:prstGeom>
          <a:gradFill rotWithShape="0">
            <a:gsLst>
              <a:gs pos="0">
                <a:srgbClr val="00b200"/>
              </a:gs>
              <a:gs pos="50000">
                <a:srgbClr val="ffff09"/>
              </a:gs>
              <a:gs pos="100000">
                <a:srgbClr val="00b2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а я умный однако!!!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2" descr="нег"/>
          <p:cNvPicPr/>
          <p:nvPr/>
        </p:nvPicPr>
        <p:blipFill>
          <a:blip r:embed="rId1"/>
          <a:stretch/>
        </p:blipFill>
        <p:spPr>
          <a:xfrm>
            <a:off x="900000" y="0"/>
            <a:ext cx="7128000" cy="3411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нег"/>
          <p:cNvPicPr/>
          <p:nvPr/>
        </p:nvPicPr>
        <p:blipFill>
          <a:blip r:embed="rId2"/>
          <a:stretch/>
        </p:blipFill>
        <p:spPr>
          <a:xfrm rot="10800000">
            <a:off x="900000" y="3246120"/>
            <a:ext cx="7128000" cy="3611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0149[1]"/>
          <p:cNvPicPr/>
          <p:nvPr/>
        </p:nvPicPr>
        <p:blipFill>
          <a:blip r:embed="rId3"/>
          <a:stretch/>
        </p:blipFill>
        <p:spPr>
          <a:xfrm>
            <a:off x="2916360" y="2205000"/>
            <a:ext cx="4824360" cy="24480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15"/>
          <p:cNvSpPr/>
          <p:nvPr/>
        </p:nvSpPr>
        <p:spPr>
          <a:xfrm>
            <a:off x="324000" y="476280"/>
            <a:ext cx="4464000" cy="1617480"/>
          </a:xfrm>
          <a:prstGeom prst="wedgeEllipseCallout">
            <a:avLst>
              <a:gd name="adj1" fmla="val 26032"/>
              <a:gd name="adj2" fmla="val 96125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помни: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ЕЕПРИЧАСТИЕ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КРУТО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3357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Деепричаст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– особая форма глагола, которая обозначает добавочное действие при основном действии, выраженном глаголо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14"/>
          <p:cNvSpPr/>
          <p:nvPr/>
        </p:nvSpPr>
        <p:spPr>
          <a:xfrm rot="20208000">
            <a:off x="326880" y="2023560"/>
            <a:ext cx="1209960" cy="117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1116000" y="476280"/>
            <a:ext cx="1511280" cy="144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оль деепричастия в действ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)Деепричастия дорисовывают основное действие, делают речь точнее и ярч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)Предложения с деепричастиями более выразительны, живопис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0" descr="Рисунок1"/>
          <p:cNvPicPr/>
          <p:nvPr/>
        </p:nvPicPr>
        <p:blipFill>
          <a:blip r:embed="rId1"/>
          <a:stretch/>
        </p:blipFill>
        <p:spPr>
          <a:xfrm>
            <a:off x="0" y="2997360"/>
            <a:ext cx="2087640" cy="129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12"/>
          <p:cNvSpPr/>
          <p:nvPr/>
        </p:nvSpPr>
        <p:spPr>
          <a:xfrm rot="183000">
            <a:off x="0" y="2781000"/>
            <a:ext cx="4032360" cy="3676680"/>
          </a:xfrm>
          <a:prstGeom prst="wedgeEllipseCallout">
            <a:avLst>
              <a:gd name="adj1" fmla="val 18490"/>
              <a:gd name="adj2" fmla="val 533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3"/>
          <p:cNvSpPr/>
          <p:nvPr/>
        </p:nvSpPr>
        <p:spPr>
          <a:xfrm rot="21452400">
            <a:off x="2556000" y="5733720"/>
            <a:ext cx="2498760" cy="825480"/>
          </a:xfrm>
          <a:prstGeom prst="wedgeEllipseCallout">
            <a:avLst>
              <a:gd name="adj1" fmla="val -3495"/>
              <a:gd name="adj2" fmla="val 15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2700360" y="1484280"/>
            <a:ext cx="4067280" cy="3889440"/>
          </a:xfrm>
          <a:prstGeom prst="wedgeEllipseCallout">
            <a:avLst>
              <a:gd name="adj1" fmla="val -7648"/>
              <a:gd name="adj2" fmla="val -13879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21" descr="hk"/>
          <p:cNvPicPr/>
          <p:nvPr/>
        </p:nvPicPr>
        <p:blipFill>
          <a:blip r:embed="rId3"/>
          <a:stretch/>
        </p:blipFill>
        <p:spPr>
          <a:xfrm>
            <a:off x="6227640" y="4869000"/>
            <a:ext cx="1432080" cy="1989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" descr="пи"/>
          <p:cNvPicPr/>
          <p:nvPr/>
        </p:nvPicPr>
        <p:blipFill>
          <a:blip r:embed="rId4"/>
          <a:stretch/>
        </p:blipFill>
        <p:spPr>
          <a:xfrm>
            <a:off x="-1549440" y="1773360"/>
            <a:ext cx="865080" cy="7477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28"/>
          <p:cNvSpPr/>
          <p:nvPr/>
        </p:nvSpPr>
        <p:spPr>
          <a:xfrm>
            <a:off x="6012000" y="3213000"/>
            <a:ext cx="2808000" cy="1440000"/>
          </a:xfrm>
          <a:prstGeom prst="cloudCallout">
            <a:avLst>
              <a:gd name="adj1" fmla="val -10939"/>
              <a:gd name="adj2" fmla="val 67199"/>
            </a:avLst>
          </a:prstGeom>
          <a:gradFill rotWithShape="0">
            <a:gsLst>
              <a:gs pos="0">
                <a:srgbClr val="33ccff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Ярче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29"/>
          <p:cNvSpPr/>
          <p:nvPr/>
        </p:nvSpPr>
        <p:spPr>
          <a:xfrm>
            <a:off x="-181080" y="189000"/>
            <a:ext cx="4175280" cy="1258920"/>
          </a:xfrm>
          <a:prstGeom prst="wedgeEllipseCallout">
            <a:avLst>
              <a:gd name="adj1" fmla="val 23726"/>
              <a:gd name="adj2" fmla="val 85180"/>
            </a:avLst>
          </a:prstGeom>
          <a:gradFill rotWithShape="0">
            <a:gsLst>
              <a:gs pos="0">
                <a:srgbClr val="bba3ff"/>
              </a:gs>
              <a:gs pos="100000">
                <a:srgbClr val="ff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живописнее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34"/>
          <p:cNvSpPr/>
          <p:nvPr/>
        </p:nvSpPr>
        <p:spPr>
          <a:xfrm>
            <a:off x="2987640" y="4365720"/>
            <a:ext cx="2664000" cy="249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лнышк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лыбается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елая теб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рошего дня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35"/>
          <p:cNvSpPr/>
          <p:nvPr/>
        </p:nvSpPr>
        <p:spPr>
          <a:xfrm>
            <a:off x="4716360" y="0"/>
            <a:ext cx="4427640" cy="2276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У Миш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олнующий день. Сегодн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дарив своей подруге эти розы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н хоче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ригласить ее на лужайку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46821E-006 L 0.42118 3.46821E-006 E">
                                      <p:cBhvr>
                                        <p:cTn id="21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епричастие быв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0" y="1916280"/>
            <a:ext cx="8856720" cy="42973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000" spc="-1" strike="noStrike">
                <a:solidFill>
                  <a:srgbClr val="9966ff"/>
                </a:solidFill>
                <a:latin typeface="Comic Sans MS"/>
              </a:rPr>
              <a:t>несовершенного    и    совершенног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ff"/>
                </a:solidFill>
                <a:latin typeface="Comic Sans MS"/>
              </a:rPr>
              <a:t>                                   </a:t>
            </a:r>
            <a:r>
              <a:rPr b="1" lang="ru-RU" sz="2000" spc="-1" strike="noStrike">
                <a:solidFill>
                  <a:srgbClr val="9966ff"/>
                </a:solidFill>
                <a:latin typeface="Comic Sans MS"/>
              </a:rPr>
              <a:t>вида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пример:                 Например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сидя;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-послуша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улыбаясь;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-успокоившис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слыша;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-принесш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рассчитывая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-остановивши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000" spc="-1" strike="noStrike">
                <a:solidFill>
                  <a:srgbClr val="9966ff"/>
                </a:solidFill>
                <a:latin typeface="Comic Sans MS"/>
              </a:rPr>
              <a:t>-а (-я)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9966ff"/>
                </a:solidFill>
                <a:latin typeface="Comic Sans MS"/>
              </a:rPr>
              <a:t>-в, -вши, -ш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987640" y="3429000"/>
            <a:ext cx="91440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ДЕЕПРИЧАСТНЫЙ ОБОРОТ =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39640" y="4051080"/>
            <a:ext cx="76327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= деепричастие +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+ зависимое сло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мечание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деепричастный оборот обособляется с двух сторо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5640" y="400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епричастие сохраняет вид глагола, от которого оно образовано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Выйдя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сов. в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на опушку леса, я остановился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Н. Рыленков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Батареи медным строем скачут и гремят, и, дымясь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несов. в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как перед боем, фитили горят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М. Лермонтов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11" descr="1232874380_malakhov"/>
          <p:cNvPicPr/>
          <p:nvPr/>
        </p:nvPicPr>
        <p:blipFill>
          <a:blip r:embed="rId1"/>
          <a:stretch/>
        </p:blipFill>
        <p:spPr>
          <a:xfrm>
            <a:off x="6516720" y="4606920"/>
            <a:ext cx="187164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4365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епричастие может быть возвратным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прижимаяс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дымясь.</a:t>
            </a: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епричастие может иметь зависимое слово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положив голову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прислонившись к берёз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5" descr="HH00546_"/>
          <p:cNvPicPr/>
          <p:nvPr/>
        </p:nvPicPr>
        <p:blipFill>
          <a:blip r:embed="rId1"/>
          <a:stretch/>
        </p:blipFill>
        <p:spPr>
          <a:xfrm>
            <a:off x="6089760" y="4149720"/>
            <a:ext cx="2178000" cy="22273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3455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епричастие – неизменяемая часть реч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5" descr="HH00623_"/>
          <p:cNvPicPr/>
          <p:nvPr/>
        </p:nvPicPr>
        <p:blipFill>
          <a:blip r:embed="rId1"/>
          <a:stretch/>
        </p:blipFill>
        <p:spPr>
          <a:xfrm>
            <a:off x="5219640" y="4724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63360" y="746280"/>
            <a:ext cx="9534600" cy="268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9:41:59Z</dcterms:created>
  <dc:creator>Customer</dc:creator>
  <dc:description/>
  <dc:language>en-US</dc:language>
  <cp:lastModifiedBy>RePack by Diakov</cp:lastModifiedBy>
  <dcterms:modified xsi:type="dcterms:W3CDTF">2019-12-10T13:33:52Z</dcterms:modified>
  <cp:revision>21</cp:revision>
  <dc:subject/>
  <dc:title>Слайд 1</dc:title>
</cp:coreProperties>
</file>