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493-6967-483A-80C6-672AEBB2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027-4DF6-456C-AF5E-DFEEA0A1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89C-1E2E-467E-ACF4-81CB3FDF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698-0805-4A22-AF69-158230FD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4BCC-D993-427C-AC41-ECC42637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89F6-896C-4D0E-8351-B5AC9CA2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B479-B6BE-4381-B2E9-87B10674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4937-40B6-4205-B0D7-1CA22A96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7A0C-199C-4FD2-9C36-29897FF3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A8AF-E592-47C2-8BD1-A3DE58BF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C2F3-D0FB-4AB9-BE5F-86A678F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FF0-9B21-41AF-9EA9-7AEB23EA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3362-45C6-4920-A3B6-94D5F9B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560E-D4B0-432A-80D7-0DBEC022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5E3-4E75-433F-8E5F-A53E294A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08E9-EA60-4BFB-AD7A-802DB2F6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3AB9-2EEE-4DD2-BA6E-2F59C7F0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4D02-05CE-4E1F-8E1F-57405C12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7C89-273A-4956-ACE5-A1110117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12CE-3736-4EA4-8E17-FBBD3919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E6DD-7B05-40F0-876A-2CB4D19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CC98-B2D9-43BE-A4B9-A2AC8914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CFC-D611-460E-92EB-F7061208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9D7D-EDA0-4E73-881B-59EF9A5B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A600E-772D-4B61-81F8-00FC5F62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75A1-5B87-496F-9BD9-0957B9F4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2AB5-1378-4195-806B-77EFF7D6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71EB-D870-401E-AD0F-76929C8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7476-31E6-40DE-8BA9-5FED3EDB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A2B8-EB01-4A7F-80F9-07E2D61E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8BA-8A0A-4552-BB74-9E6A7C96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F41-08CA-4A99-A16B-09B8AB16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DEA-0AC6-42D4-AA47-4D6341E2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330-2266-4FAB-ACA8-E910B244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1EE-D770-4443-8C57-A1B566EC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9D4-BA03-42EA-B6D8-C00AB7BB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6139A1-F014-469A-B3C4-825CEEAC4289}" type="slidenum">
              <a:rPr b="0" lang="ru-RU" sz="1200" spc="-1" strike="noStrike">
                <a:solidFill>
                  <a:srgbClr val="d38e2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F98BE7-5AA5-4780-8673-78B9681E0308}" type="slidenum">
              <a:rPr b="0" lang="ru-RU" sz="1200" spc="-1" strike="noStrike">
                <a:solidFill>
                  <a:srgbClr val="d38e2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DE555A-0154-4D15-B559-AE878C444689}" type="slidenum">
              <a:rPr b="0" lang="ru-RU" sz="1200" spc="-1" strike="noStrike">
                <a:solidFill>
                  <a:srgbClr val="d38e2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imals-wild.ru/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nimals-wild.ru/zemnovodnye-zhivotnye/56-lyagushki.html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3200040" cy="11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ПРОЕКТ</a:t>
            </a:r>
            <a:br>
              <a:rPr sz="4400"/>
            </a:b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«Долгопят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icture 5"/>
          <p:cNvSpPr/>
          <p:nvPr/>
        </p:nvSpPr>
        <p:spPr>
          <a:xfrm>
            <a:off x="4081680" y="914400"/>
            <a:ext cx="4857120" cy="56718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609480" y="1828800"/>
            <a:ext cx="2895120" cy="502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3 «Д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еленова По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Сылвенская средня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6672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3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mbria"/>
              </a:rPr>
              <a:t>Долгопяты проводят большую часть дня, уютно устроившись на подходящей ветке, и выходят на охоту только с наступлением сумерек. Кроме всего, огромные желтые глаза долгопятов светятся в темнот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Cambria"/>
              </a:rPr>
              <a:t>и всегда направлены вперед и не могут поворачиваться в глазницах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0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icture 2"/>
          <p:cNvSpPr/>
          <p:nvPr/>
        </p:nvSpPr>
        <p:spPr>
          <a:xfrm>
            <a:off x="4648320" y="1600200"/>
            <a:ext cx="3900960" cy="48765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066680" y="1295280"/>
            <a:ext cx="708624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стное население пытается вылавливать этих живоных, но приручить их жить вневоле невозможно, животное рвется на свободу и разбивает свою крохотную головку о прутья клетки и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стные жители охотятся на этих зверьков и употребляют их в пищу, хотя мясо их не вкус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 </a:t>
            </a:r>
            <a:r>
              <a:rPr b="0" lang="ru-RU" sz="2400" spc="-1" strike="noStrike" u="sng">
                <a:solidFill>
                  <a:srgbClr val="ad1f1f"/>
                </a:solidFill>
                <a:uFillTx/>
                <a:latin typeface="Comic Sans MS"/>
                <a:hlinkClick r:id="rId1"/>
              </a:rPr>
              <a:t>дикой природ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долгопяты живут около 10 лет. Они занесены в Красную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1295280" y="2209680"/>
            <a:ext cx="67813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ходе работы я  узнала  о необычных экзотическом животном мира. Информация, которую я нашла, оказалась для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еня очень полезной. Я работала со многими  источниками , я расширила свой  кругозор  и  с радостью буду рассказывать об этом удивительном экзотическом животном своим друзьям и  взрослым.В дальнейшем я продолжу изучение других видов экзотически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2971800" y="1600200"/>
            <a:ext cx="266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495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Cambria"/>
              </a:rPr>
              <a:t>Спасибо за внимание!</a:t>
            </a:r>
            <a:endParaRPr b="0" lang="ru-RU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icture 2"/>
          <p:cNvSpPr/>
          <p:nvPr/>
        </p:nvSpPr>
        <p:spPr>
          <a:xfrm>
            <a:off x="685800" y="594000"/>
            <a:ext cx="7695720" cy="432864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6864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                            </a:t>
            </a: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Введение</a:t>
            </a:r>
            <a:br>
              <a:rPr sz="3600"/>
            </a:b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Я </a:t>
            </a:r>
            <a:r>
              <a:rPr b="0" lang="ru-RU" sz="2700" spc="-1" strike="noStrike" cap="all">
                <a:solidFill>
                  <a:srgbClr val="4e3b30"/>
                </a:solidFill>
                <a:latin typeface="Franklin Gothic Medium"/>
              </a:rPr>
              <a:t>очень люблю животных</a:t>
            </a: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. Ч</a:t>
            </a:r>
            <a:r>
              <a:rPr b="0" lang="ru-RU" sz="2700" spc="-1" strike="noStrike" cap="all">
                <a:solidFill>
                  <a:srgbClr val="4e3b30"/>
                </a:solidFill>
                <a:latin typeface="Franklin Gothic Medium"/>
              </a:rPr>
              <a:t>асто смотрю по телевизору программы ,читаю книги о них. Однажды я увидела небольшой эпизод об удивительном ,милом крохотном животном. Мне захотелось узнать о нём побольше информации и я начала исследовать эту тему.</a:t>
            </a:r>
            <a:endParaRPr b="0" lang="ru-RU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295280" y="1447920"/>
            <a:ext cx="586692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Цель проек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знакомиться с необычным видом экзотического животного Долгоп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Задачи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йти информацию в разных источниках об исследуемом живот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Поделиться своими знаниями с однокласс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Учиться бережно относиться к живо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Расширить свой круго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295280" y="1523880"/>
            <a:ext cx="678132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План работы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1. Актуализация 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2.Экзотическое животное.</a:t>
            </a:r>
            <a:br>
              <a:rPr sz="3600"/>
            </a:br>
            <a:r>
              <a:rPr b="1" lang="ru-RU" sz="3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3. 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133720" y="1664280"/>
            <a:ext cx="4495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т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льность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14400" y="2514600"/>
            <a:ext cx="70099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ктуальность темы заключается в том, что в современном мире всё меньше и меньше остаётся разных видов редких животных, которых нужно оберегать. Если исчезнут животные, то и человечеству грозит экологическая катастрофа. Поэтому человечество должно задуматься над этим и не уничтожать животных, а охранять их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4000"/>
          </a:bodyPr>
          <a:p>
            <a:pPr indent="0">
              <a:lnSpc>
                <a:spcPct val="100000"/>
              </a:lnSpc>
              <a:buNone/>
            </a:pPr>
            <a:br>
              <a:rPr sz="3800"/>
            </a:br>
            <a:endParaRPr b="0" lang="ru-RU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229240" cy="49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Cambria"/>
              </a:rPr>
              <a:t>Крошечные ,но очень забавные зверьки Долгопяты живут в Юго-Восточной Азии и многих прилегающих островах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icture 2"/>
          <p:cNvSpPr/>
          <p:nvPr/>
        </p:nvSpPr>
        <p:spPr>
          <a:xfrm>
            <a:off x="1447920" y="1964880"/>
            <a:ext cx="5943240" cy="4778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51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600" spc="-1" strike="noStrike">
                <a:solidFill>
                  <a:srgbClr val="4e3b30"/>
                </a:solidFill>
                <a:latin typeface="Cambria"/>
              </a:rPr>
              <a:t>Основным питанием долгопятов являются насекомые и мелкие позвоночные. Долгопяты — единственные приматы, питающиеся исключительно животной пищей</a:t>
            </a:r>
            <a:endParaRPr b="0" lang="ru-RU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icture 2"/>
          <p:cNvSpPr/>
          <p:nvPr/>
        </p:nvSpPr>
        <p:spPr>
          <a:xfrm>
            <a:off x="2057400" y="2514600"/>
            <a:ext cx="5279400" cy="3514320"/>
          </a:xfrm>
          <a:prstGeom prst="roundRect">
            <a:avLst>
              <a:gd name="adj" fmla="val 11111"/>
            </a:avLst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tl" blurRad="101520" dir="7190755" dist="50636" rotWithShape="0">
              <a:srgbClr val="000000">
                <a:alpha val="45000"/>
              </a:srgbClr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04560" y="1599840"/>
            <a:ext cx="5288400" cy="40190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147" name="TextBox 2"/>
          <p:cNvSpPr/>
          <p:nvPr/>
        </p:nvSpPr>
        <p:spPr>
          <a:xfrm>
            <a:off x="5715000" y="609480"/>
            <a:ext cx="3047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лгопяты — небольшие зверьки, длина их тела составляет от 8,5 до 16 см, а длина хвоста – от 13 до 27 см. Масса  от 80 до 160 граммов. Их особо выделяют длинные задние конечности, крупная округлая голова, способная поворачиваться почти на 360°, а также хороший слу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icture 2"/>
          <p:cNvSpPr/>
          <p:nvPr/>
        </p:nvSpPr>
        <p:spPr>
          <a:xfrm>
            <a:off x="304920" y="990720"/>
            <a:ext cx="5943240" cy="5257440"/>
          </a:xfrm>
          <a:prstGeom prst="roundRect">
            <a:avLst>
              <a:gd name="adj" fmla="val 11111"/>
            </a:avLst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tl" blurRad="101520" dir="7190755" dist="50636" rotWithShape="0">
              <a:srgbClr val="000000">
                <a:alpha val="45000"/>
              </a:srgbClr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6324480" y="533520"/>
            <a:ext cx="2514240" cy="50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ние лапки зверька интересны сильно выдающейся и удлиненной пяткой на ступне. Отличная отталкивающая опора при прыжке, который может достигнуть в длину 250см, а в высоту – 175 см. Но как ему это удается, ведь он такой маленький? В момент прыжка, лапы вытягиваются, это похоже на 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Comic Sans MS"/>
                <a:hlinkClick r:id="rId2"/>
              </a:rPr>
              <a:t>лягуш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345</TotalTime>
  <Application>LibreOffice/7.4.7.2$Linux_X86_64 LibreOffice_project/40$Build-2</Application>
  <AppVersion>15.0000</AppVersion>
  <Words>376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Учитель</dc:creator>
  <dc:description/>
  <dc:language>en-US</dc:language>
  <cp:lastModifiedBy>Олег</cp:lastModifiedBy>
  <cp:lastPrinted>1601-01-01T00:00:00Z</cp:lastPrinted>
  <dcterms:modified xsi:type="dcterms:W3CDTF">2019-05-11T03:40:1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  <property fmtid="{D5CDD505-2E9C-101B-9397-08002B2CF9AE}" pid="4" name="Version">
    <vt:r8>1</vt:r8>
  </property>
</Properties>
</file>