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AF2-1D6E-4949-A9C7-5AB9B6EE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718-DB74-4518-A75E-7C019F00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C49-CBC9-4A00-90A4-C6E2AA1C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48FD-8F10-4FB1-98BF-21F3C1DF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BB5-E6ED-4E4B-9FA4-47F1C190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77B-B917-4F90-A10E-0B1FA80F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87C-93D5-4957-8025-35237CD6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3A2-429D-469E-B565-D051776E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D49-8992-4854-85AA-5905D7D7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43A-83CF-4973-AC3A-EF6BECF4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008-E9B7-44C3-8F10-B16C773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DCD-1DEB-439F-AB7F-A0C15ABF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626C-A92B-4E1F-8825-D6D8664D9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«Экспериментирование в подготовительной групп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0823973-Illustration-of-Kids-Conducting-an-Experiment-Stock-Photo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imes New Roman"/>
              </a:rPr>
              <a:t>То, что я услышал, я забыл.</a:t>
            </a:r>
            <a:br>
              <a:rPr sz="2800"/>
            </a:br>
            <a:r>
              <a:rPr b="1" i="1" lang="ru-RU" sz="2800" spc="-1" strike="noStrike">
                <a:solidFill>
                  <a:srgbClr val="33cc33"/>
                </a:solidFill>
                <a:latin typeface="Times New Roman"/>
              </a:rPr>
              <a:t>То, что я увидел, я помню.</a:t>
            </a:r>
            <a:br>
              <a:rPr sz="2800"/>
            </a:br>
            <a:r>
              <a:rPr b="1" i="1" lang="ru-RU" sz="2800" spc="-1" strike="noStrike">
                <a:solidFill>
                  <a:srgbClr val="33cc33"/>
                </a:solidFill>
                <a:latin typeface="Times New Roman"/>
              </a:rPr>
              <a:t>То, что я сделал, я знаю.</a:t>
            </a:r>
            <a:br>
              <a:rPr sz="2800"/>
            </a:b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Китайская посло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F:\фото эксперимент\Lenovo_A1000_IMG_20171020_093250.jpg"/>
          <p:cNvPicPr/>
          <p:nvPr/>
        </p:nvPicPr>
        <p:blipFill>
          <a:blip r:embed="rId1"/>
          <a:srcRect l="23550" t="3906" r="2258" b="26953"/>
          <a:stretch/>
        </p:blipFill>
        <p:spPr>
          <a:xfrm>
            <a:off x="1295280" y="2209680"/>
            <a:ext cx="6782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етское экспериментирование имеет следующие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здание условий для формирования у ребенка целостной картины мира, окружающих предметов и явл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витие эмоционально-ценностной сферы л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огащение словарного  запаса и общего багажа зн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вершенствование коммуникативных навыков, способности к сотрудничеству со сверстниками и педаго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F:\фото эксперимент\фото с телефона леново 363.jpg"/>
          <p:cNvPicPr/>
          <p:nvPr/>
        </p:nvPicPr>
        <p:blipFill>
          <a:blip r:embed="rId1"/>
          <a:srcRect l="30872" t="0" r="8867" b="7032"/>
          <a:stretch/>
        </p:blipFill>
        <p:spPr>
          <a:xfrm>
            <a:off x="5105520" y="3429000"/>
            <a:ext cx="3276360" cy="312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:\фото эксперимент\Lenovo_A1000_IMG_20170418_172825.jpg"/>
          <p:cNvPicPr/>
          <p:nvPr/>
        </p:nvPicPr>
        <p:blipFill>
          <a:blip r:embed="rId2"/>
          <a:srcRect l="22852" t="16055" r="15584" b="0"/>
          <a:stretch/>
        </p:blipFill>
        <p:spPr>
          <a:xfrm>
            <a:off x="1219320" y="3429000"/>
            <a:ext cx="2819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опытно-экспериментальной деятельнос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 детьми 6-7 л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вающ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спитательные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:\фото эксперимент\Lenovo_A1000_IMG_20170417_102342.jpg"/>
          <p:cNvPicPr/>
          <p:nvPr/>
        </p:nvPicPr>
        <p:blipFill>
          <a:blip r:embed="rId1"/>
          <a:srcRect l="0" t="27410" r="0" b="7389"/>
          <a:stretch/>
        </p:blipFill>
        <p:spPr>
          <a:xfrm>
            <a:off x="2514600" y="2841480"/>
            <a:ext cx="2514600" cy="304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F:\экология\IMG-20170405-WA0102.jpg"/>
          <p:cNvPicPr/>
          <p:nvPr/>
        </p:nvPicPr>
        <p:blipFill>
          <a:blip r:embed="rId2"/>
          <a:stretch/>
        </p:blipFill>
        <p:spPr>
          <a:xfrm>
            <a:off x="5334120" y="2819520"/>
            <a:ext cx="2625480" cy="308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:\экология\IMG-20170405-WA0104.jpg"/>
          <p:cNvPicPr/>
          <p:nvPr/>
        </p:nvPicPr>
        <p:blipFill>
          <a:blip r:embed="rId3"/>
          <a:srcRect l="11085" t="0" r="55145" b="0"/>
          <a:stretch/>
        </p:blipFill>
        <p:spPr>
          <a:xfrm>
            <a:off x="457200" y="2819520"/>
            <a:ext cx="15238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Форм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гры-путеше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гры: дидактические, игры-эксперимен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ыты и эксперимен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блюдения и практические исследования на прогул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екты по эксперимента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F:\фото эксперимент\Lenovo_A1000_IMG_20170417_105517.jpg"/>
          <p:cNvPicPr/>
          <p:nvPr/>
        </p:nvPicPr>
        <p:blipFill>
          <a:blip r:embed="rId1"/>
          <a:srcRect l="12173" t="0" r="11781" b="0"/>
          <a:stretch/>
        </p:blipFill>
        <p:spPr>
          <a:xfrm>
            <a:off x="762120" y="2666880"/>
            <a:ext cx="2859120" cy="312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F:\фото эксперимент\фото с телефона леново 359.jpg"/>
          <p:cNvPicPr/>
          <p:nvPr/>
        </p:nvPicPr>
        <p:blipFill>
          <a:blip r:embed="rId2"/>
          <a:srcRect l="0" t="8693" r="7707" b="0"/>
          <a:stretch/>
        </p:blipFill>
        <p:spPr>
          <a:xfrm>
            <a:off x="4724280" y="2666880"/>
            <a:ext cx="2819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ello_html_m11a7662e"/>
          <p:cNvPicPr/>
          <p:nvPr/>
        </p:nvPicPr>
        <p:blipFill>
          <a:blip r:embed="rId1"/>
          <a:stretch/>
        </p:blipFill>
        <p:spPr>
          <a:xfrm>
            <a:off x="1447920" y="1143000"/>
            <a:ext cx="7543800" cy="5562720"/>
          </a:xfrm>
          <a:prstGeom prst="rect">
            <a:avLst/>
          </a:prstGeom>
          <a:ln w="12600">
            <a:solidFill>
              <a:srgbClr val="33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15:43:49Z</dcterms:created>
  <dc:creator>Домашний</dc:creator>
  <dc:description/>
  <dc:language>en-US</dc:language>
  <cp:lastModifiedBy>User</cp:lastModifiedBy>
  <dcterms:modified xsi:type="dcterms:W3CDTF">2019-11-19T12:46:1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