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A21BE-E762-4C2C-8D94-4BDCD537E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FE943-31DE-4ACD-AC2D-CC5F80948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30AD1-EA7E-40F6-9F43-0ACC6746D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A0D4B-F2D2-4147-B9EA-9135B964D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390D5-EEF5-4228-AD20-748F94B68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6ECB4-4F19-4383-B552-1EB0CB8EDB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695F2-8FD1-43D0-9653-67A1B568E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48D8E-7B57-4E25-8FE3-89060B2E5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05B38-5CE8-4AAE-9B31-36A9D377A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CD7BE-C35C-4A5D-B68B-3496F8BE9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85F-5545-4761-9AC2-24DC1389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BBA-40C0-4EAC-A469-A898866F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0AA-291A-47E0-80C2-4D3FDE03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B91-CA3A-4FD2-ACC9-B4D95482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F98-F2DB-43D0-8122-84341FEF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A4F-3746-4CA6-B52D-38995C9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409-6EC1-44D7-A291-56AE683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8C5-4AAD-4763-B37B-D0AD072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7A1-F5F5-4655-971E-ABDEDFA2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F2C-F350-43E3-9E9F-4787CD3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887-3B2F-48C9-9803-6D8683E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33D-B8CA-4B27-8613-F3BB961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3EC33C-9BCF-4705-8452-7429B8AE1D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nstagram.com/p/Bkfdt6IFbRF/?taken-by=dipeshkov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5240" y="2279520"/>
            <a:ext cx="5821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о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ил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754320" y="5994360"/>
            <a:ext cx="30956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ихина Анастасия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384720" y="6129360"/>
            <a:ext cx="3095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 rot="925200">
            <a:off x="339480" y="3728520"/>
            <a:ext cx="4771800" cy="236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5969160" y="279360"/>
            <a:ext cx="395604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2920" y="922320"/>
            <a:ext cx="90709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зраст: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дошкольный во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e0e0e"/>
                </a:solidFill>
                <a:latin typeface="Times New Roman"/>
                <a:ea typeface="Times New Roman"/>
              </a:rPr>
              <a:t>развитие творческого мышления, развитие логики, развитие мелкой моторики, формирование психических процессов (память, внимание, мышление), развитие целеустремленности и вариативности, тренирует усид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Регламент: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754200" y="1136520"/>
            <a:ext cx="8715240" cy="71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Что же мы сегодня будем 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ttps://pp.userapi.com/c852032/v852032889/1f950/Wrc9MDLn3OA.jpg"/>
          <p:cNvPicPr/>
          <p:nvPr/>
        </p:nvPicPr>
        <p:blipFill>
          <a:blip r:embed="rId2"/>
          <a:stretch/>
        </p:blipFill>
        <p:spPr>
          <a:xfrm>
            <a:off x="1682640" y="2136600"/>
            <a:ext cx="703260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е по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55640" y="1523880"/>
            <a:ext cx="6683400" cy="571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стре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44440" y="1563840"/>
            <a:ext cx="79995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40200" y="851040"/>
            <a:ext cx="3958920" cy="3757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077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воих фишек и придумывание названия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176720" y="4176720"/>
            <a:ext cx="540072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ÐÐ°ÑÑÐ¸Ð½ÐºÐ¸ Ð¿Ð¾ Ð·Ð°Ð¿ÑÐ¾ÑÑ ÑÐ¸ÑÐºÐ¸ ÑÐ²Ð¾Ð¸Ð¼Ð¸ ÑÑÐºÐ°Ð¼Ð¸ Ð´Ð»Ñ Ð´ÐµÑÐµÐ¹"/>
          <p:cNvPicPr/>
          <p:nvPr/>
        </p:nvPicPr>
        <p:blipFill>
          <a:blip r:embed="rId3"/>
          <a:stretch/>
        </p:blipFill>
        <p:spPr>
          <a:xfrm>
            <a:off x="896760" y="4565520"/>
            <a:ext cx="2928960" cy="21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077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уб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4160" y="1851120"/>
            <a:ext cx="2877840" cy="448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111480" y="2136600"/>
            <a:ext cx="3672000" cy="417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6611760" y="2136600"/>
            <a:ext cx="292896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6" descr="ÐÐ°ÑÑÐ¸Ð½ÐºÐ¸ Ð¿Ð¾ Ð·Ð°Ð¿ÑÐ¾ÑÑ ÐºÐ°ÑÐ°Ð½Ð´Ð°ÑÐ¸"/>
          <p:cNvPicPr/>
          <p:nvPr/>
        </p:nvPicPr>
        <p:blipFill>
          <a:blip r:embed="rId1"/>
          <a:stretch/>
        </p:blipFill>
        <p:spPr>
          <a:xfrm>
            <a:off x="6175440" y="2793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1351080"/>
            <a:ext cx="4956120" cy="4956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е п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4897440" y="3422520"/>
            <a:ext cx="4896000" cy="34228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05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имание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1:35:16Z</dcterms:created>
  <dc:creator>Дания </dc:creator>
  <dc:description/>
  <dc:language>en-US</dc:language>
  <cp:lastModifiedBy>Настя</cp:lastModifiedBy>
  <dcterms:modified xsi:type="dcterms:W3CDTF">2019-12-10T17:18:01Z</dcterms:modified>
  <cp:revision>3</cp:revision>
  <dc:subject/>
  <dc:title>Игра «Бродилка»</dc:title>
</cp:coreProperties>
</file>