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DCF-35DA-439F-91D4-33A59A58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635-1210-4FEA-B0B7-31615418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783B-4104-4C40-9B22-027E2C18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B23-AEFF-43E9-9CAE-D3F60BA0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3339-D5F9-429D-BFAF-85A14015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2AE9-810C-477A-878C-03F77E53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8A52-1F78-4BE1-8E06-2D650DAC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2E81-1F32-4BDB-B75C-FDFEB74A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5EF1-D346-491A-926B-2FE86698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9DE8-3389-47EA-B574-8788A1A4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891E-D94D-403E-A648-A21BCD6C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69A-591B-45AB-8A04-F1E81CBE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07A8-E9E3-440D-954C-EE6C86E2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AF52-2947-4A98-9366-158A0FA6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2A6D-45B6-4AE2-B7F5-C9B83B6A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D613-9B0C-4BFD-BA53-92D803C8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EAC4-C499-4D8F-B229-ED6A54A1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94FF8-AED2-4635-8A95-82C72DBD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02799-09D8-46E5-934B-8C94469B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58C4E-D2CA-4EF3-A513-A8110B1A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C582D-0033-48EA-AAA7-5E2842F9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F0217-CFE0-4985-8FC9-AE0190C4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B78-48AB-494A-B8E0-82389D4A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1429E-3F0A-4932-9929-441175A9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F779E-8D1A-41B5-8B3C-78D9013E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08BE3-07B5-4F75-8018-FC8C4C97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9AE4B-2B85-4C55-9A03-0FB3F8F3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D1119-442C-42A6-BE63-485A913C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B8B8D-8903-4191-A9A7-B590A0A5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521DA-F69B-48B2-9313-33A18A53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1CED6-2EDA-4688-84EA-FC7699A3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EAF1F-7353-4645-B865-7B0FE604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1810C-38A4-4E05-B033-E5CD1E68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04B-FD3D-4DFA-90CE-28B76A9D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1DB7C-73A2-48A0-A150-3ACEC859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F2843-E8CB-4A38-BC76-32165805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D35AD-9C34-4903-A869-831BEED1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03D2B-2626-4188-8DC4-F84172CD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3CA28-4282-44A1-8004-3A2BAA87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10339-9663-4610-A61F-BA233C2E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1432D-6B87-4B6F-B4F2-D7F42E2F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B0D34-85C9-4FEF-854B-238A76CD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C182B-F4D9-4048-A4FA-B4E977D1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27A38-21F6-41BF-AE31-9DF6F22E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337-095F-483F-A48C-5B71D74B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E298C-3E50-4629-9CC4-EA77783E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14069-2C1A-4E9C-84FB-754ADA88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CE85A-5B61-4E28-AF90-90F51137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A081E-0803-4C68-8AD6-00168AB7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2EA12-5055-4036-AF53-50F91C3A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A8351-1F99-4260-BF4C-F23B372A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DB835-3BA5-4F93-8B7C-C81914BD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66519-FCC8-49EA-937E-9971A33F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2C327-C56B-49F2-9B22-C2D89910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45483-463D-4EC8-87FF-22A57F95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A01-C4F2-4BDD-802A-8803A98F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F8A2B-EB33-40A6-8C88-6D18234F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EF0AF-0851-4E41-9E27-714718F4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313FF-FFDF-4398-898C-DAB02511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71F16-E5E3-4E5B-8DF4-BC3CE332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37FF6-7FB5-475C-B66F-9BA23EF5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B216B-820E-4E13-9147-03A06E48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A9A49-F62B-4AE6-ABE3-488E3CAA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5EDDD-39D8-4436-A414-D157C18A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180C8-10EC-4935-9D7E-847D723B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5A893-4EB4-4AD0-89B4-C0917DD8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561-68B5-4CFB-B5B6-AA0F72B0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9B3E0-DC1A-4423-93E8-D64DA0AD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6EABD-50A2-4794-A369-6D8BA160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C03F0-E363-4D4F-A37F-98EFB424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2DD4F-FBE4-41FE-8EE9-9D02A1E0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13C79-E33B-47DA-8058-EADE99C0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2E5A8-5BD9-42F5-A5C1-7D341C5D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ACC16-1EFB-40E3-B571-785C6BB2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24A35-0A3D-4435-BAA5-C756768B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B9FEC-BD7A-4C1F-BE61-A019E9B7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D3A53-DF5F-40A9-9DED-EDF3370A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B67-B832-437F-BD8D-7AD80648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E9E6F-9093-411D-B64A-7CA2FD6C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2F94E-295B-44A4-B887-C6ACA76B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4E7E2-189D-4175-A0A9-9C929D6A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FBF9E-2F8E-447D-843A-3870F1E5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8ED83-F496-4387-BB03-097FFA8D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6B4-B4B1-4D8F-94AD-574C7B74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dddd">
              <a:alpha val="33000"/>
            </a:srgbClr>
          </a:solidFill>
          <a:ln cap="rnd"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8181"/>
            </a:solidFill>
            <a:miter/>
          </a:ln>
          <a:effectLst>
            <a:outerShdw dist="12600" dir="5400000" blurRad="0" rotWithShape="0">
              <a:srgbClr val="ea00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CA29-3D13-414C-8326-339A85E0E0B7}" type="slidenum">
              <a:rPr b="0" lang="ru-RU" sz="1200" spc="-1" strike="noStrike">
                <a:solidFill>
                  <a:srgbClr val="ff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82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dddd">
              <a:alpha val="33000"/>
            </a:srgbClr>
          </a:solidFill>
          <a:ln cap="rnd"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8181"/>
            </a:solidFill>
            <a:miter/>
          </a:ln>
          <a:effectLst>
            <a:outerShdw dist="12600" dir="5400000" blurRad="0" rotWithShape="0">
              <a:srgbClr val="ea00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82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1AA9-2C56-4E6C-9EFD-64641F5D9565}" type="slidenum">
              <a:rPr b="0" lang="ru-RU" sz="1200" spc="-1" strike="noStrike">
                <a:solidFill>
                  <a:srgbClr val="ff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82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32C1-6A15-4CB6-BB96-C02D5DC870F2}" type="slidenum">
              <a:rPr b="0" lang="ru-RU" sz="1200" spc="-1" strike="noStrike">
                <a:solidFill>
                  <a:srgbClr val="ff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B6C9-BF1A-4D88-9924-9857C99D10C5}" type="slidenum">
              <a:rPr b="0" lang="ru-RU" sz="1200" spc="-1" strike="noStrike">
                <a:solidFill>
                  <a:srgbClr val="ff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82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57E5-D28D-41B9-AD5D-EA3ADE317C43}" type="slidenum">
              <a:rPr b="0" lang="ru-RU" sz="1200" spc="-1" strike="noStrike">
                <a:solidFill>
                  <a:srgbClr val="ff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0BA8-1B96-4E85-935A-AF512607EB7A}" type="slidenum">
              <a:rPr b="0" lang="ru-RU" sz="1200" spc="-1" strike="noStrike">
                <a:solidFill>
                  <a:srgbClr val="ff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8CCF-EE2B-446C-93BE-929DF398D074}" type="slidenum">
              <a:rPr b="0" lang="ru-RU" sz="1200" spc="-1" strike="noStrike">
                <a:solidFill>
                  <a:srgbClr val="ff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1" descr="62c5cebd071d828c3fcc8f86d09bc08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3"/>
          <p:cNvSpPr/>
          <p:nvPr/>
        </p:nvSpPr>
        <p:spPr>
          <a:xfrm>
            <a:off x="1000080" y="1857240"/>
            <a:ext cx="7500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ирование любви к родному краю через реализацию творческого проект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«Красная книга Воронежской обла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с детьми логопедической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1414800" y="214200"/>
            <a:ext cx="62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БДОУ «Детский сад комбинированного вида №180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6105960" y="5000760"/>
            <a:ext cx="236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таева И.И., ВК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ищева Е.М.,1 К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1" descr="P_20180510_183709.jpg"/>
          <p:cNvPicPr/>
          <p:nvPr/>
        </p:nvPicPr>
        <p:blipFill>
          <a:blip r:embed="rId1"/>
          <a:stretch/>
        </p:blipFill>
        <p:spPr>
          <a:xfrm>
            <a:off x="1071720" y="714240"/>
            <a:ext cx="4381200" cy="328644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2" descr="P_20180510_184049.jpg"/>
          <p:cNvPicPr/>
          <p:nvPr/>
        </p:nvPicPr>
        <p:blipFill>
          <a:blip r:embed="rId2"/>
          <a:stretch/>
        </p:blipFill>
        <p:spPr>
          <a:xfrm>
            <a:off x="4714920" y="35719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3"/>
          <p:cNvSpPr/>
          <p:nvPr/>
        </p:nvSpPr>
        <p:spPr>
          <a:xfrm>
            <a:off x="1428840" y="4572000"/>
            <a:ext cx="250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ыставка рисунков животных, занесенных в «Красную книгу Воронежской обла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1928880" y="214200"/>
            <a:ext cx="52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рганизация работы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1428840" y="21420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роведение тематического родительского    собр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Рисунок 2" descr="P_20180510_182205.jpg"/>
          <p:cNvPicPr/>
          <p:nvPr/>
        </p:nvPicPr>
        <p:blipFill>
          <a:blip r:embed="rId1"/>
          <a:stretch/>
        </p:blipFill>
        <p:spPr>
          <a:xfrm>
            <a:off x="1000080" y="1214280"/>
            <a:ext cx="4000680" cy="464364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3" descr="P_20180510_181838.jpg"/>
          <p:cNvPicPr/>
          <p:nvPr/>
        </p:nvPicPr>
        <p:blipFill>
          <a:blip r:embed="rId2"/>
          <a:stretch/>
        </p:blipFill>
        <p:spPr>
          <a:xfrm>
            <a:off x="5214960" y="1857240"/>
            <a:ext cx="37148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1" descr="DvzWoieXUTk.jpg"/>
          <p:cNvPicPr/>
          <p:nvPr/>
        </p:nvPicPr>
        <p:blipFill>
          <a:blip r:embed="rId1"/>
          <a:stretch/>
        </p:blipFill>
        <p:spPr>
          <a:xfrm>
            <a:off x="1071720" y="1571760"/>
            <a:ext cx="4093920" cy="392904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2" descr="2KOIqXr0exA.jpg"/>
          <p:cNvPicPr/>
          <p:nvPr/>
        </p:nvPicPr>
        <p:blipFill>
          <a:blip r:embed="rId2"/>
          <a:stretch/>
        </p:blipFill>
        <p:spPr>
          <a:xfrm>
            <a:off x="5143680" y="1214280"/>
            <a:ext cx="3786120" cy="528660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3"/>
          <p:cNvSpPr/>
          <p:nvPr/>
        </p:nvSpPr>
        <p:spPr>
          <a:xfrm>
            <a:off x="2286000" y="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Изготовление «Красной книги растений и животных Воронежской обла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1"/>
          <p:cNvSpPr/>
          <p:nvPr/>
        </p:nvSpPr>
        <p:spPr>
          <a:xfrm>
            <a:off x="2522520" y="214200"/>
            <a:ext cx="38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Изготовление лэпб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Рисунок 3" descr="P_20180529_170021.jpg"/>
          <p:cNvPicPr/>
          <p:nvPr/>
        </p:nvPicPr>
        <p:blipFill>
          <a:blip r:embed="rId1"/>
          <a:stretch/>
        </p:blipFill>
        <p:spPr>
          <a:xfrm>
            <a:off x="4929120" y="928800"/>
            <a:ext cx="3929040" cy="285732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4" descr="P_20180529_170033.jpg"/>
          <p:cNvPicPr/>
          <p:nvPr/>
        </p:nvPicPr>
        <p:blipFill>
          <a:blip r:embed="rId2"/>
          <a:stretch/>
        </p:blipFill>
        <p:spPr>
          <a:xfrm>
            <a:off x="4786200" y="4000680"/>
            <a:ext cx="3714840" cy="257148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6" descr="P_20180522_143257.jpg"/>
          <p:cNvPicPr/>
          <p:nvPr/>
        </p:nvPicPr>
        <p:blipFill>
          <a:blip r:embed="rId3"/>
          <a:stretch/>
        </p:blipFill>
        <p:spPr>
          <a:xfrm>
            <a:off x="1214280" y="1143000"/>
            <a:ext cx="351792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2" descr="6LTugD-HhKw.jpg"/>
          <p:cNvPicPr/>
          <p:nvPr/>
        </p:nvPicPr>
        <p:blipFill>
          <a:blip r:embed="rId1"/>
          <a:stretch/>
        </p:blipFill>
        <p:spPr>
          <a:xfrm>
            <a:off x="928800" y="714240"/>
            <a:ext cx="4754520" cy="307188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4" descr="K8ZLqosV0hs.jpg"/>
          <p:cNvPicPr/>
          <p:nvPr/>
        </p:nvPicPr>
        <p:blipFill>
          <a:blip r:embed="rId2"/>
          <a:stretch/>
        </p:blipFill>
        <p:spPr>
          <a:xfrm rot="720000">
            <a:off x="4165560" y="3033360"/>
            <a:ext cx="4456080" cy="34336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3"/>
          <p:cNvSpPr/>
          <p:nvPr/>
        </p:nvSpPr>
        <p:spPr>
          <a:xfrm>
            <a:off x="2500200" y="285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Лэпбук. Дидактически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1"/>
          <p:cNvSpPr/>
          <p:nvPr/>
        </p:nvSpPr>
        <p:spPr>
          <a:xfrm>
            <a:off x="1554840" y="571680"/>
            <a:ext cx="54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езультаты реализаци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2"/>
          <p:cNvSpPr/>
          <p:nvPr/>
        </p:nvSpPr>
        <p:spPr>
          <a:xfrm>
            <a:off x="1143000" y="128592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полнение РППС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3"/>
          <p:cNvSpPr/>
          <p:nvPr/>
        </p:nvSpPr>
        <p:spPr>
          <a:xfrm>
            <a:off x="1214280" y="1714680"/>
            <a:ext cx="671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Д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Больше узнали о жизни животных и растений из «Красной книги», осознанно выполняют правила поведения в прир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 Сформированы основы экологической культуры, экологической воспита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4"/>
          <p:cNvSpPr/>
          <p:nvPr/>
        </p:nvSpPr>
        <p:spPr>
          <a:xfrm>
            <a:off x="1214280" y="3571920"/>
            <a:ext cx="564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.Имеют представление о растениях и животных, охраняемых в Воронеж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Активизировался интерес к жизни ДОУ и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.Проявились творческие способности при изготовлении продуктов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Рисунок 1" descr="fon1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TextBox 2"/>
          <p:cNvSpPr/>
          <p:nvPr/>
        </p:nvSpPr>
        <p:spPr>
          <a:xfrm>
            <a:off x="285840" y="3857760"/>
            <a:ext cx="8572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Любовь к родному краю, родной культуре, родной речи начинается с малого - с любви к своей семье, к своему жилищу, к своему детскому саду. Постепенно расширяясь, эта любовь переходит в любовь к Родине, её истории, прошлому и настоящему, ко всему человечеству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. С. Лихачё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Рисунок 1" descr="fon1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3"/>
          <p:cNvSpPr/>
          <p:nvPr/>
        </p:nvSpPr>
        <p:spPr>
          <a:xfrm>
            <a:off x="500040" y="3929040"/>
            <a:ext cx="792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чень важно привить детям чувство любви и привязанности к природным культурным ценностям родного кр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одной край- это часть нашей великой страны, и в нём на ряду со специфическими чертами отражено то, что типично, характерно для всей страны. Эти способности позволяют формировать с детских лет представления о специфике своего региона , своей Малой Род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3929040" y="571680"/>
            <a:ext cx="5214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нимание Родины у дошкольников тесно связано с конкрет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едставлениями о том, что им близко и дорого. Научить чувствовать красоту родной земли, красоту человека, живущего на этой земле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оспитывать любовь к родным местам, ко всему, что окружает ребёнка с детства- одна из главных задач педаг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школьный возраст- важнейший период становления личности, когда закладываются предпосылки гражданских качеств, развиваются представления о человеке, обществе, культ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"/>
          <p:cNvSpPr/>
          <p:nvPr/>
        </p:nvSpPr>
        <p:spPr>
          <a:xfrm>
            <a:off x="3071880" y="2142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http://images.easyfreeclipart.com/440/red-with-gold-frames-backgrounds-for-powerpoint-presentations--4404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3"/>
          <p:cNvSpPr/>
          <p:nvPr/>
        </p:nvSpPr>
        <p:spPr>
          <a:xfrm>
            <a:off x="642960" y="2000160"/>
            <a:ext cx="7858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асная книга Воронежской облас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http://ds04.infourok.ru/uploads/ex/097a/00090a29-1d4a497a/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TextBox 2"/>
          <p:cNvSpPr/>
          <p:nvPr/>
        </p:nvSpPr>
        <p:spPr>
          <a:xfrm>
            <a:off x="2750040" y="285840"/>
            <a:ext cx="389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аспорт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1714680" y="1000080"/>
            <a:ext cx="7215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о-ориентирова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й, творче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ср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одготовительной группы, родители, воспита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жидаемый результат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формировать знания детей о Красной книг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уточнить и расширить представления детей об исчезающих растениях, насекомых, птицах и животных Воронеж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экологической культуры – одно из важных направлений всестороннего развития личности дошкольника. Сложная экологическая обстановка в мире, её тяжелые последствия, экология родного края, засорение среды обитания – все это показывает необходимость экологического образования детей в детском саду. Участие дошкольников в проекте «Красная книга Воронежской области» позволит обогатить их знания о природе родного края, заставит задуматься о необходимости сохранять и беречь природу, покажет возможность каждого человека внести свой вклад в сохранение окруж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http://ds04.infourok.ru/uploads/ex/097a/00090a29-1d4a497a/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TextBox 2"/>
          <p:cNvSpPr/>
          <p:nvPr/>
        </p:nvSpPr>
        <p:spPr>
          <a:xfrm>
            <a:off x="2656800" y="285840"/>
            <a:ext cx="45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 задач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1785960" y="1571760"/>
            <a:ext cx="650088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 экологических знаний, бережного отношения к природе и всему окружающему, любви к родному кр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 детей представление о разнообразии природы, природоохранные зн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картой  Воронежской обла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связью человека и прир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ать и активизировать словарный запас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любовь к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http://ds04.infourok.ru/uploads/ex/097a/00090a29-1d4a497a/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TextBox 2"/>
          <p:cNvSpPr/>
          <p:nvPr/>
        </p:nvSpPr>
        <p:spPr>
          <a:xfrm>
            <a:off x="2312280" y="357120"/>
            <a:ext cx="55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реализаци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1714680" y="1571760"/>
            <a:ext cx="692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тематические занят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бесе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мастер-класс для родителей:"Изготовление цветка из Красной книги Воронежской области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выставка рисунков детей совместно с родител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изготовление стенгазеты «Растения Красной книги Воронежской обла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проведения тематического родительского собр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создание лепбу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Рисунок 9" descr="P_20180510_182307.jpg"/>
          <p:cNvPicPr/>
          <p:nvPr/>
        </p:nvPicPr>
        <p:blipFill>
          <a:blip r:embed="rId1"/>
          <a:stretch/>
        </p:blipFill>
        <p:spPr>
          <a:xfrm>
            <a:off x="4500720" y="714240"/>
            <a:ext cx="3404880" cy="255456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0" descr="P_20180510_183214.jpg"/>
          <p:cNvPicPr/>
          <p:nvPr/>
        </p:nvPicPr>
        <p:blipFill>
          <a:blip r:embed="rId2"/>
          <a:stretch/>
        </p:blipFill>
        <p:spPr>
          <a:xfrm>
            <a:off x="4071960" y="3500280"/>
            <a:ext cx="4143240" cy="31068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11" descr="P_20180510_182831.jpg"/>
          <p:cNvPicPr/>
          <p:nvPr/>
        </p:nvPicPr>
        <p:blipFill>
          <a:blip r:embed="rId3"/>
          <a:stretch/>
        </p:blipFill>
        <p:spPr>
          <a:xfrm>
            <a:off x="1071720" y="785880"/>
            <a:ext cx="2678040" cy="3571920"/>
          </a:xfrm>
          <a:prstGeom prst="rect">
            <a:avLst/>
          </a:prstGeom>
          <a:ln w="0">
            <a:noFill/>
          </a:ln>
        </p:spPr>
      </p:pic>
      <p:sp>
        <p:nvSpPr>
          <p:cNvPr id="342" name="TextBox 5"/>
          <p:cNvSpPr/>
          <p:nvPr/>
        </p:nvSpPr>
        <p:spPr>
          <a:xfrm>
            <a:off x="1143000" y="500076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Мастер-класс «Изготовление лил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"/>
          <p:cNvSpPr/>
          <p:nvPr/>
        </p:nvSpPr>
        <p:spPr>
          <a:xfrm>
            <a:off x="1928880" y="2858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рганизация работы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Рисунок 2" descr="P_20180510_180908.jpg"/>
          <p:cNvPicPr/>
          <p:nvPr/>
        </p:nvPicPr>
        <p:blipFill>
          <a:blip r:embed="rId1"/>
          <a:stretch/>
        </p:blipFill>
        <p:spPr>
          <a:xfrm>
            <a:off x="3000240" y="4214880"/>
            <a:ext cx="3286440" cy="246528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3" descr="P_20180510_181126.jpg"/>
          <p:cNvPicPr/>
          <p:nvPr/>
        </p:nvPicPr>
        <p:blipFill>
          <a:blip r:embed="rId2"/>
          <a:stretch/>
        </p:blipFill>
        <p:spPr>
          <a:xfrm>
            <a:off x="6357960" y="1000080"/>
            <a:ext cx="2643120" cy="352440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4" descr="P_20180510_181233.jpg"/>
          <p:cNvPicPr/>
          <p:nvPr/>
        </p:nvPicPr>
        <p:blipFill>
          <a:blip r:embed="rId3"/>
          <a:stretch/>
        </p:blipFill>
        <p:spPr>
          <a:xfrm>
            <a:off x="3571920" y="928800"/>
            <a:ext cx="2411280" cy="321444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5" descr="P_20180510_181314.jpg"/>
          <p:cNvPicPr/>
          <p:nvPr/>
        </p:nvPicPr>
        <p:blipFill>
          <a:blip r:embed="rId4"/>
          <a:stretch/>
        </p:blipFill>
        <p:spPr>
          <a:xfrm>
            <a:off x="714240" y="928800"/>
            <a:ext cx="2428920" cy="3238560"/>
          </a:xfrm>
          <a:prstGeom prst="rect">
            <a:avLst/>
          </a:prstGeom>
          <a:ln w="0">
            <a:noFill/>
          </a:ln>
        </p:spPr>
      </p:pic>
      <p:sp>
        <p:nvSpPr>
          <p:cNvPr id="348" name="TextBox 6"/>
          <p:cNvSpPr/>
          <p:nvPr/>
        </p:nvSpPr>
        <p:spPr>
          <a:xfrm>
            <a:off x="1143000" y="4500720"/>
            <a:ext cx="185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зготовление стенгазеты «Растения Красной Книги Воронежской обла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7"/>
          <p:cNvSpPr/>
          <p:nvPr/>
        </p:nvSpPr>
        <p:spPr>
          <a:xfrm>
            <a:off x="2500200" y="35712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рганизация работы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0T18:08:54Z</dcterms:created>
  <dc:creator>Администратор</dc:creator>
  <dc:description/>
  <dc:language>en-US</dc:language>
  <cp:lastModifiedBy>Пользователь Windows</cp:lastModifiedBy>
  <dcterms:modified xsi:type="dcterms:W3CDTF">2019-12-10T11:50:03Z</dcterms:modified>
  <cp:revision>35</cp:revision>
  <dc:subject/>
  <dc:title>Лэпбук как средство развития познавательных способностей дошкольников</dc:title>
</cp:coreProperties>
</file>