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A83-CB43-4C6A-AD4B-2C38E364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B6D-6549-4507-9EE0-BC99AD3B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AE8C0-CFAA-4E17-811E-7A2B40A7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CAFFB-25B8-4627-A59B-B5E850FC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2780C-9315-41BA-A998-E5F57C04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0B50A-A5FF-475F-B728-E248BFDA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7D317-0340-40B8-8430-047AB1B8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5C114-BFA7-412E-8D1B-B62706C2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231EC-2F2F-4603-A20A-5385E9D1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DD12F-B50D-461E-8861-24D36DBD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C6210-A940-41AD-81C3-E6AF726B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507-2E5D-4839-991D-B33A07D2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5CF-C590-48CF-94E6-A55D2D85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EBEE-72AC-4A02-BCA0-A649784D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51FB-5E77-439F-A505-35C7061F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26F8-4D4B-4086-97B1-984FAF8C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1468-2358-42D9-9D4B-0EE08E6A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2EC2-F3C6-477D-BA8D-E29BDE2B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675F-8772-474C-8AE0-FA046983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CA4C-13D1-4E5B-AB5C-866941D0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AD3-81B6-4985-8136-9D0C1BB4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339C-B007-4DEA-9DC6-E65C1207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9AA5-523A-43AB-B522-155EED4B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50A5-EF89-455A-B09D-9475A15C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EED4-5F08-4530-8DB9-5AA6126B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E955-B557-457A-988E-F8A71BE3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85B9-9024-47DF-B0AB-DD430CF8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01ED2-FA5C-425E-A233-01EEDDAC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9139D-16C4-4160-A01F-2959BD7B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079FB-7210-4F51-AA4B-0F4C95B4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208C1-9E61-4388-B78A-3DC08527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9A9-08CB-4EF9-89DF-B1F51ED7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9FA80-2CCE-4487-A49C-7DBA2576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1BBA2-EA94-4790-AECC-7275F9FF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E3810-F001-4929-B690-330674A4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8E8AC-D787-4DEA-B52B-16F605A7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67E9-1512-489D-AC5D-5DA116B1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393D-1604-403A-AF66-F4A01EFD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C1975-D7B6-4BA5-BC52-D1F43BC7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B9E30-A0B6-4A1C-A20B-66A531CC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6B87B-9947-4B5A-A76E-2E28BBFE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DAE87-167A-4101-A98E-A3BA42E4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14C-3FA6-4EAD-9CCE-0DA1B430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07747-9625-44D1-B9CB-522EF3D0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176C3-92C1-4C4B-944D-FBDFF328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E3EB4-6671-45BA-8A38-71E56E8E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A031C-96E8-43D5-AFCD-EA6286EF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23D6C-8FC1-459D-BAD6-01F8269D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4A91E-D365-42C1-B60C-16164C6A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47B87-42BD-45CF-8EA2-FCE63E0E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BBBF3-D244-427D-A407-0508E305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8C3CE-9989-44D8-B8F4-6D8729D9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6F0A9-9966-4B5D-9663-05AA49C2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E33-969D-41E5-9C72-F6B779BA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8EB14-6DB2-4E98-A3BE-D30359BB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B6423-A47A-463A-AE4D-39319941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68FAB-28A6-4BD6-9270-8404BCF6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70AE7-0FA4-4F61-9A54-1E560573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07C32-F54D-4004-BEF0-78690BE8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7BCD2-D38F-42B7-8D6E-62CB8D0D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3BF8E-BE39-4B02-B88B-94C1406D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55B1D-5877-45F3-825F-F4251F61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BB01E-FF18-4620-9D01-DCB06F1D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9D964-052A-4C69-B73E-F4BC41B4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5A8-3978-49BC-B4AF-D05F5285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425D4-A13B-4BFA-9674-FA08C9DB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7E0F8-6A96-465C-A795-1CC18512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2A125-155D-468C-84C4-50E1B3E8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3E8A6-4C7C-46AB-AB64-904A627A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47037-A3C5-4194-8F97-A39F86D5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6A190-45A9-4E73-99B9-1D895FC9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ADE60-6777-48AB-B22C-FE6B1C47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F4D94-F684-472A-BE9D-3EFEE63E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DC0CA-B6D0-465C-8767-CA43AE78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FABFE-F6DA-4EA0-AE9E-A5A6DFFA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C70-9C4B-4083-8398-F68C36EE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42C07-1646-4091-9B17-E5646BB2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7F1FF-9CCF-4E2F-893B-5E16BD9E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06C52-7191-420F-B7F3-B6D1E23A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6A067-F1B6-4B10-A577-4F482889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9D8DD-1511-434F-BCD7-D574035B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8CCBA-8004-4FC5-BD39-CD888524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F5DA8-9549-4514-BEBD-C209BB19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0D8E8-5073-448F-9D30-9EFF7B21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CFC59-7FA4-411D-AB10-D96BD36F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67F7E-F518-4188-BEA2-17BC6CED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FAE-9EB1-48A8-81EE-47762A2C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92082-CA97-4C00-B4E5-ECC4C77A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956A0-5D23-482A-8BE7-BAC93CEB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700A1-0DF8-4986-8062-AB1C7E3F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24F45-226A-48C7-8503-033D6358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38283-47EB-4991-A3FA-5E507BD1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31CAE-034A-412B-857E-16200B0D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300BF-AA5E-446A-B5DF-D3AB90F9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A9559-5E2D-49A9-B71B-4CE26ED3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830A9-55E0-49F4-B712-34F5035E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A8A35-FEC9-4C6A-BE81-CB6AB52C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D20-62D9-44BD-A3CB-1756F3E2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C45AE-B51E-49F5-BA3E-48D17BAA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2DBAB-C0A8-45CA-8AC1-7CB52D55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40CB6-07BF-4195-AC8B-E971163F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9517D-4865-4E5D-BF75-FB865071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BCAFE-2247-414D-928C-FB799AF3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311F8-FD98-459E-A5BE-606313A8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C27E3-F382-44E7-B5C0-B7326237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82CCE-E36C-4EC9-866E-4E931DD9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AC930-2822-4F15-ABB4-D2FAF0DD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46B28-93A5-4454-B262-E3C6F87A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6AD4-95B3-4BD6-B9C6-AA34B54DD9B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80C4-7138-479D-A9F8-2E9A62FEEBB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82A6-E88C-4634-9F78-5BC307B7E32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316C-CA8F-4743-9FE0-3B72485BD94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79B5-2070-43B3-B124-39922E96EB5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9EDF-4DA8-4A2A-8A0A-D3442D695F1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594B-B509-434C-8E85-F188B895D31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A4C4-2D59-4FD3-95EC-D975797CA59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2424-8DED-4141-BFA2-891E3AB9185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3" descr="sun-002-picture-color.png"/>
          <p:cNvPicPr/>
          <p:nvPr/>
        </p:nvPicPr>
        <p:blipFill>
          <a:blip r:embed="rId1"/>
          <a:stretch/>
        </p:blipFill>
        <p:spPr>
          <a:xfrm rot="20928600">
            <a:off x="-1631520" y="-445680"/>
            <a:ext cx="6956280" cy="521640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4" descr=""/>
          <p:cNvPicPr/>
          <p:nvPr/>
        </p:nvPicPr>
        <p:blipFill>
          <a:blip r:embed="rId2"/>
          <a:stretch/>
        </p:blipFill>
        <p:spPr>
          <a:xfrm>
            <a:off x="1755720" y="3230640"/>
            <a:ext cx="76993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304920" y="244440"/>
            <a:ext cx="8686800" cy="13032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3"/>
          <p:cNvSpPr/>
          <p:nvPr/>
        </p:nvSpPr>
        <p:spPr>
          <a:xfrm>
            <a:off x="285840" y="164304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морфологические признаки наречия как части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Овал 3"/>
          <p:cNvSpPr/>
          <p:nvPr/>
        </p:nvSpPr>
        <p:spPr>
          <a:xfrm>
            <a:off x="3214800" y="2714760"/>
            <a:ext cx="242892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НАРЕ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Прямая со стрелкой 5"/>
          <p:cNvCxnSpPr/>
          <p:nvPr/>
        </p:nvCxnSpPr>
        <p:spPr>
          <a:xfrm flipV="1">
            <a:off x="4428000" y="1928160"/>
            <a:ext cx="2520" cy="786600"/>
          </a:xfrm>
          <a:prstGeom prst="straightConnector1">
            <a:avLst/>
          </a:prstGeom>
          <a:ln w="10080">
            <a:solidFill>
              <a:srgbClr val="c87d0e"/>
            </a:solidFill>
            <a:miter/>
            <a:tailEnd len="med" type="arrow" w="med"/>
          </a:ln>
        </p:spPr>
      </p:cxnSp>
      <p:cxnSp>
        <p:nvCxnSpPr>
          <p:cNvPr id="406" name="Прямая со стрелкой 7"/>
          <p:cNvCxnSpPr>
            <a:stCxn id="404" idx="4"/>
          </p:cNvCxnSpPr>
          <p:nvPr/>
        </p:nvCxnSpPr>
        <p:spPr>
          <a:xfrm flipH="1">
            <a:off x="4427280" y="4073040"/>
            <a:ext cx="2160" cy="786600"/>
          </a:xfrm>
          <a:prstGeom prst="straightConnector1">
            <a:avLst/>
          </a:prstGeom>
          <a:ln w="10080">
            <a:solidFill>
              <a:srgbClr val="c87d0e"/>
            </a:solidFill>
            <a:miter/>
            <a:tailEnd len="med" type="arrow" w="med"/>
          </a:ln>
        </p:spPr>
      </p:cxnSp>
      <p:cxnSp>
        <p:nvCxnSpPr>
          <p:cNvPr id="407" name="Прямая со стрелкой 8"/>
          <p:cNvCxnSpPr/>
          <p:nvPr/>
        </p:nvCxnSpPr>
        <p:spPr>
          <a:xfrm flipV="1">
            <a:off x="5429160" y="2428200"/>
            <a:ext cx="572400" cy="572040"/>
          </a:xfrm>
          <a:prstGeom prst="straightConnector1">
            <a:avLst/>
          </a:prstGeom>
          <a:ln w="10080">
            <a:solidFill>
              <a:srgbClr val="c87d0e"/>
            </a:solidFill>
            <a:miter/>
            <a:tailEnd len="med" type="arrow" w="med"/>
          </a:ln>
        </p:spPr>
      </p:cxnSp>
      <p:cxnSp>
        <p:nvCxnSpPr>
          <p:cNvPr id="408" name="Прямая со стрелкой 11"/>
          <p:cNvCxnSpPr/>
          <p:nvPr/>
        </p:nvCxnSpPr>
        <p:spPr>
          <a:xfrm>
            <a:off x="5286240" y="3857400"/>
            <a:ext cx="643320" cy="572040"/>
          </a:xfrm>
          <a:prstGeom prst="straightConnector1">
            <a:avLst/>
          </a:prstGeom>
          <a:ln w="10080">
            <a:solidFill>
              <a:srgbClr val="c87d0e"/>
            </a:solidFill>
            <a:miter/>
            <a:tailEnd len="med" type="arrow" w="med"/>
          </a:ln>
        </p:spPr>
      </p:cxnSp>
      <p:cxnSp>
        <p:nvCxnSpPr>
          <p:cNvPr id="409" name="Прямая со стрелкой 15"/>
          <p:cNvCxnSpPr/>
          <p:nvPr/>
        </p:nvCxnSpPr>
        <p:spPr>
          <a:xfrm flipH="1">
            <a:off x="2928240" y="3857400"/>
            <a:ext cx="572040" cy="572040"/>
          </a:xfrm>
          <a:prstGeom prst="straightConnector1">
            <a:avLst/>
          </a:prstGeom>
          <a:ln w="10080">
            <a:solidFill>
              <a:srgbClr val="c87d0e"/>
            </a:solidFill>
            <a:miter/>
            <a:tailEnd len="med" type="arrow" w="med"/>
          </a:ln>
        </p:spPr>
      </p:cxnSp>
      <p:cxnSp>
        <p:nvCxnSpPr>
          <p:cNvPr id="410" name="Прямая со стрелкой 16"/>
          <p:cNvCxnSpPr/>
          <p:nvPr/>
        </p:nvCxnSpPr>
        <p:spPr>
          <a:xfrm flipH="1" flipV="1">
            <a:off x="2928240" y="2357280"/>
            <a:ext cx="500760" cy="643320"/>
          </a:xfrm>
          <a:prstGeom prst="straightConnector1">
            <a:avLst/>
          </a:prstGeom>
          <a:ln w="10080">
            <a:solidFill>
              <a:srgbClr val="c87d0e"/>
            </a:solidFill>
            <a:miter/>
            <a:tailEnd len="med" type="arrow" w="med"/>
          </a:ln>
        </p:spPr>
      </p:cxnSp>
      <p:sp>
        <p:nvSpPr>
          <p:cNvPr id="411" name="Овал 21"/>
          <p:cNvSpPr/>
          <p:nvPr/>
        </p:nvSpPr>
        <p:spPr>
          <a:xfrm>
            <a:off x="3143160" y="142920"/>
            <a:ext cx="2643120" cy="1785960"/>
          </a:xfrm>
          <a:prstGeom prst="ellipse">
            <a:avLst/>
          </a:prstGeom>
          <a:solidFill>
            <a:srgbClr val="fafd7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ает речь, делает её более точной, эмоциона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вал 22"/>
          <p:cNvSpPr/>
          <p:nvPr/>
        </p:nvSpPr>
        <p:spPr>
          <a:xfrm>
            <a:off x="357120" y="1285920"/>
            <a:ext cx="2571840" cy="1857240"/>
          </a:xfrm>
          <a:prstGeom prst="ellipse">
            <a:avLst/>
          </a:prstGeom>
          <a:solidFill>
            <a:srgbClr val="fafd7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глагола, реже – от сущ., прилаг., причаст. и дееприча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23"/>
          <p:cNvSpPr/>
          <p:nvPr/>
        </p:nvSpPr>
        <p:spPr>
          <a:xfrm>
            <a:off x="785880" y="3857760"/>
            <a:ext cx="2214360" cy="1714320"/>
          </a:xfrm>
          <a:prstGeom prst="ellipse">
            <a:avLst/>
          </a:prstGeom>
          <a:solidFill>
            <a:srgbClr val="fafd7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вал 24"/>
          <p:cNvSpPr/>
          <p:nvPr/>
        </p:nvSpPr>
        <p:spPr>
          <a:xfrm>
            <a:off x="6000840" y="1357200"/>
            <a:ext cx="2357280" cy="1785960"/>
          </a:xfrm>
          <a:prstGeom prst="ellipse">
            <a:avLst/>
          </a:prstGeom>
          <a:solidFill>
            <a:srgbClr val="fafd7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 признак  действия, признак призн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25"/>
          <p:cNvSpPr/>
          <p:nvPr/>
        </p:nvSpPr>
        <p:spPr>
          <a:xfrm>
            <a:off x="5857920" y="3857760"/>
            <a:ext cx="2357280" cy="1857240"/>
          </a:xfrm>
          <a:prstGeom prst="ellipse">
            <a:avLst/>
          </a:prstGeom>
          <a:solidFill>
            <a:srgbClr val="fafd7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? Когда? Куда? Отку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? Зач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Овал 26"/>
          <p:cNvSpPr/>
          <p:nvPr/>
        </p:nvSpPr>
        <p:spPr>
          <a:xfrm>
            <a:off x="3141720" y="4859280"/>
            <a:ext cx="2571840" cy="1785960"/>
          </a:xfrm>
          <a:prstGeom prst="ellipse">
            <a:avLst/>
          </a:prstGeom>
          <a:solidFill>
            <a:srgbClr val="fafd7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ложении является обстоятельством, реже - определ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304920" y="328680"/>
            <a:ext cx="8686800" cy="11890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"/>
          <p:cNvSpPr/>
          <p:nvPr/>
        </p:nvSpPr>
        <p:spPr>
          <a:xfrm>
            <a:off x="0" y="12142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речие –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часть речи, обозначающая действие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часть речи, обозначающая признак предмета по действ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часть речи, обозначающая признак действия, признак призн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кажите нареч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ожь        Б) пустошь         В) съешь    Г) настеж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реч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зменяются по числам;     Б) не изменяются;        В) изменяются по лиц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От какого слова образовано наречие труд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рудный         Б) труд           В) трудиться           Г) труд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каком словосочетании выделенное слово обозначает признак действ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чтени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лу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Б) чита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л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6"/>
          <p:cNvSpPr/>
          <p:nvPr/>
        </p:nvSpPr>
        <p:spPr>
          <a:xfrm>
            <a:off x="142920" y="614376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 к тесту: 1В 2Г 3Б 4А 5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1214280" y="514368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 оцени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5» - 5 правильных ответов, «4» - 4 ответа, «3» - 3 от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04920" y="712800"/>
            <a:ext cx="86868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304920" y="285840"/>
            <a:ext cx="8686800" cy="12016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</a:t>
            </a:r>
            <a:r>
              <a:rPr b="0" lang="ru-RU" sz="40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Для всех</a:t>
            </a: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 §12, выучить теорию и схему в тетради для правил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</a:t>
            </a:r>
            <a:r>
              <a:rPr b="0" lang="ru-RU" sz="40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На выбор</a:t>
            </a: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 Упр. 204, либо написать лингвистическую сказку о наречии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00:50:25Z</dcterms:created>
  <dc:creator>Юля</dc:creator>
  <dc:description/>
  <dc:language>en-US</dc:language>
  <cp:lastModifiedBy>lab3</cp:lastModifiedBy>
  <dcterms:modified xsi:type="dcterms:W3CDTF">2018-11-23T09:20:01Z</dcterms:modified>
  <cp:revision>8</cp:revision>
  <dc:subject/>
  <dc:title>Слайд 1</dc:title>
</cp:coreProperties>
</file>