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E85-5D34-45BC-83D2-D23D87C9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C66-792B-44DC-B3F4-5E61DAE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CD6-2F85-4AF0-AAFD-84BCE142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013-36DF-4FD9-B652-9C97BE6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CB48-C737-4814-A490-5404FA06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A825-A54F-47D0-9A25-B5E07564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176-8688-4595-AD86-BAF691BA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C0D-C3AD-4749-9F66-070C30E9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B40-B092-4623-AA3B-289FDED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2DE3-1A3C-47D1-836E-E11DC03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D071-EDFA-41A5-BC0D-6FECED4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F41-AD3D-4BF3-8923-4176455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5EED-1C4A-4691-A347-1386E77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6278-507F-4F6A-8FBA-5EE9487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EFAC-B83F-42CF-8030-F3421C26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40D-8AEB-436D-93E8-CB74B0F4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1B8-DFE9-4265-81E4-8E32844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99C-42BC-4842-AE0D-8651C4A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1B9-D6DF-4021-9068-6A9095B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590-D0F9-4CD9-8DF2-4040498C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8CE-6B23-44C7-9AF9-F1E0CCA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45A-79CB-49D2-AB02-FD5A0EBA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227-41C1-4513-A2ED-ACBBF01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08E-CEBE-4EF5-8DFF-8131AFC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63F-7537-4422-A574-6E55127ABE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190-C954-4682-87D0-4E5169CAA52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рок литературного ч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 клас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0022-049-Reshenie"/>
          <p:cNvPicPr/>
          <p:nvPr/>
        </p:nvPicPr>
        <p:blipFill>
          <a:blip r:embed="rId1"/>
          <a:stretch/>
        </p:blipFill>
        <p:spPr>
          <a:xfrm>
            <a:off x="1676520" y="1981080"/>
            <a:ext cx="3240000" cy="3084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4800600" y="5105520"/>
            <a:ext cx="434340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хайло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льга Павловн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1295280" y="990720"/>
            <a:ext cx="64771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лан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Выбор професс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Отк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Помощ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Друг дет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Чувства Денис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SC02038"/>
          <p:cNvPicPr/>
          <p:nvPr/>
        </p:nvPicPr>
        <p:blipFill>
          <a:blip r:embed="rId1"/>
          <a:stretch/>
        </p:blipFill>
        <p:spPr>
          <a:xfrm>
            <a:off x="388620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1000618869"/>
          <p:cNvPicPr/>
          <p:nvPr/>
        </p:nvPicPr>
        <p:blipFill>
          <a:blip r:embed="rId1"/>
          <a:stretch/>
        </p:blipFill>
        <p:spPr>
          <a:xfrm>
            <a:off x="0" y="0"/>
            <a:ext cx="2097000" cy="316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b28"/>
          <p:cNvPicPr/>
          <p:nvPr/>
        </p:nvPicPr>
        <p:blipFill>
          <a:blip r:embed="rId2"/>
          <a:stretch/>
        </p:blipFill>
        <p:spPr>
          <a:xfrm>
            <a:off x="0" y="4113360"/>
            <a:ext cx="2073240" cy="274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17bc1"/>
          <p:cNvPicPr/>
          <p:nvPr/>
        </p:nvPicPr>
        <p:blipFill>
          <a:blip r:embed="rId3"/>
          <a:stretch/>
        </p:blipFill>
        <p:spPr>
          <a:xfrm>
            <a:off x="2362320" y="990720"/>
            <a:ext cx="2052360" cy="274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18c42"/>
          <p:cNvPicPr/>
          <p:nvPr/>
        </p:nvPicPr>
        <p:blipFill>
          <a:blip r:embed="rId4"/>
          <a:stretch/>
        </p:blipFill>
        <p:spPr>
          <a:xfrm>
            <a:off x="2819520" y="4106880"/>
            <a:ext cx="2057400" cy="2751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6102"/>
          <p:cNvPicPr/>
          <p:nvPr/>
        </p:nvPicPr>
        <p:blipFill>
          <a:blip r:embed="rId5"/>
          <a:stretch/>
        </p:blipFill>
        <p:spPr>
          <a:xfrm>
            <a:off x="5410080" y="4129200"/>
            <a:ext cx="2044800" cy="2728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16217"/>
          <p:cNvPicPr/>
          <p:nvPr/>
        </p:nvPicPr>
        <p:blipFill>
          <a:blip r:embed="rId6"/>
          <a:stretch/>
        </p:blipFill>
        <p:spPr>
          <a:xfrm>
            <a:off x="6794640" y="762120"/>
            <a:ext cx="2349360" cy="313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25000079251"/>
          <p:cNvPicPr/>
          <p:nvPr/>
        </p:nvPicPr>
        <p:blipFill>
          <a:blip r:embed="rId7"/>
          <a:stretch/>
        </p:blipFill>
        <p:spPr>
          <a:xfrm>
            <a:off x="4648320" y="0"/>
            <a:ext cx="1947600" cy="25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Подводим   итог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2209680"/>
          <a:ext cx="609120" cy="533520"/>
        </p:xfrm>
        <a:graphic>
          <a:graphicData uri="http://schemas.openxmlformats.org/drawingml/2006/table">
            <a:tbl>
              <a:tblPr/>
              <a:tblGrid>
                <a:gridCol w="609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0000"/>
                      </a:solidFill>
                    </a:lnL>
                    <a:lnR w="1440">
                      <a:solidFill>
                        <a:srgbClr val="ff0000"/>
                      </a:solidFill>
                    </a:lnR>
                    <a:lnT w="1440">
                      <a:solidFill>
                        <a:srgbClr val="ff0000"/>
                      </a:solidFill>
                    </a:lnT>
                    <a:lnB w="144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752480" y="2286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Я понял идею рассказа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276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889640" y="3200400"/>
            <a:ext cx="70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Мне легко будет дома подготовить пересказ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90720" y="41148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00cc00"/>
                      </a:solidFill>
                    </a:lnL>
                    <a:lnR w="1440">
                      <a:solidFill>
                        <a:srgbClr val="00cc00"/>
                      </a:solidFill>
                    </a:lnR>
                    <a:lnT w="1440">
                      <a:solidFill>
                        <a:srgbClr val="00cc00"/>
                      </a:solidFill>
                    </a:lnT>
                    <a:lnB w="1440">
                      <a:solidFill>
                        <a:srgbClr val="00cc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990720" y="3276720"/>
          <a:ext cx="532800" cy="517320"/>
        </p:xfrm>
        <a:graphic>
          <a:graphicData uri="http://schemas.openxmlformats.org/drawingml/2006/table">
            <a:tbl>
              <a:tblPr/>
              <a:tblGrid>
                <a:gridCol w="532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1600200" y="41148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Я хочу прочитать другие рассказы о Дениске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nstantia"/>
              </a:rPr>
              <a:t>Спасибо  за    работу  на  уроке.            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380880" y="6858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ктор Юзефови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рагун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" descr="DSC02025"/>
          <p:cNvPicPr/>
          <p:nvPr/>
        </p:nvPicPr>
        <p:blipFill>
          <a:blip r:embed="rId1"/>
          <a:stretch/>
        </p:blipFill>
        <p:spPr>
          <a:xfrm>
            <a:off x="4952880" y="228600"/>
            <a:ext cx="3962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DSC02061"/>
          <p:cNvPicPr/>
          <p:nvPr/>
        </p:nvPicPr>
        <p:blipFill>
          <a:blip r:embed="rId1"/>
          <a:stretch/>
        </p:blipFill>
        <p:spPr>
          <a:xfrm>
            <a:off x="4191120" y="380880"/>
            <a:ext cx="4724280" cy="318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DSC02063"/>
          <p:cNvPicPr/>
          <p:nvPr/>
        </p:nvPicPr>
        <p:blipFill>
          <a:blip r:embed="rId2"/>
          <a:stretch/>
        </p:blipFill>
        <p:spPr>
          <a:xfrm>
            <a:off x="4191120" y="3657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798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4267080" y="121932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Юному человеку нужны все витамины, в том числе все нравственные витамины. Витамины доброты, благородства, честности, порядочности, мужества. Все эти витамины дарил нашим ребятам щедро и талантливо Виктор Драгунский»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Яков Аки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DSC02050"/>
          <p:cNvPicPr/>
          <p:nvPr/>
        </p:nvPicPr>
        <p:blipFill>
          <a:blip r:embed="rId1"/>
          <a:stretch/>
        </p:blipFill>
        <p:spPr>
          <a:xfrm>
            <a:off x="380880" y="228600"/>
            <a:ext cx="3557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066680" y="457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Синквей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295280" y="1447920"/>
            <a:ext cx="815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анн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заим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ога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важа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цен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корыстные взаимоотношения между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523880" y="53352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спичило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тиль 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юш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дручнее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авная 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895480" y="609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Толковый словар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514600" y="16765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спичило – очень захотело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тиль – негод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тарые вещ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юш - ткань с вор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дручнее – удобнее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авная  - занимательн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мешная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38080" y="457200"/>
            <a:ext cx="7772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лан 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к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профе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 дет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ощ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увства Дениски.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1219320" y="914400"/>
            <a:ext cx="70866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лан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Отк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Выбор профе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Друг дет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Помощ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Чувства Денис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9T19:14:2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