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FF39-F5D6-4C57-8B66-F24DD761C0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9438-1C52-4B5D-9337-7B9026848F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D56-6DC1-4FCC-8C22-34EFBD9D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626-4D81-4A88-8A51-B24D0ED6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7DE-889E-45BF-ACAE-477BA1DF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5DA-9D07-4597-96CC-2BE16054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5B0-D9CA-4A40-BDA1-C84F06EA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0A5-702F-4576-8DC3-F4EA729C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098-7270-44D6-971A-0A804FC0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A6B-1178-4C27-9217-D0D4AFF5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78D-0E1B-41F0-B4B8-932E794E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D52-E5C9-4453-86C6-06F70855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645-5875-44A6-B884-31D85FD0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8D5-58CB-4809-98E3-8C4D4534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27AC-1DC9-4BAE-974E-7AE3AB190C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27236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Mistral"/>
              </a:rPr>
              <a:t>«Олимпийские игры в древности»</a:t>
            </a:r>
            <a:br>
              <a:rPr sz="6600"/>
            </a:b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1557000"/>
            <a:ext cx="66261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ПЕРВЫЕ </a:t>
            </a: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ЛИМПИЙСКИЕ ИГРЫ БЫЛИ ПРОВЕДЕНЫ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в  </a:t>
            </a: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776</a:t>
            </a: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 году до нашей э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ADMIN\Рабочий стол\картинки\i (4).jpg"/>
          <p:cNvPicPr/>
          <p:nvPr/>
        </p:nvPicPr>
        <p:blipFill>
          <a:blip r:embed="rId2"/>
          <a:stretch/>
        </p:blipFill>
        <p:spPr>
          <a:xfrm>
            <a:off x="1258920" y="3716280"/>
            <a:ext cx="66261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G:\картинки\space-with-geometric-decor-07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G:\картинки\0006-005-Vidi-olimpijskikh-igr-v-Gretsii.jpg"/>
          <p:cNvPicPr/>
          <p:nvPr/>
        </p:nvPicPr>
        <p:blipFill>
          <a:blip r:embed="rId2"/>
          <a:stretch/>
        </p:blipFill>
        <p:spPr>
          <a:xfrm>
            <a:off x="1357200" y="1285920"/>
            <a:ext cx="6429600" cy="4286160"/>
          </a:xfrm>
          <a:prstGeom prst="rect">
            <a:avLst/>
          </a:prstGeom>
          <a:ln w="0">
            <a:noFill/>
          </a:ln>
        </p:spPr>
      </p:pic>
      <p:pic>
        <p:nvPicPr>
          <p:cNvPr id="67" name="Наташа Королева - Олимпиада.mp3" descr=""/>
          <p:cNvPicPr/>
          <p:nvPr/>
        </p:nvPicPr>
        <p:blipFill>
          <a:blip r:embed="rId3"/>
          <a:stretch/>
        </p:blipFill>
        <p:spPr>
          <a:xfrm>
            <a:off x="8572680" y="6215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6" descr=""/>
          <p:cNvPicPr/>
          <p:nvPr/>
        </p:nvPicPr>
        <p:blipFill>
          <a:blip r:embed="rId4"/>
          <a:stretch/>
        </p:blipFill>
        <p:spPr>
          <a:xfrm>
            <a:off x="1494000" y="281160"/>
            <a:ext cx="6259320" cy="93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27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ADMIN\Рабочий стол\картинки\olimpioniki.jpg"/>
          <p:cNvPicPr/>
          <p:nvPr/>
        </p:nvPicPr>
        <p:blipFill>
          <a:blip r:embed="rId2"/>
          <a:stretch/>
        </p:blipFill>
        <p:spPr>
          <a:xfrm>
            <a:off x="1258920" y="2492280"/>
            <a:ext cx="6553080" cy="316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1268280"/>
            <a:ext cx="6912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istral"/>
              </a:rPr>
              <a:t>ПЕРВЫЙ ДЕ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КЛЯТВА УЧАСТНИКОВ И СУД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Греческая музыка - Сертаки.mp3" descr=""/>
          <p:cNvPicPr/>
          <p:nvPr/>
        </p:nvPicPr>
        <p:blipFill>
          <a:blip r:embed="rId3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5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920" y="907560"/>
            <a:ext cx="662616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istral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Mistral"/>
              </a:rPr>
              <a:t>ВТОРОЙ ДЕНЬ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СОРЕВНОВАНИЯ В ГРУППЕ МАЛЬЧИКОВ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БЕГ, БОРЬБА, КУЛАЧНЫЙ БОЙ</a:t>
            </a: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1187280" y="1268280"/>
            <a:ext cx="669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istral"/>
              </a:rPr>
              <a:t>ТРЕТИЙ ДЕ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СОСТЯЗАНИЯ ВЗРОСЛЫХ АТЛЕТОВ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ПЯТИБОРЬ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КУЛАЧНЫЙ  Б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ADMIN\Рабочий стол\картинки\олимп.jpg"/>
          <p:cNvPicPr/>
          <p:nvPr/>
        </p:nvPicPr>
        <p:blipFill>
          <a:blip r:embed="rId2"/>
          <a:stretch/>
        </p:blipFill>
        <p:spPr>
          <a:xfrm>
            <a:off x="1258920" y="1268280"/>
            <a:ext cx="66978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ADMIN\Рабочий стол\картинки\о.jpg"/>
          <p:cNvPicPr/>
          <p:nvPr/>
        </p:nvPicPr>
        <p:blipFill>
          <a:blip r:embed="rId2"/>
          <a:stretch/>
        </p:blipFill>
        <p:spPr>
          <a:xfrm>
            <a:off x="1187280" y="1052640"/>
            <a:ext cx="675648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ADMIN\Рабочий стол\картинки\олим.jpg"/>
          <p:cNvPicPr/>
          <p:nvPr/>
        </p:nvPicPr>
        <p:blipFill>
          <a:blip r:embed="rId2"/>
          <a:stretch/>
        </p:blipFill>
        <p:spPr>
          <a:xfrm>
            <a:off x="1332000" y="1052640"/>
            <a:ext cx="6616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ADMIN\Рабочий стол\картинки\оли.jpg"/>
          <p:cNvPicPr/>
          <p:nvPr/>
        </p:nvPicPr>
        <p:blipFill>
          <a:blip r:embed="rId2"/>
          <a:stretch/>
        </p:blipFill>
        <p:spPr>
          <a:xfrm>
            <a:off x="1258920" y="981000"/>
            <a:ext cx="66261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ADMIN\Рабочий стол\картинки\ол.jpg"/>
          <p:cNvPicPr/>
          <p:nvPr/>
        </p:nvPicPr>
        <p:blipFill>
          <a:blip r:embed="rId2"/>
          <a:stretch/>
        </p:blipFill>
        <p:spPr>
          <a:xfrm>
            <a:off x="1258920" y="1052640"/>
            <a:ext cx="66261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одзаголовок 2"/>
          <p:cNvSpPr/>
          <p:nvPr/>
        </p:nvSpPr>
        <p:spPr>
          <a:xfrm>
            <a:off x="324000" y="5300640"/>
            <a:ext cx="860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69120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ГРЕЧЕСКИЕ  КОЛОНИИ 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НА БЕРЕГАХ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СРЕДИЗЕМНОГО И ЧЁРНОГО МОР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ADMIN\Рабочий стол\картинки\олимпи.jpg"/>
          <p:cNvPicPr/>
          <p:nvPr/>
        </p:nvPicPr>
        <p:blipFill>
          <a:blip r:embed="rId2"/>
          <a:stretch/>
        </p:blipFill>
        <p:spPr>
          <a:xfrm>
            <a:off x="1401840" y="1185840"/>
            <a:ext cx="63403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Олимпийские игры, гонки на колесницах (иллюстрация National Geographic Society / Corbis)"/>
          <p:cNvPicPr/>
          <p:nvPr/>
        </p:nvPicPr>
        <p:blipFill>
          <a:blip r:embed="rId2"/>
          <a:stretch/>
        </p:blipFill>
        <p:spPr>
          <a:xfrm>
            <a:off x="900000" y="2565360"/>
            <a:ext cx="7201080" cy="3672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655308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istral"/>
              </a:rPr>
              <a:t>ЧЕТВЕРТЫЙ ДЕ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ГОНКИ КОЛЕСНИ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662616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istral"/>
              </a:rPr>
              <a:t>ПЯТЫЙ ДЕ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НАГРАЖДЕНИЕ ПОБЕДИТЕ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ADMIN\Рабочий стол\картинки\олимпиад.jpg"/>
          <p:cNvPicPr/>
          <p:nvPr/>
        </p:nvPicPr>
        <p:blipFill>
          <a:blip r:embed="rId2"/>
          <a:stretch/>
        </p:blipFill>
        <p:spPr>
          <a:xfrm>
            <a:off x="1258920" y="2637000"/>
            <a:ext cx="66103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1267920"/>
            <a:ext cx="65534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         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istral"/>
              </a:rPr>
              <a:t>ЛЕГЕНДАРНЫЕ   АТЛЕТЫ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Милон Кротонский            Феаге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276200" y="2521080"/>
            <a:ext cx="2449800" cy="410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364000" y="2421000"/>
            <a:ext cx="24703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Файл:барон Пьер де Coubertin.jpg"/>
          <p:cNvPicPr/>
          <p:nvPr/>
        </p:nvPicPr>
        <p:blipFill>
          <a:blip r:embed="rId2"/>
          <a:stretch/>
        </p:blipFill>
        <p:spPr>
          <a:xfrm>
            <a:off x="1403280" y="1413000"/>
            <a:ext cx="2990880" cy="3816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129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ВОЗРОЖДЕНИ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                       ОЛИМПИЙСКИХ ИГ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5"/>
          <p:cNvSpPr/>
          <p:nvPr/>
        </p:nvSpPr>
        <p:spPr>
          <a:xfrm>
            <a:off x="4356000" y="47214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istral"/>
              </a:rPr>
              <a:t>Пьер  де  Куберт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258920" y="1268280"/>
            <a:ext cx="655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Первые Олимпийские игры состоялись в  750-м году  до нашей э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Олимпийские игры греки посвящали богине Гере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 С наступлением  ранней весны, в марте, у подножия горы Олимп начинались Олимпийские иг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. Эти игры особенно любили женщины, которые составляли не меньше трети зрителей, съехавшихся на Олимпийски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. Впервые на соревнования в Олимпии  победителем в боксе оказался молодой перс, который превзошел в мастерстве остальных юнош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. Победителю в беге досталась главная награда – венок из золотых листь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. Пятиборье – это участие одного человека в пяти видах спор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5" descr=""/>
          <p:cNvPicPr/>
          <p:nvPr/>
        </p:nvPicPr>
        <p:blipFill>
          <a:blip r:embed="rId2"/>
          <a:stretch/>
        </p:blipFill>
        <p:spPr>
          <a:xfrm>
            <a:off x="682560" y="895320"/>
            <a:ext cx="783900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1341000"/>
            <a:ext cx="65530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КАКИЕ ФАКТЫ ПОДТВЕРЖДАЮТ МЫСЛЬ О ТОМ, ЧТО ОЛИМПИЙСКИЕ ИГРЫ БЫЛИ ЛЮБИМЫМ ОБЩЕГРЕЧЕСКИМ ПРАЗДНИК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6"/>
          <p:cNvSpPr/>
          <p:nvPr/>
        </p:nvSpPr>
        <p:spPr>
          <a:xfrm>
            <a:off x="1403280" y="1341360"/>
            <a:ext cx="640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Mistral"/>
              </a:rPr>
              <a:t>ДОМАШНЕЕ ЗАДАНИЕ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- Параграф  33, пересказ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- творческое задание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- придумайте рассказ об Олимпийских играх от имени участника или зрителя (п. 4 в учебнике,  на стр. 1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WordArt 2" descr=""/>
          <p:cNvPicPr/>
          <p:nvPr/>
        </p:nvPicPr>
        <p:blipFill>
          <a:blip r:embed="rId2"/>
          <a:stretch/>
        </p:blipFill>
        <p:spPr>
          <a:xfrm>
            <a:off x="-1000080" y="1401840"/>
            <a:ext cx="888840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gr-kol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C:\Documents and Settings\ADMIN\Рабочий стол\картинки\i (2).jpg"/>
          <p:cNvPicPr/>
          <p:nvPr/>
        </p:nvPicPr>
        <p:blipFill>
          <a:blip r:embed="rId2"/>
          <a:stretch/>
        </p:blipFill>
        <p:spPr>
          <a:xfrm>
            <a:off x="1042920" y="1182600"/>
            <a:ext cx="3673440" cy="440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ADMIN\Рабочий стол\картинки\i (3).jpg"/>
          <p:cNvPicPr/>
          <p:nvPr/>
        </p:nvPicPr>
        <p:blipFill>
          <a:blip r:embed="rId3"/>
          <a:stretch/>
        </p:blipFill>
        <p:spPr>
          <a:xfrm>
            <a:off x="4716360" y="1197000"/>
            <a:ext cx="3384720" cy="44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5640" y="1267920"/>
            <a:ext cx="6769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istral"/>
              </a:rPr>
              <a:t>«ОЛИМПИЙСКИЕ ИГРЫ В ДРЕВНОСТ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Documents and Settings\ADMIN\Рабочий стол\картинки\0006-005-Vidi-olimpijskikh-igr-v-Gretsii.jpg"/>
          <p:cNvPicPr/>
          <p:nvPr/>
        </p:nvPicPr>
        <p:blipFill>
          <a:blip r:embed="rId2"/>
          <a:stretch/>
        </p:blipFill>
        <p:spPr>
          <a:xfrm>
            <a:off x="1258920" y="3068640"/>
            <a:ext cx="65530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1640" y="1341000"/>
            <a:ext cx="65530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КАКИЕ ФАКТЫ ПОДТВЕРЖДАЮТ МЫСЛЬ О ТОМ, ЧТО ОЛИМПИЙСКИЕ ИГРЫ БЫЛИ ЛЮБИМЫМ ОБЩЕГРЕЧЕСКИМ ПРАЗДНИК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5" descr="b5d2660b71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4-конечная звезда 16"/>
          <p:cNvSpPr/>
          <p:nvPr/>
        </p:nvSpPr>
        <p:spPr>
          <a:xfrm>
            <a:off x="2428920" y="3786120"/>
            <a:ext cx="285840" cy="285840"/>
          </a:xfrm>
          <a:custGeom>
            <a:avLst/>
            <a:gdLst>
              <a:gd name="textAreaLeft" fmla="*/ 117720 w 285840"/>
              <a:gd name="textAreaRight" fmla="*/ 168120 w 285840"/>
              <a:gd name="textAreaTop" fmla="*/ 117720 h 285840"/>
              <a:gd name="textAreaBottom" fmla="*/ 168120 h 285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олния 17"/>
          <p:cNvSpPr/>
          <p:nvPr/>
        </p:nvSpPr>
        <p:spPr>
          <a:xfrm>
            <a:off x="2714760" y="1428840"/>
            <a:ext cx="500040" cy="4284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\Рабочий стол\картинки\олимпиа.jpg"/>
          <p:cNvPicPr/>
          <p:nvPr/>
        </p:nvPicPr>
        <p:blipFill>
          <a:blip r:embed="rId2"/>
          <a:stretch/>
        </p:blipFill>
        <p:spPr>
          <a:xfrm>
            <a:off x="1332000" y="1052640"/>
            <a:ext cx="6480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48000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Mistral"/>
              </a:rPr>
              <a:t>«ВСЕ  В  ОЛИМПИЮ!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istral"/>
              </a:rPr>
              <a:t>СВЯЩЕННЫЙ МИР ОБЪЯВЛЕН! 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Mistral"/>
              </a:rPr>
              <a:t>ДОРОГИ БЕЗОПАСНЫ!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Mistral"/>
              </a:rPr>
              <a:t>ДА ПОБЕДЯТ СИЛЬНЕЙШИЕ!</a:t>
            </a:r>
            <a:r>
              <a:rPr b="1" lang="ru-RU" sz="4400" spc="-1" strike="noStrike">
                <a:solidFill>
                  <a:srgbClr val="558ed5"/>
                </a:solidFill>
                <a:latin typeface="Mistral"/>
              </a:rPr>
              <a:t>»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13:21:32Z</dcterms:created>
  <dc:creator>Galina</dc:creator>
  <dc:description/>
  <dc:language>en-US</dc:language>
  <cp:lastModifiedBy>Таня</cp:lastModifiedBy>
  <dcterms:modified xsi:type="dcterms:W3CDTF">2019-12-10T09:42:30Z</dcterms:modified>
  <cp:revision>159</cp:revision>
  <dc:subject/>
  <dc:title>Урок «Олимпийские игры в древности»</dc:title>
</cp:coreProperties>
</file>