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Лариса" initials="Л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<Relationship Id="rId16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8-10-29T20:54:13.974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E3A93-A59B-4333-B125-E087D9B460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E8FAA-2208-43CD-A54A-18EF7048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36895-93FB-4FEF-93D6-B6B5C8F5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F6765-8B96-4102-9C1F-6E4733C4B7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07D5-5B6A-40A6-83D5-9BBE7460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E3306-10FD-4331-B9D0-DF6E93F4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FC759-D46A-4E33-9095-0A4CE0BE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D9DB6-F264-4486-B990-E0F92A40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D4AD4-C3A0-40CD-9F6D-B0B25BE6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28047-C4DC-441F-83DA-BF1B7540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89087-6A55-4812-875A-06C046C6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046A-9BAE-4B68-9292-6C5616CC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6F013-79DC-408D-A2C6-3F8E504EB037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1042920" y="1268280"/>
            <a:ext cx="723744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ff3333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7030a0"/>
                </a:solidFill>
                <a:latin typeface="Times New Roman"/>
              </a:rPr>
              <a:t>Месячник по ПДД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Times New Roman"/>
              </a:rPr>
              <a:t>«Внимание! Дети!» </a:t>
            </a:r>
            <a:br>
              <a:rPr sz="6600"/>
            </a:br>
            <a:r>
              <a:rPr b="1" i="1" lang="ru-RU" sz="19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ветственные воспитатели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анченко Л.В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струбина Т.Н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6303960" y="3311640"/>
            <a:ext cx="197640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2" descr=""/>
          <p:cNvPicPr/>
          <p:nvPr/>
        </p:nvPicPr>
        <p:blipFill>
          <a:blip r:embed="rId1"/>
          <a:srcRect l="0" t="-1703" r="-2368" b="0"/>
          <a:stretch/>
        </p:blipFill>
        <p:spPr>
          <a:xfrm>
            <a:off x="5364000" y="2133720"/>
            <a:ext cx="3095640" cy="430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3" name="Рисунок 3" descr=""/>
          <p:cNvPicPr/>
          <p:nvPr/>
        </p:nvPicPr>
        <p:blipFill>
          <a:blip r:embed="rId2"/>
          <a:stretch/>
        </p:blipFill>
        <p:spPr>
          <a:xfrm>
            <a:off x="971640" y="800280"/>
            <a:ext cx="4032000" cy="3024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5640" y="274320"/>
            <a:ext cx="648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адывание кроссворд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а не терпит шалостей»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бить знание обучающихся воспитанников о правилах дорожного движения посредствам решения кроссвордов. Воспитывать навыки выполнения основных правил поведения обучающихся воспитанников на улице, дороге. Развивать умение различать дорожные зна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2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2951280" cy="4092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6" name="Рисунок 4" descr=""/>
          <p:cNvPicPr/>
          <p:nvPr/>
        </p:nvPicPr>
        <p:blipFill>
          <a:blip r:embed="rId2"/>
          <a:stretch/>
        </p:blipFill>
        <p:spPr>
          <a:xfrm>
            <a:off x="1763640" y="2241720"/>
            <a:ext cx="2881440" cy="4055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971640" y="692280"/>
            <a:ext cx="720072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и и задачи месячника по правилам дорожной безопасности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нижение дорожно-транспортного травматизма на улицах и дорогах 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сохранение здоровья детей и взрослых, обеспечение безопасности жизнедеятельности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формирование у родителей, педагогов, воспитанников ответственности в деле сохранения собственного здоровья и безопасности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дать ребенку определенную систему знаний по правилам дорожного движения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формировать прочную привычку в применении полученных знаний и выполнении правил поведения в обыденной жизн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042920" y="692280"/>
            <a:ext cx="6913800" cy="24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нашей школе были проведены различные по форме мероприятия, направленные на предупреждение дорожного травматизма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01.09.2018г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нятие по ПДД «Соблюдение правил дорожного движения-залог безопасности на улицах»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умений прогнозировать свое поведение как участника дорожного движения. Расширять знания детей о светофоре, о значении сигналов светофора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1"/>
          <a:srcRect l="10149" t="-878" r="11454" b="0"/>
          <a:stretch/>
        </p:blipFill>
        <p:spPr>
          <a:xfrm>
            <a:off x="2843280" y="4197240"/>
            <a:ext cx="1009440" cy="1135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4" name="Рисунок 3" descr=""/>
          <p:cNvPicPr/>
          <p:nvPr/>
        </p:nvPicPr>
        <p:blipFill>
          <a:blip r:embed="rId2"/>
          <a:stretch/>
        </p:blipFill>
        <p:spPr>
          <a:xfrm>
            <a:off x="5219640" y="4764240"/>
            <a:ext cx="1152720" cy="1311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5508720" y="4929120"/>
            <a:ext cx="650880" cy="984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2920" y="907560"/>
            <a:ext cx="66978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09.2018год 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на «Вопросы дядюшки светофора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здоровый образ жизн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итывать общую культуру здоровь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коммуникативные умения воспитан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2"/>
          <a:stretch/>
        </p:blipFill>
        <p:spPr>
          <a:xfrm>
            <a:off x="2411280" y="3068640"/>
            <a:ext cx="1297080" cy="1860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561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на по ПДД «Знает вся моя семья, знаю ПДД и я». 23.09.2018год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и закрепить знания правил дорожного движения на улицах и дорогах, воспитывать у учащихся культуру поведения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1" descr=""/>
          <p:cNvPicPr/>
          <p:nvPr/>
        </p:nvPicPr>
        <p:blipFill>
          <a:blip r:embed="rId1"/>
          <a:srcRect l="0" t="0" r="19576" b="0"/>
          <a:stretch/>
        </p:blipFill>
        <p:spPr>
          <a:xfrm>
            <a:off x="5435640" y="4221000"/>
            <a:ext cx="1168200" cy="1089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0" name="Рисунок 2" descr=""/>
          <p:cNvPicPr/>
          <p:nvPr/>
        </p:nvPicPr>
        <p:blipFill>
          <a:blip r:embed="rId2"/>
          <a:srcRect l="0" t="0" r="18792" b="0"/>
          <a:stretch/>
        </p:blipFill>
        <p:spPr>
          <a:xfrm>
            <a:off x="1979640" y="3121200"/>
            <a:ext cx="1512720" cy="1396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640" y="-360"/>
            <a:ext cx="60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09.2018год.Конкурс рисунков «Азбука дорожного движения».(1-5 классы)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конкурса рисунков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и закрепить знания по правилам  поведения на дорог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3132000" y="3645000"/>
            <a:ext cx="2016360" cy="1388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67676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ждый из ребят проявил свою фантазию в рисунке, в своих работах показали свое видение, как уберечь себя и других ребят от беды. Воспитанники с большим желанием и интересом участвовали в конкурсе рисун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5126040" y="4425840"/>
            <a:ext cx="1122480" cy="13953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"/>
          <p:cNvPicPr/>
          <p:nvPr/>
        </p:nvPicPr>
        <p:blipFill>
          <a:blip r:embed="rId2"/>
          <a:stretch/>
        </p:blipFill>
        <p:spPr>
          <a:xfrm>
            <a:off x="2124000" y="2924280"/>
            <a:ext cx="12240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7280" y="620280"/>
            <a:ext cx="6193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9.2018году было организовано и проведено практическое занятие по правилам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жного движения с воспитанниками 4класс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2195640" y="3141720"/>
            <a:ext cx="1296720" cy="1633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8" name="Рисунок 3" descr=""/>
          <p:cNvPicPr/>
          <p:nvPr/>
        </p:nvPicPr>
        <p:blipFill>
          <a:blip r:embed="rId2"/>
          <a:stretch/>
        </p:blipFill>
        <p:spPr>
          <a:xfrm>
            <a:off x="5079960" y="4076640"/>
            <a:ext cx="1168560" cy="1492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6985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гра по станциям  «Знайте правила движения»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9.09.2018год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акрепить знания обучающихся воспитанников по правилам дорожного движени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законопослушных участников дорожного движени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ганда профилактики детского дорожно-транспортного травматизм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коллективизм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2484360" y="3429000"/>
            <a:ext cx="1366920" cy="1498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1" name="Рисунок 3" descr=""/>
          <p:cNvPicPr/>
          <p:nvPr/>
        </p:nvPicPr>
        <p:blipFill>
          <a:blip r:embed="rId2"/>
          <a:stretch/>
        </p:blipFill>
        <p:spPr>
          <a:xfrm>
            <a:off x="5238720" y="4724280"/>
            <a:ext cx="934920" cy="1081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Лариса</cp:lastModifiedBy>
  <dcterms:modified xsi:type="dcterms:W3CDTF">2019-12-10T07:52:47Z</dcterms:modified>
  <cp:revision>42</cp:revision>
  <dc:subject/>
  <dc:title>Слайд 1</dc:title>
</cp:coreProperties>
</file>