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ABF-FCB0-4C9D-8481-AFC8A8E9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2C0-D649-46BB-887D-2E761AD3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AED-EC4A-4A89-BBED-11E8F05B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8AC-A448-4BCF-BEDA-4B645D88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4A8-A994-4F85-A030-5E85E6AA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321-5D10-4E16-BA88-BE3062C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A45-B400-4D4D-A91C-EF8DF65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193-FB9A-4AE0-8378-00E4603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BE9-6D2D-4DEE-B7F6-5782DB01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878-225A-4FD1-B3C0-9F8D542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0BF-B0A7-4A7E-854D-324F03B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961-1D77-4838-A26D-4B2AA429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AC1-8BE0-4AE2-B6D0-4416F1DF5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1042920" y="1628640"/>
            <a:ext cx="6985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Мои рисунки\untitled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357200" y="179856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  <a:ea typeface="Times New Roman"/>
              </a:rPr>
              <a:t>за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  <a:ea typeface="Times New Roman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8"/>
          <p:cNvSpPr txBox="1"/>
          <p:nvPr/>
        </p:nvSpPr>
        <p:spPr>
          <a:xfrm>
            <a:off x="4140360" y="0"/>
            <a:ext cx="90144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Arial"/>
              </a:rPr>
              <a:t>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AutoShape 17"/>
          <p:cNvSpPr/>
          <p:nvPr/>
        </p:nvSpPr>
        <p:spPr>
          <a:xfrm>
            <a:off x="0" y="4786200"/>
            <a:ext cx="9144000" cy="20718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Великая задача человечест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стижение всеобщего прав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осудар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ммануил К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C:\Documents and Settings\admin\Мои документы\Мои рисунки\Emmanuel_Kant_157.jpg"/>
          <p:cNvPicPr/>
          <p:nvPr/>
        </p:nvPicPr>
        <p:blipFill>
          <a:blip r:embed="rId2"/>
          <a:stretch/>
        </p:blipFill>
        <p:spPr>
          <a:xfrm>
            <a:off x="1928880" y="285840"/>
            <a:ext cx="4643280" cy="4413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C:\Documents and Settings\admin\Мои документы\Мои рисунки\untitled.bmp"/>
          <p:cNvPicPr/>
          <p:nvPr/>
        </p:nvPicPr>
        <p:blipFill>
          <a:blip r:embed="rId2"/>
          <a:stretch/>
        </p:blipFill>
        <p:spPr>
          <a:xfrm>
            <a:off x="500040" y="428760"/>
            <a:ext cx="8286840" cy="6083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714240" y="714240"/>
            <a:ext cx="803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Признаки правового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1428840" y="157176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.Обеспечение подлинного верховенства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1428840" y="2292480"/>
            <a:ext cx="700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97036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. Право  отражает интересы личности, гражданина, воплощает в себе гражданские права и свободы, устанавливает взаимную ответственность государственной власти перед гражданами и граждан перед вла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1500120" y="40006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.Реализация принципа  разделения власти на законодательную, исполнительную и судебную ветви и независимости этих ветвей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6"/>
          <p:cNvSpPr/>
          <p:nvPr/>
        </p:nvSpPr>
        <p:spPr>
          <a:xfrm>
            <a:off x="1571760" y="50007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.Эффективная система защиты прав при помощи органов правосудия , права и свободы человека гарантируются судебной защи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C:\Documents and Settings\admin\Мои документы\Мои рисунки\1904.gif"/>
          <p:cNvPicPr/>
          <p:nvPr/>
        </p:nvPicPr>
        <p:blipFill>
          <a:blip r:embed="rId2"/>
          <a:stretch/>
        </p:blipFill>
        <p:spPr>
          <a:xfrm>
            <a:off x="714240" y="214200"/>
            <a:ext cx="7643880" cy="6291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1944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Правовое государств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это государств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способное обеспеч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правовые отношения в обществ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правовое равенств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защитить права гражд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3780000" y="6334200"/>
            <a:ext cx="24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4200" y="2781360"/>
            <a:ext cx="83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ffff"/>
                </a:solidFill>
                <a:latin typeface="Monotype Corsiva"/>
              </a:rPr>
              <a:t>Россия -правовое государство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3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ff"/>
                </a:solidFill>
                <a:latin typeface="Times New Roman"/>
                <a:ea typeface="Calibri"/>
              </a:rPr>
              <a:t>Тема дебатов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25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3"/>
          <p:cNvSpPr/>
          <p:nvPr/>
        </p:nvSpPr>
        <p:spPr>
          <a:xfrm>
            <a:off x="574560" y="710100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Диаграмма 18" descr=""/>
          <p:cNvPicPr/>
          <p:nvPr/>
        </p:nvPicPr>
        <p:blipFill>
          <a:blip r:embed="rId2"/>
          <a:stretch/>
        </p:blipFill>
        <p:spPr>
          <a:xfrm>
            <a:off x="420840" y="1352520"/>
            <a:ext cx="8442000" cy="393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7"/>
          <p:cNvSpPr/>
          <p:nvPr/>
        </p:nvSpPr>
        <p:spPr>
          <a:xfrm>
            <a:off x="500040" y="507708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  <a:ea typeface="Calibri"/>
              </a:rPr>
              <a:t>1.Затрудняюсь ответить-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  <a:ea typeface="Calibri"/>
              </a:rPr>
              <a:t>2. ДА-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  <a:ea typeface="Calibri"/>
              </a:rPr>
              <a:t>3. НЕТ-5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714240" y="428760"/>
            <a:ext cx="77155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зультаты статис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5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950"/>
                            </p:stCondLst>
                            <p:childTnLst>
                              <p:par>
                                <p:cTn id="81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5" descr="C:\Documents and Settings\admin\Мои документы\Мои рисунки\mzl_ccxzqibr_1024x1024-65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7"/>
          <p:cNvSpPr/>
          <p:nvPr/>
        </p:nvSpPr>
        <p:spPr>
          <a:xfrm>
            <a:off x="500040" y="785880"/>
            <a:ext cx="3786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Статья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«Российская Федерация –есть демократическое федеративное правовое государство с республиканской формой прав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C:\Documents and Settings\admin\Мои документы\Мои рисунки\6747573525954588.jpg"/>
          <p:cNvPicPr/>
          <p:nvPr/>
        </p:nvPicPr>
        <p:blipFill>
          <a:blip r:embed="rId2"/>
          <a:stretch/>
        </p:blipFill>
        <p:spPr>
          <a:xfrm>
            <a:off x="1571760" y="214200"/>
            <a:ext cx="5929200" cy="64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Мои документы\Мои рисунки\home2.jpg"/>
          <p:cNvPicPr/>
          <p:nvPr/>
        </p:nvPicPr>
        <p:blipFill>
          <a:blip r:embed="rId2"/>
          <a:stretch/>
        </p:blipFill>
        <p:spPr>
          <a:xfrm>
            <a:off x="500040" y="428760"/>
            <a:ext cx="8215200" cy="6000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928800" y="123480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97036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Темы эсс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- Правовое государство наше будущее или нынешний д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- Правовое государство в России - миф или реа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0360"/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- Разрешено все, что не запрещено законом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3:34:19Z</dcterms:created>
  <dc:creator>Шаталов</dc:creator>
  <dc:description/>
  <dc:language>en-US</dc:language>
  <cp:lastModifiedBy>bes</cp:lastModifiedBy>
  <dcterms:modified xsi:type="dcterms:W3CDTF">2013-04-10T05:06:09Z</dcterms:modified>
  <cp:revision>139</cp:revision>
  <dc:subject/>
  <dc:title>Слайд 1</dc:title>
</cp:coreProperties>
</file>