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B9D4-BBE8-4A21-B9DF-7F4E004A3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1AC3-568E-4F0B-A6FA-77E9619DD44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B414-5F12-4F92-8A19-0CD75E92076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48C-726B-4A6A-A1BE-7CA99C5D1DB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DB74-B112-4A22-9BD9-454FBB97A0A9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0473-5355-419A-8C80-67BA02502F7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704C-BD5A-4E58-9E38-C11975BF64F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90AA-D934-42D6-B9FF-29B0F24CFFA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B15A-4089-42D4-B18F-6698894509CB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117E-2C23-460A-A322-DB3C3C0D595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FFE-B3D0-44D5-8F41-A31CDA3650C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415C-BABF-4BC0-8AFD-A884552ED20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BBA0-9021-489D-AFFC-829F48027D89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D1D1-E87B-43A6-A10E-6AC6CAFC37A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6880" y="23623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crosoft Sans Serif"/>
              </a:rPr>
              <a:t>Рекомендательный материа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crosoft Sans Serif"/>
              </a:rPr>
              <a:t>для родител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crosoft Sans Serif"/>
              </a:rPr>
              <a:t>«Здоровьесберегающие технологии в ДОУ»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icrosoft Sans Serif"/>
              </a:rPr>
              <a:t>Муниципальное бюджетное дошкольное образовательное учреждение «Детский сад №212 «Солнышко» общеразвивающего вида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447920" y="51055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icrosoft Sans Serif"/>
              </a:rPr>
              <a:t>Подготовила: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icrosoft Sans Serif"/>
              </a:rPr>
              <a:t>И.В. Евстегнеева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90720" y="640872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icrosoft Sans Serif"/>
              </a:rPr>
              <a:t>Барнаул 201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" y="11426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ая гимнастика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1120" y="1981080"/>
            <a:ext cx="3267000" cy="3927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4419720" y="3100320"/>
            <a:ext cx="4492440" cy="3502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191120" y="2209680"/>
            <a:ext cx="5771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гимнастика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2"/>
          <a:stretch/>
        </p:blipFill>
        <p:spPr>
          <a:xfrm>
            <a:off x="263520" y="1201680"/>
            <a:ext cx="4384800" cy="3141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3"/>
          <a:stretch/>
        </p:blipFill>
        <p:spPr>
          <a:xfrm>
            <a:off x="4267080" y="3608280"/>
            <a:ext cx="4711680" cy="294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943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ые прогулки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5410080" y="2141640"/>
            <a:ext cx="3353040" cy="4162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4262400" cy="4116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5320" y="990720"/>
            <a:ext cx="7620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ющие процедуры в бассейне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здоровы!!!</a:t>
            </a:r>
            <a:endParaRPr b="0" lang="en-US" sz="6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37720" y="22856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– бесценный дар, потеряв его в молодости не найдёшь до самой старости. Так гласит народная мудрость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11426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2209320"/>
            <a:ext cx="693432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родителей с современными здоровьесберегающими технологиями ДОУ;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казать применение технологий в ходе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с детьми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 – 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пции дошкольного образования предусмотрено не только сохранение, но и активное формирование здорового образа жизни и здоровья воспитанников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81080" y="14475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ь детей здоровыми, сильными, жизнерадостными – задача каждого дошкольного учреждения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детей – главное достояние нации, критерий духовного, политического и социально-экономического развития общества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–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стояние полного физического, психического и социального благополучия, а не просто отсутствие болезней или физических дефектов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 –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стема мер, направленных на сохранение здоровья ребенка на всех этапах его обучения и развития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81080" y="533520"/>
            <a:ext cx="6934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здоровьесберегающих технологий способствует: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познавательной активности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ю психоэмоционального самочувствия и здоровья детей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заболеваемости, повышению уровня физической подготовленности, сформированности осознанной потребности в ведении здорового образа жизни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доровьесбережения в ДОУ: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ые режимы;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закаливающих мероприятий (хождение по “дорожкам здоровья”, бодрящая гимнастика);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ки детей на свежем воздухе;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образовательная деятельность по физической культуре;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ация двигательного режима (утренняя гимнастика, дыхательная гимнастика, зрительная, пальчиковая гимнастики и т.д.);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ционального питания;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профилактическая работа с детьми и родителями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образовательная деятельность – физкультура 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2"/>
          <a:stretch/>
        </p:blipFill>
        <p:spPr>
          <a:xfrm>
            <a:off x="3129120" y="2743200"/>
            <a:ext cx="2966760" cy="3924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3"/>
          <a:stretch/>
        </p:blipFill>
        <p:spPr>
          <a:xfrm>
            <a:off x="6324480" y="1638360"/>
            <a:ext cx="2514600" cy="4114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4"/>
          <a:stretch/>
        </p:blipFill>
        <p:spPr>
          <a:xfrm>
            <a:off x="152280" y="1722600"/>
            <a:ext cx="276696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Ян</cp:lastModifiedBy>
  <dcterms:modified xsi:type="dcterms:W3CDTF">2019-12-10T14:10:37Z</dcterms:modified>
  <cp:revision>161</cp:revision>
  <dc:subject/>
  <dc:title>Name of presentation</dc:title>
</cp:coreProperties>
</file>