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A7142-6894-4915-94E5-78B90992A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839D0-E399-437C-9C5A-AD9824D0C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7B9DD-F077-4661-85B1-BA0819BFE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A2B9F-293D-4645-A1C6-E58E83E2A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6551E-5C36-46BA-858A-54E4BCAE5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4BA1E-9C72-4FBD-B201-F54E27E8F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51BF3-DEEA-4D82-8DA2-9BE1B10DF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70B3F-FB8C-498D-BCEB-0E53B038C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1C4AB-84F7-4BC0-B8E6-5884C8CD4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BFBEF-0C09-44A6-BE12-3521EB40F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83D24-3E18-49B7-9C5C-A34993405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EDF60-F656-4340-A008-4B6650349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19AB7-1314-4CE2-8267-36F788B1C58E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71640" y="476280"/>
            <a:ext cx="7524720" cy="30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Речевое развитие в соответствии с ФГОС дошкольного образовани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Прямоугольник 1"/>
          <p:cNvSpPr/>
          <p:nvPr/>
        </p:nvSpPr>
        <p:spPr>
          <a:xfrm>
            <a:off x="3924360" y="5359320"/>
            <a:ext cx="4572000" cy="104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Выполнила: воспитатель МБДОУ №1 «Дружные ребят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Пацкова О.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овая обучающая ситуаци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539640" y="2133360"/>
            <a:ext cx="8229600" cy="41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ctr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ТУАЦИИ- ИЛЛЮСТРАЦ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ctr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ctr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ТУАЦИИ- УПРАЖ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ctr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ctr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ТУАЦИИ – ПРОБЛЕ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ctr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ТУАЦИИ- ОЦЕНК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23640" y="-360"/>
            <a:ext cx="8507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ценарии активизирующего общени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61128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говоры с детьм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дактические игры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вижные игр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одные игры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сценировк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аматизации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следование предме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а как коммуникативная ситуация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39528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ы с готовыми текстами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одвижны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«Король», «Коршун», «Змея», «Лиски» и др.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дидактически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«Я садовником родился», «Краски», «Смешинки» и др. (освоить разнообразие инициативных и ответных реплик, приобщиться к выполнению основных правил ведения диалога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дактические игры, предполагающие диалогическое взаимодействие, но не содержащие готовых реплик: «Кто кого запутает», «Поручение», «Похожи – не похожи», «Угощайся пирожком», игры с телефоном «Вызов врача», «Звонок маме на работу», «Бюро добрых услуг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литературно-музыкальные праздник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фольклорные ярмарк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игры- драматизаци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разные виды театр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речевые газет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книги самоделк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облемные ситуаци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осиделк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интерактивные речевые стен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асибо за внимание!!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68436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ru-RU" sz="4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сновная цель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чевого развития – это развитие свободного общения с взрослыми и детьми, овладение конструктивными способами и средствами взаимодействия с окружающим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чевое развитие включа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539280" y="1413000"/>
            <a:ext cx="8425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владение речью как средством общения и культу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огащение активного словар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связной, грамматически правильной диалогической и монологической реч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речевого творче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комство с книжной культурой, детской литературой, понимание на слух текстов различных жанров детской литерату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е звуковой аналитико-синтетической активности как предпосылки обучения грамот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звуковой и интонационной культуры, фонематического слух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22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енности речевого развития детей первой младшей групп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68360" y="2072880"/>
            <a:ext cx="8136000" cy="42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мотная речь педагог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ы и приёмы, направленные на развитие речи как средства общения (поручения, подсказка, образец, сопряжённая речь и др.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ы и приёмы, направленные на формирование умения слушать и слышать (рассказы, чтение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стоятельное рассматривание картинок, игрушек, книжек (на развитие инициативной реч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енности речевого развития детей второй младшей групп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68360" y="1628280"/>
            <a:ext cx="842472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мотная  речь педагога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ы и приёмы, направленные на развитие речи как средства общения (поручения, подсказ, образец обращения, образец взаимодействия посредством речи в разных видах деятельности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ы и приёмы, направленные на формирование умения слушать и слышать (разговоры, рассказы, чтение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я «Уголка интересных вещей» (стимулирование самостоятельного рассматривания книг, картинок, игрушек, предметов для развития инициативной речи, обогащения и уточнения представлений детей об окружающем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енности речевого развития детей 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ней групп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179280" y="1412640"/>
            <a:ext cx="8964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мотная речь педагога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ы и приёмы, направленные на развитие речи как средства общения (удовлетворение потребности в получении и обсуждении информации; формирование навыков общения со сверстниками; знакомство с формулами речевого этикета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ы и приёмы, направленные на формирование умения слушать и слышать (выслушивание детей; уточнение ответов; подсказ; рассказы воспитателя - акцент на стимулирование познавательного интереса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я деятельности в «Уголке интересных вещей» (наборы картинок, фотографий, открыток, лупы, магниты и др. для развития объяснительной речи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енности речевого развития детей старшей и подготовительной к школе груп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23640" y="1628280"/>
            <a:ext cx="856908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мотная речь педагога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ы и приёмы, направленные на развитие речи как средства общения (знакомство с формулами речевого этикета, целенаправленное формирование всех групп диалогических умений; умений грамотного отстаивания своей точки зрения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ы и приёмы, направленные на формирование навыков самостоятельного рассказывания (поощрение рассказов детей; трансформация высказываний в связные рассказы; запись и повторение рассказов; уточнения, обобщения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я деятельности в «Уголке интересных вещей» (пополнение уголка – акцент на расширении представлений детей о многообразии окружающего мира; организация восприятия с последующим обсуждением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ние индивидуального «авторского речевого пространства» каждого ребёнк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чевое развит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5" name="Прямая со стрелкой 4"/>
          <p:cNvCxnSpPr/>
          <p:nvPr/>
        </p:nvCxnSpPr>
        <p:spPr>
          <a:xfrm flipH="1">
            <a:off x="2267640" y="1052280"/>
            <a:ext cx="1296360" cy="1872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6" name="Прямая со стрелкой 6"/>
          <p:cNvCxnSpPr/>
          <p:nvPr/>
        </p:nvCxnSpPr>
        <p:spPr>
          <a:xfrm>
            <a:off x="5148360" y="1052280"/>
            <a:ext cx="792720" cy="1872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7" name="Прямоугольник 7"/>
          <p:cNvSpPr/>
          <p:nvPr/>
        </p:nvSpPr>
        <p:spPr>
          <a:xfrm>
            <a:off x="826920" y="2924280"/>
            <a:ext cx="2592720" cy="194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реч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8"/>
          <p:cNvSpPr/>
          <p:nvPr/>
        </p:nvSpPr>
        <p:spPr>
          <a:xfrm>
            <a:off x="5364000" y="2924280"/>
            <a:ext cx="2448000" cy="194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удожественная литерату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39528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овательная ситуация -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дущая форма работы по развитию речи детей дошкольного возра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user</cp:lastModifiedBy>
  <dcterms:modified xsi:type="dcterms:W3CDTF">2019-12-10T01:26:51Z</dcterms:modified>
  <cp:revision>749</cp:revision>
  <dc:subject/>
  <dc:title>Diapositiva 1</dc:title>
</cp:coreProperties>
</file>