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551-CD02-434D-9F1F-C3E797F8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76C-AFF7-4C76-873D-C32D75E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AD1-3DE4-4298-A65E-167AD8EB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AC2-F3D0-4C18-A92E-8AFC1E49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8A7-501F-42AE-B26F-4225B7F4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DC3-3E6A-49E1-9E98-AF4A879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646-C354-48C1-84E3-3A4F92EA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FD0-6D67-4810-BDA3-39437EBE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8CF-DEBB-4DF9-B38D-B078D1FE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981-AA8A-4EC7-82F9-2B1C5A5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12F-6CE0-4CD6-8E88-A5988B0A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369-42D3-4D6A-A337-A235313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D5FF-CBBA-49E4-98E2-634D1D25D9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5247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чевое развитие в соответствии с ФГОС дошкольного 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924360" y="5359320"/>
            <a:ext cx="4572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воспитатель МБДОУ №1 «Дружные ребя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ц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обучающая ситу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ИЛЛЮ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 –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и активизирующего общ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с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как коммуникативная ситуац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готовыми текстам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виж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ороль», «Коршун», «Змея», «Лиски»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Я садовником родился», «Краски», «Смешинки» и др. (освоить разнообразие инициативных и ответных реплик, приобщиться к выполнению основных правил ведения диалог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редполагающие диалогическое взаимодействие, но не содержащие готовых реплик: «Кто кого запутает», «Поручение», «Похожи – не похожи», «Угощайся пирожком», игры с телефоном «Вызов врача», «Звонок маме на работу», «Бюро добр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о-музыкаль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льклорные ярмар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ы- драмат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ные виды теат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ечевые газ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ниги самод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блемные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ид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активные речевые сте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– это развитие свободного общения с взрослыми и детьми, овладение конструктивными способами и средствами взаимодействия с окружающ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 включ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280" y="1413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речью как средством общения и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активного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, грамматически правильной диалогической и монологическ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книжной культурой, детской литературой, понимание на слух текстов различных жанров детск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звуковой аналитико-синтетической активности как предпосылки обучения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ой и интонационной культуры, фонематического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первой млад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2072880"/>
            <a:ext cx="8136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поручения, подсказка, образец, сопряжённая речь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рассказы, чт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рассматривание картинок, игрушек, книжек (на развитие инициативной ре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второй млад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 речь педаго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поручения, подсказ, образец обращения, образец взаимодействия посредством речи в разных видах деятель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разговоры, рассказы, чт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«Уголка интересных вещей» (стимулирование самостоятельного рассматривания книг, картинок, игрушек, предметов для развития инициативной речи, обогащения и уточнения представлений детей об окружающе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удовлетворение потребности в получении и обсуждении информации; формирование навыков общения со сверстниками; знакомство с формулами речевого этикета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выслушивание детей; уточнение ответов; подсказ; рассказы воспитателя - акцент на стимулирование познавательного интере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в «Уголке интересных вещей» (наборы картинок, фотографий, открыток, лупы, магниты и др. для развития объяснительной реч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старшей и подготовительной к школе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3640" y="1628280"/>
            <a:ext cx="8569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знакомство с формулами речевого этикета, целенаправленное формирование всех групп диалогических умений; умений грамотного отстаивания своей точки зр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навыков самостоятельного рассказывания (поощрение рассказов детей; трансформация высказываний в связные рассказы; запись и повторение рассказов; уточнения, обобщ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в «Уголке интересных вещей» (пополнение уголка – акцент на расширении представлений детей о многообразии окружающего мира; организация восприятия с последующим обсуждение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дивидуального «авторского речевого пространства» каждого ребё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 flipH="1">
            <a:off x="2267640" y="1052280"/>
            <a:ext cx="129636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6"/>
          <p:cNvCxnSpPr/>
          <p:nvPr/>
        </p:nvCxnSpPr>
        <p:spPr>
          <a:xfrm>
            <a:off x="5148360" y="1052280"/>
            <a:ext cx="79272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Прямоугольник 7"/>
          <p:cNvSpPr/>
          <p:nvPr/>
        </p:nvSpPr>
        <p:spPr>
          <a:xfrm>
            <a:off x="826920" y="2924280"/>
            <a:ext cx="259272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5364000" y="2924280"/>
            <a:ext cx="2448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туа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форма работы по развитию речи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2-10T01:26:51Z</dcterms:modified>
  <cp:revision>749</cp:revision>
  <dc:subject/>
  <dc:title>Diapositiva 1</dc:title>
</cp:coreProperties>
</file>