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86B5-703B-496E-B3C5-455592EB4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832C-4382-4B58-97D8-C4B1F41C4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01DE2-D0E6-4E6D-B996-363C3DEA5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26C6-7D8A-4175-89D9-96DBF7AF0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930-D7A7-4827-878B-FA3286DF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0332-D0BC-4995-9FEA-FB406165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DF87-EF6C-4654-B830-30C01D91F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312D-A38D-4242-A6BC-4821A6E42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D5AB-237E-4645-AE91-D3C3344C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AAE0-5402-4359-AA79-5FD384B9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0553-F2ED-42EC-9DB8-2FC84051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E38C-6249-4E4C-B25D-8AC7CB00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90A9-AE0F-4705-9D4E-A844253217D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71640" y="476280"/>
            <a:ext cx="7524720" cy="30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ечевое развитие в соответствии с ФГОС дошкольного образ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Прямоугольник 1"/>
          <p:cNvSpPr/>
          <p:nvPr/>
        </p:nvSpPr>
        <p:spPr>
          <a:xfrm>
            <a:off x="3924360" y="5359320"/>
            <a:ext cx="4572000" cy="104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полнила: воспитатель МБДОУ №1 «Дружные ребят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Calibri"/>
              </a:rPr>
              <a:t>Пацкова О.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овая обучающая ситуац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539640" y="2133360"/>
            <a:ext cx="82296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ИЛЛЮСТРА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УПРАЖ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 –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И- ОЦЕНК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ценарии активизирующего общ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1128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ы с деть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вижные игр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ые игр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цениров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аматиз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едование предме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как коммуникативная ситуац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ы с готовыми текстами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виж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Король», «Коршун», «Змея», «Лиски» и др.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Я садовником родился», «Краски», «Смешинки» и др. (освоить разнообразие инициативных и ответных реплик, приобщиться к выполнению основных правил ведения диалог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дактические игры, предполагающие диалогическое взаимодействие, но не содержащие готовых реплик: «Кто кого запутает», «Поручение», «Похожи – не похожи», «Угощайся пирожком», игры с телефоном «Вызов врача», «Звонок маме на работу», «Бюро добрых услуг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итературно-музыкальные праздни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льклорные ярмар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гры- драматиз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азные виды театр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речевые газ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ниги само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блемные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сиделк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интерактивные речевые стен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4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ая цель 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го развития – это развитие свободного общения с взрослыми и детьми, овладение конструктивными способами и средствами взаимодействия с окружающи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 включа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539280" y="14130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ладение речью как средством общения и куль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гащение активного словар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связной, грамматически правильной диалогической и монологической 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евого творче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комство с книжной культурой, детской литературой, понимание на слух текстов различных жанров детской литерату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звуковой аналитико-синтетической активности как предпосылки обучения грам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звуковой и интонационной культуры, фонематического слух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22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перв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2072880"/>
            <a:ext cx="813600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ка, образец, сопряжённая речь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стоятельное рассматривание картинок, игрушек, книжек (на развитие инициативной реч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второй младш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68360" y="1628280"/>
            <a:ext cx="84247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 речь педагог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поручения, подсказ, образец обращения, образец взаимодействия посредством речи в разных видах деятельности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разговоры, рассказы, чтение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«Уголка интересных вещей» (стимулирование самостоятельного рассматривания книг, картинок, игрушек, предметов для развития инициативной речи, обогащения и уточнения представлений детей об окружающем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й групп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79280" y="141264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удовлетворение потребности в получении и обсуждении информации; формирование навыков общения со сверстниками; знакомство с формулами речевого этикета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умения слушать и слышать (выслушивание детей; уточнение ответов; подсказ; рассказы воспитателя - акцент на стимулирование познавательного интереса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наборы картинок, фотографий, открыток, лупы, магниты и др. для развития объяснительной речи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речевого развития детей старшей и подготовительной к школе груп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23640" y="1628280"/>
            <a:ext cx="85690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мотная речь педагог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развитие речи как средства общения (знакомство с формулами речевого этикета, целенаправленное формирование всех групп диалогических умений; умений грамотного отстаивания своей точки зр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приёмы, направленные на формирование навыков самостоятельного рассказывания (поощрение рассказов детей; трансформация высказываний в связные рассказы; запись и повторение рассказов; уточнения, обобщения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деятельности в «Уголке интересных вещей» (пополнение уголка – акцент на расширении представлений детей о многообразии окружающего мира; организация восприятия с последующим обсуждением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ндивидуального «авторского речевого пространства» каждого ребён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чевое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Прямая со стрелкой 4"/>
          <p:cNvCxnSpPr/>
          <p:nvPr/>
        </p:nvCxnSpPr>
        <p:spPr>
          <a:xfrm flipH="1">
            <a:off x="2267640" y="1052280"/>
            <a:ext cx="129636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6" name="Прямая со стрелкой 6"/>
          <p:cNvCxnSpPr/>
          <p:nvPr/>
        </p:nvCxnSpPr>
        <p:spPr>
          <a:xfrm>
            <a:off x="5148360" y="1052280"/>
            <a:ext cx="792720" cy="18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57" name="Прямоугольник 7"/>
          <p:cNvSpPr/>
          <p:nvPr/>
        </p:nvSpPr>
        <p:spPr>
          <a:xfrm>
            <a:off x="826920" y="2924280"/>
            <a:ext cx="259272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5364000" y="2924280"/>
            <a:ext cx="2448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удожественная 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тельная ситуац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ущая форма работы по развитию речи детей дошкольного возр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user</cp:lastModifiedBy>
  <dcterms:modified xsi:type="dcterms:W3CDTF">2019-12-10T01:26:51Z</dcterms:modified>
  <cp:revision>749</cp:revision>
  <dc:subject/>
  <dc:title>Diapositiva 1</dc:title>
</cp:coreProperties>
</file>