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C86-19F0-4B12-A836-D903AE6D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49040"/>
            <a:ext cx="8215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88C-B72B-4876-8299-8930AC1B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4904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F5A-A335-43EA-A274-25E3E562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4904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74904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49040"/>
            <a:ext cx="2644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96C-E9A8-463B-B269-CA870246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3FC-B999-4CB3-8221-5548F3D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D63-94A5-4D6C-931A-1337D98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B89-7771-497C-9653-776E7C8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4B8-224F-4D2F-8839-165B00D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C59-2ABD-44A4-83F7-371A76B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E1A-1428-40C1-9856-2628CC6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4904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B2E-D97E-4A77-B4AF-CDF6F4A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49040"/>
            <a:ext cx="8215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2AD-AA55-45A4-803B-17ED919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83FAF4-A234-4BA4-85C7-F07AAE63E3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95280" y="260280"/>
            <a:ext cx="8353440" cy="24480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500" spc="-1" strike="noStrike">
                <a:solidFill>
                  <a:srgbClr val="16165d"/>
                </a:solidFill>
                <a:latin typeface="Times New Roman"/>
              </a:rPr>
              <a:t>Schools in Britain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84042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1403280" y="1916280"/>
            <a:ext cx="64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Look at Linda’s homepage. Help her to complete the tex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Answer her questi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https://static8.depositphotos.com/1339671/955/v/950/depositphotos_9559529-stock-illustration-line-spiral-notepad.jpg"/>
          <p:cNvPicPr/>
          <p:nvPr/>
        </p:nvPicPr>
        <p:blipFill>
          <a:blip r:embed="rId2"/>
          <a:stretch/>
        </p:blipFill>
        <p:spPr>
          <a:xfrm>
            <a:off x="179280" y="6480"/>
            <a:ext cx="843444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4"/>
          <p:cNvSpPr/>
          <p:nvPr/>
        </p:nvSpPr>
        <p:spPr>
          <a:xfrm flipV="1">
            <a:off x="2046240" y="1277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234000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http://scr.templatemonster.com/39300/39379-original.jpg"/>
          <p:cNvPicPr/>
          <p:nvPr/>
        </p:nvPicPr>
        <p:blipFill>
          <a:blip r:embed="rId3"/>
          <a:stretch/>
        </p:blipFill>
        <p:spPr>
          <a:xfrm>
            <a:off x="900000" y="692280"/>
            <a:ext cx="69548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https://static8.depositphotos.com/1339671/955/v/950/depositphotos_9559529-stock-illustration-line-spiral-notepad.jpg"/>
          <p:cNvPicPr/>
          <p:nvPr/>
        </p:nvPicPr>
        <p:blipFill>
          <a:blip r:embed="rId2"/>
          <a:stretch/>
        </p:blipFill>
        <p:spPr>
          <a:xfrm>
            <a:off x="711360" y="6480"/>
            <a:ext cx="8432640" cy="6851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 flipV="1">
            <a:off x="2046240" y="1277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2771640" y="692280"/>
            <a:ext cx="388800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mic"/>
              </a:rPr>
              <a:t>Welcome to my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1619280" y="1268280"/>
            <a:ext cx="2016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mic"/>
              </a:rPr>
              <a:t>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1619280" y="1700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i, my name is Nick and I’m 10.I am from Lond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 study at Hillside Scho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234000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1619280" y="3213000"/>
            <a:ext cx="6192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 like studying. We have many new subjects at school this year. My favourite are English, IT, PE, Maths,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Music and Art. Do you like IT lessons? Why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1619280" y="2708280"/>
            <a:ext cx="2521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mic"/>
              </a:rPr>
              <a:t>Lessons I Lov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619280" y="4653000"/>
            <a:ext cx="1800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omic"/>
              </a:rPr>
              <a:t>My d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619280" y="51577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I want  to be a teacher like my mum. It’s an interesting job, I think. And I hope my students will…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https://medaboutme.ru/upload/resize_cache/iblock/82b/960_540_240cd750bba9870f18aada2478b24840a/shutterstock_408010879.jpg"/>
          <p:cNvPicPr/>
          <p:nvPr/>
        </p:nvPicPr>
        <p:blipFill>
          <a:blip r:embed="rId3"/>
          <a:stretch/>
        </p:blipFill>
        <p:spPr>
          <a:xfrm>
            <a:off x="6205680" y="4084560"/>
            <a:ext cx="180468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6291360" y="755640"/>
            <a:ext cx="2212920" cy="13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1403280" y="1916280"/>
            <a:ext cx="64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Home tas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Write about you and your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431640" y="360360"/>
            <a:ext cx="8280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1042920" y="115920"/>
            <a:ext cx="7345440" cy="1152360"/>
          </a:xfrm>
          <a:prstGeom prst="foldedCorner">
            <a:avLst>
              <a:gd name="adj" fmla="val 23069"/>
            </a:avLst>
          </a:prstGeom>
          <a:solidFill>
            <a:srgbClr val="85f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Times New Roman"/>
              </a:rPr>
              <a:t>Nursery schools 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P</a:t>
            </a:r>
            <a:r>
              <a:rPr b="1" i="1" lang="ru-RU" sz="3600" spc="-1" strike="noStrike">
                <a:solidFill>
                  <a:srgbClr val="16165d"/>
                </a:solidFill>
                <a:latin typeface="Times New Roman"/>
              </a:rPr>
              <a:t>laygroups</a:t>
            </a: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 (3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008000" cy="846000"/>
          </a:xfrm>
          <a:prstGeom prst="rect">
            <a:avLst/>
          </a:prstGeom>
          <a:ln w="9360">
            <a:solidFill>
              <a:srgbClr val="3333cc"/>
            </a:solidFill>
            <a:round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1143000" y="0"/>
            <a:ext cx="647640" cy="7207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"/>
          <p:cNvSpPr/>
          <p:nvPr/>
        </p:nvSpPr>
        <p:spPr>
          <a:xfrm>
            <a:off x="1042920" y="1341360"/>
            <a:ext cx="7274160" cy="1150920"/>
          </a:xfrm>
          <a:prstGeom prst="foldedCorner">
            <a:avLst>
              <a:gd name="adj" fmla="val 23069"/>
            </a:avLst>
          </a:prstGeom>
          <a:solidFill>
            <a:srgbClr val="85ffe0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Times New Roman"/>
              </a:rPr>
              <a:t>Primary sch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Infant (5-7)   Junior(7-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7164360" y="1557360"/>
            <a:ext cx="936720" cy="790560"/>
          </a:xfrm>
          <a:prstGeom prst="rect">
            <a:avLst/>
          </a:prstGeom>
          <a:ln w="9360">
            <a:solidFill>
              <a:srgbClr val="3333cc"/>
            </a:solidFill>
            <a:round/>
          </a:ln>
        </p:spPr>
      </p:pic>
      <p:sp>
        <p:nvSpPr>
          <p:cNvPr id="50" name="AutoShape 1"/>
          <p:cNvSpPr/>
          <p:nvPr/>
        </p:nvSpPr>
        <p:spPr>
          <a:xfrm>
            <a:off x="1042920" y="2565360"/>
            <a:ext cx="7345440" cy="1368360"/>
          </a:xfrm>
          <a:prstGeom prst="foldedCorner">
            <a:avLst>
              <a:gd name="adj" fmla="val 23069"/>
            </a:avLst>
          </a:prstGeom>
          <a:solidFill>
            <a:srgbClr val="85ffe0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6165d"/>
                </a:solidFill>
                <a:latin typeface="Times New Roman"/>
              </a:rPr>
              <a:t>Secondary sch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(11/12-16</a:t>
            </a:r>
            <a:r>
              <a:rPr b="1" i="1" lang="en-US" sz="3600" spc="-1" strike="noStrike">
                <a:solidFill>
                  <a:srgbClr val="2323d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7812000" y="-10008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6"/>
          <a:stretch/>
        </p:blipFill>
        <p:spPr>
          <a:xfrm>
            <a:off x="6875640" y="2781360"/>
            <a:ext cx="1319040" cy="934920"/>
          </a:xfrm>
          <a:prstGeom prst="rect">
            <a:avLst/>
          </a:prstGeom>
          <a:ln w="9360">
            <a:solidFill>
              <a:srgbClr val="3333cc"/>
            </a:solidFill>
            <a:round/>
          </a:ln>
        </p:spPr>
      </p:pic>
      <p:sp>
        <p:nvSpPr>
          <p:cNvPr id="53" name="AutoShape 1"/>
          <p:cNvSpPr/>
          <p:nvPr/>
        </p:nvSpPr>
        <p:spPr>
          <a:xfrm>
            <a:off x="1042920" y="4005360"/>
            <a:ext cx="7345440" cy="1295280"/>
          </a:xfrm>
          <a:prstGeom prst="foldedCorner">
            <a:avLst>
              <a:gd name="adj" fmla="val 23069"/>
            </a:avLst>
          </a:prstGeom>
          <a:solidFill>
            <a:srgbClr val="85ffe0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6</a:t>
            </a:r>
            <a:r>
              <a:rPr b="1" i="1" lang="en-US" sz="3600" spc="-1" strike="noStrike" baseline="30000">
                <a:solidFill>
                  <a:srgbClr val="16165d"/>
                </a:solidFill>
                <a:latin typeface="Times New Roman"/>
              </a:rPr>
              <a:t>th</a:t>
            </a: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 form colle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(16-1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7"/>
          <a:stretch/>
        </p:blipFill>
        <p:spPr>
          <a:xfrm>
            <a:off x="6732720" y="4005360"/>
            <a:ext cx="1334880" cy="1008000"/>
          </a:xfrm>
          <a:prstGeom prst="rect">
            <a:avLst/>
          </a:prstGeom>
          <a:ln w="9360">
            <a:solidFill>
              <a:srgbClr val="3333cc"/>
            </a:solidFill>
            <a:round/>
          </a:ln>
        </p:spPr>
      </p:pic>
      <p:sp>
        <p:nvSpPr>
          <p:cNvPr id="55" name="AutoShape 1"/>
          <p:cNvSpPr/>
          <p:nvPr/>
        </p:nvSpPr>
        <p:spPr>
          <a:xfrm>
            <a:off x="1042920" y="5373720"/>
            <a:ext cx="7274160" cy="1295280"/>
          </a:xfrm>
          <a:prstGeom prst="foldedCorner">
            <a:avLst>
              <a:gd name="adj" fmla="val 23069"/>
            </a:avLst>
          </a:prstGeom>
          <a:solidFill>
            <a:srgbClr val="85ffe0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Univers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16165d"/>
                </a:solidFill>
                <a:latin typeface="Times New Roman"/>
              </a:rPr>
              <a:t>(18+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https://careerist.ru/news/wp-content/uploads/2016/09/a2-1.jpg"/>
          <p:cNvPicPr/>
          <p:nvPr/>
        </p:nvPicPr>
        <p:blipFill>
          <a:blip r:embed="rId8"/>
          <a:stretch/>
        </p:blipFill>
        <p:spPr>
          <a:xfrm>
            <a:off x="6804000" y="5373720"/>
            <a:ext cx="13017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2160720" y="360360"/>
            <a:ext cx="4967280" cy="151128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16165d"/>
                </a:solidFill>
                <a:latin typeface="Times New Roman"/>
              </a:rPr>
              <a:t>Secondary sch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551640" y="216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2160720" y="216000"/>
            <a:ext cx="690480" cy="68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s://medaboutme.ru/upload/resize_cache/iblock/82b/960_540_240cd750bba9870f18aada2478b24840a/shutterstock_408010879.jpg"/>
          <p:cNvPicPr/>
          <p:nvPr/>
        </p:nvPicPr>
        <p:blipFill>
          <a:blip r:embed="rId4"/>
          <a:stretch/>
        </p:blipFill>
        <p:spPr>
          <a:xfrm>
            <a:off x="1403280" y="2276640"/>
            <a:ext cx="6784920" cy="3816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>
            <a:off x="179280" y="189000"/>
            <a:ext cx="8496360" cy="619272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2400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s://skyteach.ru/wp-content/uploads/2019/03/chris-ryan-56a563a95f9b58b7d0dca13d.jpg"/>
          <p:cNvPicPr/>
          <p:nvPr/>
        </p:nvPicPr>
        <p:blipFill>
          <a:blip r:embed="rId4"/>
          <a:stretch/>
        </p:blipFill>
        <p:spPr>
          <a:xfrm>
            <a:off x="611280" y="3284640"/>
            <a:ext cx="4868640" cy="2592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65" name="TextBox 7"/>
          <p:cNvSpPr/>
          <p:nvPr/>
        </p:nvSpPr>
        <p:spPr>
          <a:xfrm>
            <a:off x="2195640" y="549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 u="sng">
                <a:solidFill>
                  <a:srgbClr val="16165d"/>
                </a:solidFill>
                <a:uFillTx/>
                <a:latin typeface="Times New Roman"/>
              </a:rPr>
              <a:t>School</a:t>
            </a:r>
            <a:r>
              <a:rPr b="1" i="1" lang="en-US" sz="2000" spc="-1" strike="noStrike" u="sng">
                <a:solidFill>
                  <a:srgbClr val="16165d"/>
                </a:solidFill>
                <a:uFillTx/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Su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971640" y="1268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Secondary school children study English, Maths, Science, History, Art, Geography, Music, a Foreign language and P</a:t>
            </a:r>
            <a:r>
              <a:rPr b="1" i="1" lang="en-US" sz="2800" spc="-1" strike="noStrike">
                <a:solidFill>
                  <a:srgbClr val="16165d"/>
                </a:solidFill>
                <a:latin typeface="Times New Roman"/>
              </a:rPr>
              <a:t>E</a:t>
            </a: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1116000" y="170028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What do they do in the lessons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1258920" y="404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Read and m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042920" y="1052640"/>
            <a:ext cx="74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ask and answer               poems by 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learn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                               good and excellent 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sing                                  to mus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do                                     Russian into 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get                                    a lot of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read                                  so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study                                 how to use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recite                                pas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listen                                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translate from                          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2228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1403280" y="40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In the lessons students</a:t>
            </a:r>
            <a:r>
              <a:rPr b="0" lang="en-US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......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042920" y="1052640"/>
            <a:ext cx="74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2228b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22228b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Ask and answer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a lot of ques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Learn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how to use compu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Sing so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Do experi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Read boo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Study past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Recite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  <a:ea typeface="Times New Roman"/>
              </a:rPr>
              <a:t> poems by he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Listen to mus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Translate from Russian into Engli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6165d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16165d"/>
                </a:solidFill>
                <a:latin typeface="Arial Black"/>
              </a:rPr>
              <a:t>Get good and excellent mar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2228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324000" y="260280"/>
            <a:ext cx="8569080" cy="6337440"/>
          </a:xfrm>
          <a:prstGeom prst="foldedCorner">
            <a:avLst>
              <a:gd name="adj" fmla="val 666"/>
            </a:avLst>
          </a:prstGeom>
          <a:solidFill>
            <a:srgbClr val="ffff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403280" y="1916280"/>
            <a:ext cx="64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Work in Pairs. Complete these sentences. Name the subjec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https://static8.depositphotos.com/1339671/955/v/950/depositphotos_9559529-stock-illustration-line-spiral-notepad.jpg"/>
          <p:cNvPicPr/>
          <p:nvPr/>
        </p:nvPicPr>
        <p:blipFill>
          <a:blip r:embed="rId2"/>
          <a:stretch/>
        </p:blipFill>
        <p:spPr>
          <a:xfrm>
            <a:off x="179280" y="6480"/>
            <a:ext cx="8434440" cy="6851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4"/>
          <p:cNvSpPr/>
          <p:nvPr/>
        </p:nvSpPr>
        <p:spPr>
          <a:xfrm flipV="1">
            <a:off x="2046240" y="1277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3496320" y="1197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on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2050920" y="170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1. Eng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124000" y="220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2.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234000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2124000" y="32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4.History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2124000" y="27082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.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124000" y="371628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5.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школа 4</cp:lastModifiedBy>
  <dcterms:modified xsi:type="dcterms:W3CDTF">2019-10-15T08:34:2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