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jpeg" ContentType="image/jpeg"/>
  <Override PartName="/ppt/media/image10.png" ContentType="image/png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23.gif" ContentType="image/gif"/>
  <Override PartName="/ppt/media/image3.png" ContentType="image/png"/>
  <Override PartName="/ppt/media/image4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E22-4FBE-4FE0-9CB9-6BAE0AE3F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2762-6ACD-48AC-BEF5-58A11ADFF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8C7-7065-41B9-8FA3-1EE8B31C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BEE-1163-4902-B376-9623CB25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68F-2AC8-4DEE-8EBA-70B3EA3B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53F-E177-462C-9576-5500D2A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CBA-D0F4-49AE-AC12-E1DA9121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6863-2A50-4AFE-AED7-C8E8665C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E00A-E11E-4F37-8825-A3D1D70F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72A1-3D78-4B9F-A4CB-276255E1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DF9A-B841-46DE-9602-2B1180E9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C9D-7130-49B2-AB17-094A8004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FD4-638B-4128-84E7-C52EA9A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4B8-1DC8-467C-BFE7-3A2BF9F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7203-69A8-456B-88B2-72ABD69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E5F-739D-4678-8722-616D25A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EAA4-CA93-4E69-8B6B-F83355D5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4BE5-5605-4947-A73B-635DB99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6FFC-FA81-431D-92D7-0BB8B2C1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2CA-3376-475F-B0FE-6BD8FF3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D6B-9E8B-4134-892B-3315C500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637-D744-464D-B120-BC65803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E65-EE93-4BD6-9770-91DCA74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63E-2CB4-43D2-A4A8-34E8391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DA-4386-446F-B18B-CB74FAD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9D6-B901-4481-8583-8E53B62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1AA2-FF35-43C4-83DD-72F3FC92EDB8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64BA-8695-4BBF-B0A4-29B22A7ED35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gi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504800" y="2103480"/>
            <a:ext cx="6018480" cy="1157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674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Чему Учат В Школе 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10" descr=""/>
          <p:cNvPicPr/>
          <p:nvPr/>
        </p:nvPicPr>
        <p:blipFill>
          <a:blip r:embed="rId7"/>
          <a:stretch/>
        </p:blipFill>
        <p:spPr>
          <a:xfrm>
            <a:off x="1371600" y="3889440"/>
            <a:ext cx="6400800" cy="1749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children_0133.gif"/>
          <p:cNvPicPr/>
          <p:nvPr/>
        </p:nvPicPr>
        <p:blipFill>
          <a:blip r:embed="rId8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99" name="Спортивный гимн России – Давай Россия (оригинал) (www.petamusic.ru).mp3" descr=""/>
          <p:cNvPicPr/>
          <p:nvPr/>
        </p:nvPicPr>
        <p:blipFill>
          <a:blip r:embed="rId9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771640" y="620640"/>
            <a:ext cx="43214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м спасибо за внима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дор и звонкий сме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азарт соревнова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еспечивший успех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"/>
          <p:cNvPicPr/>
          <p:nvPr/>
        </p:nvPicPr>
        <p:blipFill>
          <a:blip r:embed="rId1"/>
          <a:stretch/>
        </p:blipFill>
        <p:spPr>
          <a:xfrm>
            <a:off x="2185920" y="4776840"/>
            <a:ext cx="1449360" cy="108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5" descr="http://nachalo4ka.ru/wp-content/uploads/2014/08/07.png"/>
          <p:cNvPicPr/>
          <p:nvPr/>
        </p:nvPicPr>
        <p:blipFill>
          <a:blip r:embed="rId2"/>
          <a:stretch/>
        </p:blipFill>
        <p:spPr>
          <a:xfrm>
            <a:off x="6732720" y="557280"/>
            <a:ext cx="17269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332000" y="620640"/>
            <a:ext cx="6912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Цель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: формировать у обучающихся, воспитанников навык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ррекционно-развивающие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(направлены на преодоление недостатков двигательной сферы физического и психического развития де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развивать ловкость, внимательность, двигательную активность, физически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- воспитывать дружеские отношения между детьми, чувства коллективизма, товарищества, взаимовыру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987640" y="549360"/>
            <a:ext cx="430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м, ребята, наш при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такое сло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рт любите с детских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ете здоров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у-ка дружно, детв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кнем все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и: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Физкульт-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rcRect l="0" t="14908" r="497" b="15239"/>
          <a:stretch/>
        </p:blipFill>
        <p:spPr>
          <a:xfrm>
            <a:off x="1403280" y="5472000"/>
            <a:ext cx="1008000" cy="53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987640" y="54936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минка хороша вдвойне!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минку проведем мы все!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ряд она дает большой,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 победить в игре та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2647800" y="335772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rcRect l="0" t="14889" r="-1288" b="0"/>
          <a:stretch/>
        </p:blipFill>
        <p:spPr>
          <a:xfrm>
            <a:off x="755640" y="4948200"/>
            <a:ext cx="936720" cy="857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06" name="Рисунок 5" descr=""/>
          <p:cNvPicPr/>
          <p:nvPr/>
        </p:nvPicPr>
        <p:blipFill>
          <a:blip r:embed="rId2"/>
          <a:srcRect l="18496" t="14303" r="5108" b="0"/>
          <a:stretch/>
        </p:blipFill>
        <p:spPr>
          <a:xfrm>
            <a:off x="4500720" y="4979880"/>
            <a:ext cx="86508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116000" y="836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Эстафета «Конкурс с кегл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rcRect l="18451" t="20337" r="31131" b="24262"/>
          <a:stretch/>
        </p:blipFill>
        <p:spPr>
          <a:xfrm>
            <a:off x="1763640" y="4670280"/>
            <a:ext cx="136836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08720" y="4910040"/>
            <a:ext cx="1224000" cy="195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s://go4.imgsmail.ru/imgpreview?key=6fc38e31e2bf3a20&amp;mb=imgdb_preview_239"/>
          <p:cNvPicPr/>
          <p:nvPr/>
        </p:nvPicPr>
        <p:blipFill>
          <a:blip r:embed="rId3"/>
          <a:stretch/>
        </p:blipFill>
        <p:spPr>
          <a:xfrm>
            <a:off x="6875640" y="566640"/>
            <a:ext cx="19015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2835360" y="4962600"/>
            <a:ext cx="80964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133200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Эстафета: «Воздушный шарик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771640" y="1085760"/>
            <a:ext cx="367200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т заданье потрудней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удрей и посложней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Вам вперед идти, 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ужно воздушный шар ве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http://miranimacii.ru/_ph/23/726431714.gif"/>
          <p:cNvPicPr/>
          <p:nvPr/>
        </p:nvPicPr>
        <p:blipFill>
          <a:blip r:embed="rId2"/>
          <a:stretch/>
        </p:blipFill>
        <p:spPr>
          <a:xfrm>
            <a:off x="900000" y="4221000"/>
            <a:ext cx="81936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771640" y="444600"/>
            <a:ext cx="50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стафета: «Прыжки в мешк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за чудо – скок да скок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яньте, тронулся мешок!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й, хватай его, ловите,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корей мешок держи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C:\Users\я\Desktop\в здоровом теле\DSC04071.JPG"/>
          <p:cNvPicPr/>
          <p:nvPr/>
        </p:nvPicPr>
        <p:blipFill>
          <a:blip r:embed="rId1"/>
          <a:srcRect l="0" t="904" r="11976" b="0"/>
          <a:stretch/>
        </p:blipFill>
        <p:spPr>
          <a:xfrm>
            <a:off x="2195640" y="4983120"/>
            <a:ext cx="936360" cy="7495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7" name="Picture 7" descr="http://miranimacii.ru/_ph/23/726431714.gif"/>
          <p:cNvPicPr/>
          <p:nvPr/>
        </p:nvPicPr>
        <p:blipFill>
          <a:blip r:embed="rId2"/>
          <a:stretch/>
        </p:blipFill>
        <p:spPr>
          <a:xfrm>
            <a:off x="873000" y="4664160"/>
            <a:ext cx="819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132000" y="549360"/>
            <a:ext cx="37436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ошу я, Вас на старт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прочность испытать ка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Чья команда побе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2124000" y="5000760"/>
            <a:ext cx="1008000" cy="7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Рисунок 8" descr="children_0166.gif"/>
          <p:cNvPicPr/>
          <p:nvPr/>
        </p:nvPicPr>
        <p:blipFill>
          <a:blip r:embed="rId2"/>
          <a:stretch/>
        </p:blipFill>
        <p:spPr>
          <a:xfrm>
            <a:off x="539640" y="4394160"/>
            <a:ext cx="125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1080" y="11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425916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</a:rPr>
              <a:t>             </a:t>
            </a:r>
            <a:r>
              <a:rPr b="1" lang="ru-RU" sz="2400" spc="-1" strike="noStrike">
                <a:solidFill>
                  <a:srgbClr val="04617b"/>
                </a:solidFill>
                <a:latin typeface="Tahoma"/>
              </a:rPr>
              <a:t>Стенгазета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8320" y="670320"/>
            <a:ext cx="3249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4617b"/>
                </a:solidFill>
                <a:latin typeface="Tahoma"/>
              </a:rPr>
              <a:t>Рисунки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4" name="Объект 8" descr="G:\DSC04005.JPG"/>
          <p:cNvPicPr/>
          <p:nvPr/>
        </p:nvPicPr>
        <p:blipFill>
          <a:blip r:embed="rId1"/>
          <a:srcRect l="8342" t="22004" r="17110" b="5992"/>
          <a:stretch/>
        </p:blipFill>
        <p:spPr>
          <a:xfrm>
            <a:off x="755640" y="4869000"/>
            <a:ext cx="1512720" cy="992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25" name="Объект 9" descr="G:\DSC04007.JPG"/>
          <p:cNvPicPr/>
          <p:nvPr/>
        </p:nvPicPr>
        <p:blipFill>
          <a:blip r:embed="rId2"/>
          <a:srcRect l="15340" t="-4998" r="15740" b="0"/>
          <a:stretch/>
        </p:blipFill>
        <p:spPr>
          <a:xfrm>
            <a:off x="4883040" y="4869000"/>
            <a:ext cx="1489320" cy="992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26" name="Picture 8" descr="http://miranimacii.ru/_ph/23/127332998.gif"/>
          <p:cNvPicPr/>
          <p:nvPr/>
        </p:nvPicPr>
        <p:blipFill>
          <a:blip r:embed="rId3"/>
          <a:stretch/>
        </p:blipFill>
        <p:spPr>
          <a:xfrm>
            <a:off x="4167360" y="73656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miranimacii.ru/_ph/23/127332998.gif"/>
          <p:cNvPicPr/>
          <p:nvPr/>
        </p:nvPicPr>
        <p:blipFill>
          <a:blip r:embed="rId4"/>
          <a:stretch/>
        </p:blipFill>
        <p:spPr>
          <a:xfrm>
            <a:off x="4167360" y="72216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Лариса</cp:lastModifiedBy>
  <dcterms:modified xsi:type="dcterms:W3CDTF">2019-12-10T06:21:02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