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2E37-B0CE-490D-9601-6894F4BD9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E5CC0-5C1C-450A-B1DE-F799C9A7EF9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2075B-5DBA-4F93-A704-F57CD0DA838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6215A-6830-43F3-9F42-33D19BF999A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15880" y="525240"/>
            <a:ext cx="906624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CD664-A747-4C8F-9FFF-92C49898FDD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8D16D-5F6F-46D2-A040-AC30439DD59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9F024-03E7-40BF-AE74-C66DCE22586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8D3FB-982E-41E8-8908-C333B03BC8D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479A1-11AB-454E-86F1-79A146ADF45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09CA5-4859-4C34-97D7-323B48B1948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2E613-FAE5-405B-B3C2-929743E1F94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35AA31-A27B-495E-B714-386ED2014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EB3EF-2ED7-4F2E-8B4F-B6BD7C51553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6A2829-7C91-40EA-983B-BDB7624B7E9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2402FB-7183-4A7E-A055-1E6F52B56A7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62F092-2125-4407-96C6-3CDB2A7C58A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1D52C8-58CF-40F1-97D6-83A6F0E9809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15880" y="525240"/>
            <a:ext cx="906624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E0A242-C61C-43E1-A37D-41BD969F695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4B401A-0875-49CC-9DD2-B3F15AA1FAA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704130-BC35-47E6-802D-8960E466224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F38F8B-9634-447F-9A85-A113CB35639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153D95-46B9-40FC-BF58-85CEB31951F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4F167B-51DA-42BC-9548-CF756954A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2BEF-3A7A-45E8-A83B-F0272D436A3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B5ADE6-2AE2-4537-B235-8E126309EAD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109D8D-20B7-497B-ACD8-35F04BA57DB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F7CDDE-8F1D-4844-8247-C54E3779E08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715B27-6084-41D4-ABE9-38C50FE7C64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EDA1BC-3002-40A1-B7E4-673FF243264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73672C-3766-4F76-A156-47189A8C6D3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15880" y="525240"/>
            <a:ext cx="906624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6A120B-7F4D-475C-BC3C-09252AB41A4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C57591-7B0E-4673-961A-F1EC86C4845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5081BB-9FCD-45B8-8F48-A3921D706CC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9DB8AE-2C80-49B6-9A0B-4BC940EB2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08019-D22D-4B3A-93CB-5F7D0832F8F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7D7D38-06E3-4F40-809C-292A7250DD8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689588-3C0A-4F12-8985-8245628FA36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7F7A94-0784-437C-9FCF-5F309C44207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FA30E-AAD6-48E6-9C37-25007EB2F65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000B1-4F6F-4B7B-A682-2DD4369F99F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394AE-A65A-40A7-BF70-B19408D2618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DB8E2-8A91-42A1-A1A1-BC48110C511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6D507-43E8-424A-A8B9-F3D033AE328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15880" y="525240"/>
            <a:ext cx="906624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BF6E1-47E7-4497-9775-8435CDF80CD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57536-AE78-479F-8F45-5C067A4ED7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7AF76-D6D1-4F98-9602-F5C1E39302A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CFC9F-E2D8-4A81-A9C9-CC377737F30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0DB92-E4DF-4094-9118-F4CFA6B84B5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C5991-FC16-46E8-A21D-626BCCA97E6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44328-042D-482F-A7FE-86BFE3642FC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5D911-21E2-4D87-9E60-2811ED0B9B7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35FEB-E74D-405F-9B96-0F41E49ACE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2A07D4-304E-4D27-BB88-755AD761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359909-94B0-43EE-B592-D97EC14B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F63C81-2E8D-4D5A-BD06-2FB5CE85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AE36F2-DB4E-40BC-ACE1-F3A173E7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4FF61-0308-4B9E-A159-09812757DA9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15880" y="525240"/>
            <a:ext cx="906624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69CF7F-EECF-4A9C-8253-7B9CAD70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3DD745-97F4-47E0-90D9-8CDF4F19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8BB33A-1F01-4FAC-AF26-41A4B82E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E15CA8-B72D-4DE2-ABB3-F0E823A5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2BD13-C090-4CEB-B026-55F8D1D8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72C403-8FE3-4AA8-839D-E86D372E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8D147-DE09-42F7-B104-5D1049E59F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CBB4F-9EC6-4C75-BC13-021F25137B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C44AD-C693-4742-BF54-E17B0C2336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15880" y="525240"/>
            <a:ext cx="906624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AEF1C-6346-4A92-8672-5A37743B02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2BCC4-DC40-44D5-9D68-21A39A7980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81F9-1ED2-4835-939D-442549F07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8FE42-3FC8-40B0-A7EA-46D65DA854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4D388-4132-40A6-8DC6-6E7E7CA7E7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CC385-ED72-4D55-A6FD-DB1634BFDE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AFF56-1336-4E62-BC1B-8BA0A7F7F7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51552-EAA9-4F57-B4C0-0329641F1B1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627-7816-4260-A89D-B562BB3BFF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6014-B7E8-473A-9DF8-8CC0AB16D8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CF6-7B7A-4B5A-BB0D-9760256349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6952-60F9-46B8-9691-6A022D5AA7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7D5-6B5D-4B08-9731-DB45D99AC8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6EA2-6330-4663-90C6-908CB89185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15880" y="525240"/>
            <a:ext cx="906624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1BE3-08DA-4388-8775-180003D877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4025-5E37-4700-9E21-397724E2A1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985-744B-41D5-BC13-B125031126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633E-15C3-45E1-B5DF-FBD85329A9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2182-9487-447D-8973-2975A1089C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5C9-829C-4676-83E9-73F425FC24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5C3-F5A6-4288-B576-12BCD8F65A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DD062-55D6-403A-8377-9A605A847A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3D6FE-8941-4E8C-BD01-202977B9ACF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02790-B72D-4089-8671-53430110D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3FE9-5513-4F74-A22A-3CC3CE0FC1E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8AA36-7CE5-4E17-BF84-F11D2D9B494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A86B1-3976-4335-B139-BB42AA6F5BF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15880" y="525240"/>
            <a:ext cx="906624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39604-AD87-47F5-92FA-99E9482C9A9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80497-0B8E-414F-92D5-24B2D5837DA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7FD4F-74D9-4829-AB99-AC9E0F1F98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048A9-FBFF-41B4-A71A-EE63CD461DC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82A92-6970-4EC4-8CC7-107A8D08E8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06D21-CBFD-40AD-B74E-1028B5ED34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28FBF-E688-4726-8411-EBA38FAB6EF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032CB-7DBB-423B-859E-54A148E83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C49F-F1E8-4BB2-BD6A-C1FEE299D66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7A2E1-6DA0-4D72-B5A9-995F174FDEC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267E2-C02F-4EC7-B063-70723519B38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4C333-B065-402C-8CEB-9F794736432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17754-F482-427E-BC5B-4D353452C0B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15880" y="525240"/>
            <a:ext cx="906624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B4C2E-21A4-4940-85B2-0661483AC74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C8490-79E0-4D7B-A9DC-3268096AF3F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98DE8-60E6-4370-89B3-CEF3F4135F7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505F9-BE9B-47C6-8216-091F66EBE4C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BBB84-C6F7-43A2-B629-2B5B61AF49A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EE0F3-3688-4C49-8A9A-B11207D5D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525240"/>
            <a:ext cx="906624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5F22B-9114-470B-823D-CC4010D5F71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965D5-BAC3-41BB-85A3-9F0840DAD18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950C-3B9B-4DF6-905C-456D2156D3A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4114-F22D-41E8-9463-78DC0745A53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BB34-DCA3-404A-9068-F5A7C79470B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580F-B734-410D-BDC4-3FD37A58D91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F3BF-2E5F-4B7D-A7F2-368CE629440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15880" y="525240"/>
            <a:ext cx="906624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5B7F-0C96-4F79-94A7-4A00AC9E4C6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BEB8-B49E-4FAF-BE89-7937C39F171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AA7F-6266-43CB-A7B6-3C5A35DAC84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65FC-AF93-4536-8528-DD115F6E7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A6ED-EB6E-4885-97AE-7B1F1A0A904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9628-7198-468A-8764-3F0C5E7FF70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C454-0141-4399-BA7B-B14D396C543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E06D-3BCE-4E3B-B1A0-59F65541510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394BDA-E0F4-4A7B-BA84-A6F111B4155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9496B3-B600-40B0-A924-741627F5D48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9BC354-3C9E-4F69-9141-37303254453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1DFF64-62F8-47FC-A335-A731550B7A1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896F30-F96D-4878-B1B7-33C2D11A196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15880" y="525240"/>
            <a:ext cx="906624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2F7B4C-3A9B-4AF4-9384-6ECAB0F3035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A918EA-6B49-4B02-BCDD-3E7B8DA28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36C8B-CD96-4738-A3A4-F7C827B8748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F8BF6B-F3BE-48D5-94D3-FC2E868B498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CC042B-169E-41B7-A603-7C9D58BEBB0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AADFDE-672D-4926-9968-59C8439CAE7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373024-A4B5-46DF-B21A-DD15E8587F7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5955CF-9398-427B-B329-4FEAC5408F2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3F7F2-A548-4072-B83B-8574D5C53A4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4D0E0-F39A-4306-AA6E-9ADB06FD02A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15AA0-75CB-4EAB-B610-92B593A4532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5A422-38F2-4890-933D-3160879666A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CC9423-C7D2-45E5-9CB8-C8A132FDB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12F6-BACB-44B5-A1AB-4C65514EA0E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15880" y="525240"/>
            <a:ext cx="906624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47B8E-D617-4F31-811F-9390B98A57E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A1649E-1AA9-48DB-91A1-D529AB59076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3E424-C331-42BB-8029-16A9EC0A857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CF7EF-09CD-41D4-AE08-E8E7CA74ED6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8B486-01DD-496E-A254-54616777844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959238-A36E-4B1A-BAE1-E772E323A5E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2EE11-A11F-44B0-B566-F28D480E8F2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82EBC-8B50-412D-BF41-5A903729FA1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1C4F7-A6B0-4B9B-8265-C0C9D81708F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8BE55-6DB8-4CDC-894C-BCF3BC492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642E6-DF44-418C-8B8F-B31E5584B3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EEFE5-CBCA-42FB-9B0B-B2140B3873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B3F50-7FDB-414F-9ED8-F5D8B815F6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A5A77-992F-4270-B1F9-A2A9A8E3E7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15880" y="525240"/>
            <a:ext cx="906624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13"/>
          </p:nvPr>
        </p:nvSpPr>
        <p:spPr>
          <a:xfrm>
            <a:off x="502920" y="7007400"/>
            <a:ext cx="2346120" cy="3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Times New Roman"/>
                <a:ea typeface="DejaVu Sans"/>
              </a:rPr>
              <a:t>31.10.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43400" y="7007400"/>
            <a:ext cx="3190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Num" idx="14"/>
          </p:nvPr>
        </p:nvSpPr>
        <p:spPr>
          <a:xfrm>
            <a:off x="7223040" y="7007400"/>
            <a:ext cx="2346480" cy="3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E4469-9D98-4EF2-802C-F2398842C5CD}" type="slidenum">
              <a:rPr b="0" lang="ru-RU" sz="1200" spc="-1" strike="noStrike">
                <a:solidFill>
                  <a:srgbClr val="8b8b8b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 fontScale="93000"/>
          </a:bodyPr>
          <a:p>
            <a:pPr marL="318960" indent="0">
              <a:lnSpc>
                <a:spcPct val="93000"/>
              </a:lnSpc>
              <a:spcBef>
                <a:spcPts val="156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318960" indent="-318960">
              <a:lnSpc>
                <a:spcPct val="93000"/>
              </a:lnSpc>
              <a:spcBef>
                <a:spcPts val="156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318960" indent="-318960">
              <a:lnSpc>
                <a:spcPct val="93000"/>
              </a:lnSpc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318960" indent="-318960">
              <a:lnSpc>
                <a:spcPct val="93000"/>
              </a:lnSpc>
              <a:spcBef>
                <a:spcPts val="156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318960" indent="-318960">
              <a:lnSpc>
                <a:spcPct val="93000"/>
              </a:lnSpc>
              <a:spcBef>
                <a:spcPts val="156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318960" indent="-318960">
              <a:lnSpc>
                <a:spcPct val="93000"/>
              </a:lnSpc>
              <a:spcBef>
                <a:spcPts val="156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318960" indent="-318960">
              <a:lnSpc>
                <a:spcPct val="93000"/>
              </a:lnSpc>
              <a:spcBef>
                <a:spcPts val="156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7CC30-5316-4B9A-BC05-815DB12D7B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77C0D-5362-40F7-B7B4-917D5F7E3E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5E282-BEC6-4C21-A4A8-231410CB89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9F056-C645-4AC3-B78B-355196AE69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570DD-96E3-472A-95A7-C0D5B7AEE8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7D461-DFE1-4FFB-8139-067FDA9331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FC9C4-9772-43C5-A104-BBDC0C4B31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830ED-3F3A-4486-8C22-E56C5043D4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1547640" y="1239840"/>
            <a:ext cx="801720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Georgia"/>
                <a:ea typeface="Noto Sans CJK SC"/>
              </a:rPr>
              <a:t>СИЛА ЛИЧНОСТИ </a:t>
            </a:r>
            <a:br>
              <a:rPr sz="4800"/>
            </a:br>
            <a:r>
              <a:rPr b="1" i="1" lang="ru-RU" sz="4800" spc="-1" strike="noStrike">
                <a:solidFill>
                  <a:srgbClr val="c00000"/>
                </a:solidFill>
                <a:latin typeface="Georgia"/>
                <a:ea typeface="Noto Sans CJK SC"/>
              </a:rPr>
              <a:t>ВОСПИТАТЕЛЯ -</a:t>
            </a:r>
            <a:br>
              <a:rPr sz="4800"/>
            </a:br>
            <a:r>
              <a:rPr b="1" i="1" lang="ru-RU" sz="4800" spc="-1" strike="noStrike">
                <a:solidFill>
                  <a:srgbClr val="c00000"/>
                </a:solidFill>
                <a:latin typeface="Georgia"/>
                <a:ea typeface="Noto Sans CJK SC"/>
              </a:rPr>
              <a:t>В ЧЁМ ОНА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Georgia"/>
                <a:ea typeface="Noto Sans CJK SC"/>
              </a:rPr>
              <a:t>Выполни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Georgia"/>
                <a:ea typeface="Noto Sans CJK SC"/>
              </a:rPr>
              <a:t> </a:t>
            </a:r>
            <a:r>
              <a:rPr b="0" lang="ru-RU" sz="2200" spc="-1" strike="noStrike">
                <a:solidFill>
                  <a:srgbClr val="c00000"/>
                </a:solidFill>
                <a:latin typeface="Georgia"/>
                <a:ea typeface="Noto Sans CJK SC"/>
              </a:rPr>
              <a:t>воспитате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Georgia"/>
                <a:ea typeface="Noto Sans CJK SC"/>
              </a:rPr>
              <a:t> </a:t>
            </a:r>
            <a:r>
              <a:rPr b="0" lang="ru-RU" sz="2200" spc="-1" strike="noStrike">
                <a:solidFill>
                  <a:srgbClr val="c00000"/>
                </a:solidFill>
                <a:latin typeface="Georgia"/>
                <a:ea typeface="Noto Sans CJK SC"/>
              </a:rPr>
              <a:t>Королева Т.А.</a:t>
            </a:r>
            <a:br>
              <a:rPr sz="4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3311640" y="4248000"/>
            <a:ext cx="4030560" cy="24703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515880" y="525600"/>
            <a:ext cx="906948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Разве не тогда я приобретал всё то, чем теперь живу, и приобретал так много, так быстро, что всю остальную жизнь я не приобрел и одной сотой того? От пятилетнего ребенка до меня только шаг. А от новорожденного до пятилетнего — страшное расстоя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Л. Н. Толст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8423280" y="4464000"/>
            <a:ext cx="1440000" cy="2032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515880" y="525600"/>
            <a:ext cx="906948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Личностно значимые качества педагог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Любовь к дет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Эмоцион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Педагогическая зор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Такти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Опти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Долг и ответ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Духовные потре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Справедл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aramond"/>
                <a:ea typeface="Noto Sans CJK S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515880" y="525600"/>
            <a:ext cx="906948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9840" algn="ctr">
              <a:lnSpc>
                <a:spcPct val="11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Высокая квалификация, глубокие знания, любовь к своей профессии, систематическая и качественная подготовка к занятиям, высокая дисциплина, постоянная творческая работа над собой —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составляющие не только личности педагога, но и успешности учебно-воспитательного процес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515880" y="525600"/>
            <a:ext cx="906948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9840" algn="ctr">
              <a:lnSpc>
                <a:spcPct val="11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Noto Sans CJK SC"/>
              </a:rPr>
              <a:t>Очень важным личностным качеством воспитателя является жизнерадостность, оптимизм, чувство юмора. С этими качествами человек не рождается, их надо в себе вырабатывать. Одно из необходимых и естественных условий воспитания — любовь к детям. Разумная любовь, не сюсюканье, не заласкивание и удовлетворение капризов, а подлинная забота о всестороннем развитии ребенка, доброжелательное общение, внимательное отношение к запросам, тактичная настойчив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515880" y="525600"/>
            <a:ext cx="906948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9840" algn="ctr"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Arial"/>
                <a:ea typeface="Arial"/>
              </a:rPr>
              <a:t>Профессию воспитателя можно сравнить с профессией врача. Имеет ли право воспитатель на ошибку? – нет. «Будь осторожен! Не ошибись! Не навреди!» Эти слова необходимо помнить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1496160" y="525600"/>
            <a:ext cx="7110360" cy="56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8440" bIns="0" anchor="t">
            <a:spAutoFit/>
          </a:bodyPr>
          <a:p>
            <a:pPr marL="343080" indent="-339840" algn="ctr">
              <a:lnSpc>
                <a:spcPct val="93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Arial"/>
                <a:ea typeface="Arial"/>
              </a:rPr>
              <a:t>Каким быть должен воспита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Arial"/>
                <a:ea typeface="Arial"/>
              </a:rPr>
              <a:t>Конечно, добрым должен бы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Arial"/>
                <a:ea typeface="Arial"/>
              </a:rPr>
              <a:t>Любить детей, любить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Arial"/>
                <a:ea typeface="Arial"/>
              </a:rPr>
              <a:t>Свою профессию люб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Arial"/>
                <a:ea typeface="Arial"/>
              </a:rPr>
              <a:t>Каким быть должен воспита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Arial"/>
                <a:ea typeface="Arial"/>
              </a:rPr>
              <a:t>Конечно, щедрым должен 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Arial"/>
                <a:ea typeface="Arial"/>
              </a:rPr>
              <a:t>Всего себя без сожа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Arial"/>
                <a:ea typeface="Arial"/>
              </a:rPr>
              <a:t>Он должен детям подар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515880" y="525600"/>
            <a:ext cx="906948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9840" algn="ctr"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Arial"/>
                <a:ea typeface="Arial"/>
              </a:rPr>
              <a:t>Что мы должны вынести из сегодняшней встречи? Убеждённость в том, что сила личности воспитателя заключается в любви к детям, что общение с детьми должно вселять в них радость и оптимизм. Мы с вами можем многому научить детей, но всегда должны помнить, что никакая методика не заменит отзывчивого сердца воспитате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515880" y="525600"/>
            <a:ext cx="906948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Georgia"/>
                <a:ea typeface="Noto Sans CJK SC"/>
              </a:rPr>
              <a:t>Спасиб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Georgia"/>
                <a:ea typeface="Noto Sans CJK SC"/>
              </a:rPr>
              <a:t>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547640" y="1239840"/>
            <a:ext cx="801720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15880" y="525600"/>
            <a:ext cx="906948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9840" algn="ctr">
              <a:lnSpc>
                <a:spcPct val="11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Личность — устойчивая система социально значимых черт, характеризующих человека как члена общества, определяющего своё место в этом обществе, свою позицию среди других люд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515880" y="525600"/>
            <a:ext cx="906948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9840" algn="ctr">
              <a:lnSpc>
                <a:spcPct val="11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Личность воспитателя играет важнейшую роль в воспитании. Эффективность воспитания достигается тогда, когда воспитатель внимательно относится к воспитательному процессу, постоянно анализируя его и делая правильные вы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515880" y="525600"/>
            <a:ext cx="906948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9840" algn="ctr">
              <a:lnSpc>
                <a:spcPct val="15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Arial"/>
                <a:ea typeface="Arial"/>
              </a:rPr>
              <a:t>А что касается личности воспитателя, то её сущность кроется в самом слове «ВОСПИТА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515880" y="525600"/>
            <a:ext cx="906948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В -                     весё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О -            общ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С -                 серд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П -             приветли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И -   интеллекту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Т -             талантли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А -             артисти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Т -                 такти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Е -           естеств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Л -                  ласк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Ь -        мягкий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515880" y="525600"/>
            <a:ext cx="906948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9840" algn="ctr">
              <a:lnSpc>
                <a:spcPct val="11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;helvetica"/>
                <a:ea typeface="MS Gothic"/>
              </a:rPr>
              <a:t>Воспитательная позиция должна быть деликатной, незаметной, возможно даже скрытой от воспитанника. Воспитательный процесс можно назвать искусством, в котором выражается своеобразие личности воспитателя, его индивидуальности, характера, его отношения к воспитанни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515880" y="525600"/>
            <a:ext cx="906948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9840" algn="ctr">
              <a:lnSpc>
                <a:spcPct val="11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В воспитании всё должно основываться на личности воспитателя, потому что воспитательная сила изливается только из живого источника человеческой личности. Только личность может действовать на развитие и определение личности, только характером можно образовать характ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1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1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К. Д. Ушин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515880" y="525600"/>
            <a:ext cx="906948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Профессионально важные качества воспитате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Владение современными методиками и технологиями в сфере обучения и воспитания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Широкая эруди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Педагогическая интуи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Высокий уровень интелл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Noto Sans CJK SC"/>
              </a:rPr>
              <a:t>Высокоразвитая нравственная куль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515880" y="525600"/>
            <a:ext cx="906948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9840" algn="ctr">
              <a:lnSpc>
                <a:spcPct val="11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;helvetica"/>
                <a:ea typeface="MS Gothic"/>
              </a:rPr>
              <a:t>«Воспитатель сам должен быть воспитан». Это известное положение — непреложная заповедь для каждого, кто причастен к делу вос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9:45:24Z</dcterms:created>
  <dc:creator>Ксюша</dc:creator>
  <dc:description/>
  <dc:language>en-US</dc:language>
  <cp:lastModifiedBy/>
  <dcterms:modified xsi:type="dcterms:W3CDTF">2019-11-04T14:51:44Z</dcterms:modified>
  <cp:revision>108</cp:revision>
  <dc:subject/>
  <dc:title>Слайд 1</dc:title>
</cp:coreProperties>
</file>