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6BDC2-8136-435B-B6A4-FBF868DC1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C1162-099E-42F0-82B8-EF8FA99EC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C68A5-28B0-4CA2-B719-D69BC7C2B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C0603-EFA4-40D4-A8C8-FD70477D7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0E153-182B-48E6-B930-223440B11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87EDB-82DA-4B07-8F39-3E8ACEE10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65A89-E10F-49B9-B760-ED7092949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75C98-B082-49C4-853F-C830A5289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10ABC-B173-48FA-B411-5D3830EC5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5EE5C-7425-444D-8B8D-0D4A309F0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35D62-F8E0-4393-8053-C54F31855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A1E93-9E9E-438D-82D4-A15EE4025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9E728-61AC-4675-8607-02B14836EED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Прямоугольник 3" descr=""/>
          <p:cNvPicPr/>
          <p:nvPr/>
        </p:nvPicPr>
        <p:blipFill>
          <a:blip r:embed="rId1"/>
          <a:stretch/>
        </p:blipFill>
        <p:spPr>
          <a:xfrm>
            <a:off x="-652320" y="115920"/>
            <a:ext cx="10283760" cy="63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214200" y="285840"/>
            <a:ext cx="8715600" cy="62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14440" indent="-514440">
              <a:lnSpc>
                <a:spcPct val="100000"/>
              </a:lnSpc>
              <a:spcBef>
                <a:spcPts val="825"/>
              </a:spcBef>
              <a:buClr>
                <a:srgbClr val="c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What is ‘’ the Internet’’?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a</a:t>
            </a:r>
            <a:r>
              <a:rPr b="0" lang="en-US" sz="33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a way of sending mail electronically?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b</a:t>
            </a:r>
            <a:r>
              <a:rPr b="0" lang="en-US" sz="33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a worldwide system of computer networks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2. What does ‘’www’’ mean at the beginning of many website addresses?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a</a:t>
            </a:r>
            <a:r>
              <a:rPr b="0" lang="en-US" sz="33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World Wide Web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b</a:t>
            </a:r>
            <a:r>
              <a:rPr b="0" lang="en-US" sz="33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Wireless Web World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3. When did Tim Berners-Lee create the Web?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a</a:t>
            </a:r>
            <a:r>
              <a:rPr b="0" lang="en-US" sz="33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in 1975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b</a:t>
            </a:r>
            <a:r>
              <a:rPr b="0" lang="en-US" sz="33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in 1989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Прямоугольник 3" descr=""/>
          <p:cNvPicPr/>
          <p:nvPr/>
        </p:nvPicPr>
        <p:blipFill>
          <a:blip r:embed="rId1"/>
          <a:stretch/>
        </p:blipFill>
        <p:spPr>
          <a:xfrm>
            <a:off x="6066000" y="-66600"/>
            <a:ext cx="3217680" cy="15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214200" y="213840"/>
            <a:ext cx="871560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4. In 1993, there were about 600 websites. How many were there by 2006?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a</a:t>
            </a:r>
            <a:r>
              <a:rPr b="0" lang="en-US" sz="31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about a million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b</a:t>
            </a:r>
            <a:r>
              <a:rPr b="0" lang="en-US" sz="31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over 100 million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5. Which country has the highest number of Internet users? (75%)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a </a:t>
            </a:r>
            <a:r>
              <a:rPr b="0" lang="en-US" sz="31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Japan 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b</a:t>
            </a:r>
            <a:r>
              <a:rPr b="0" lang="en-US" sz="31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Sweden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6. What does ISP stand for? (the company you use to access the Internet)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a</a:t>
            </a:r>
            <a:r>
              <a:rPr b="0" lang="en-US" sz="31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Internet Service Provider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b</a:t>
            </a:r>
            <a:r>
              <a:rPr b="0" lang="en-US" sz="31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Instant Site Producer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214200" y="285840"/>
            <a:ext cx="871560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7. How many web pages does the average Internet user visit each month?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a</a:t>
            </a:r>
            <a:r>
              <a:rPr b="0" lang="en-US" sz="33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about 250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b</a:t>
            </a:r>
            <a:r>
              <a:rPr b="0" lang="en-US" sz="33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about 1.000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8. How many websites per day are added to the Internet?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a</a:t>
            </a:r>
            <a:r>
              <a:rPr b="0" lang="en-US" sz="33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about 17,000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b</a:t>
            </a:r>
            <a:r>
              <a:rPr b="0" lang="en-US" sz="33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about 5,000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713880" y="785880"/>
            <a:ext cx="7944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380520" indent="-380520">
              <a:lnSpc>
                <a:spcPct val="100000"/>
              </a:lnSpc>
              <a:spcBef>
                <a:spcPts val="751"/>
              </a:spcBef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recently – </a:t>
            </a:r>
            <a:r>
              <a:rPr b="1" lang="ru-RU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едавно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80520" indent="-380520">
              <a:lnSpc>
                <a:spcPct val="100000"/>
              </a:lnSpc>
              <a:spcBef>
                <a:spcPts val="751"/>
              </a:spcBef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appliances – </a:t>
            </a:r>
            <a:r>
              <a:rPr b="1" lang="ru-RU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иборы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80520" indent="-380520">
              <a:lnSpc>
                <a:spcPct val="100000"/>
              </a:lnSpc>
              <a:spcBef>
                <a:spcPts val="751"/>
              </a:spcBef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schedule – </a:t>
            </a:r>
            <a:r>
              <a:rPr b="1" lang="ru-RU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списание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80520" indent="-380520">
              <a:lnSpc>
                <a:spcPct val="100000"/>
              </a:lnSpc>
              <a:spcBef>
                <a:spcPts val="751"/>
              </a:spcBef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convenient – </a:t>
            </a:r>
            <a:r>
              <a:rPr b="1" lang="ru-RU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добный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80520" indent="-380520">
              <a:lnSpc>
                <a:spcPct val="100000"/>
              </a:lnSpc>
              <a:spcBef>
                <a:spcPts val="751"/>
              </a:spcBef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upgrade – </a:t>
            </a:r>
            <a:r>
              <a:rPr b="1" lang="ru-RU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лучшать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80520" indent="-380520">
              <a:lnSpc>
                <a:spcPct val="100000"/>
              </a:lnSpc>
              <a:spcBef>
                <a:spcPts val="751"/>
              </a:spcBef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average  - </a:t>
            </a:r>
            <a:r>
              <a:rPr b="1" lang="ru-RU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ипичный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80520" indent="-380520">
              <a:lnSpc>
                <a:spcPct val="100000"/>
              </a:lnSpc>
              <a:spcBef>
                <a:spcPts val="751"/>
              </a:spcBef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subscription – </a:t>
            </a:r>
            <a:r>
              <a:rPr b="1" lang="ru-RU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дписк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80520" indent="-380520">
              <a:lnSpc>
                <a:spcPct val="100000"/>
              </a:lnSpc>
              <a:spcBef>
                <a:spcPts val="751"/>
              </a:spcBef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receive –</a:t>
            </a:r>
            <a:r>
              <a:rPr b="1" lang="ru-RU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получать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80520" indent="-380520">
              <a:lnSpc>
                <a:spcPct val="100000"/>
              </a:lnSpc>
              <a:spcBef>
                <a:spcPts val="751"/>
              </a:spcBef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wirelessly – </a:t>
            </a:r>
            <a:r>
              <a:rPr b="1" lang="ru-RU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ез проводо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80520" indent="-380520">
              <a:lnSpc>
                <a:spcPct val="100000"/>
              </a:lnSpc>
              <a:spcBef>
                <a:spcPts val="751"/>
              </a:spcBef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en-US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worldwide – </a:t>
            </a:r>
            <a:r>
              <a:rPr b="1" lang="ru-RU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глобально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80520" indent="-380520">
              <a:lnSpc>
                <a:spcPct val="100000"/>
              </a:lnSpc>
              <a:spcBef>
                <a:spcPts val="751"/>
              </a:spcBef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en-US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access - </a:t>
            </a:r>
            <a:r>
              <a:rPr b="1" lang="ru-RU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оступ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Прямоугольник 3" descr=""/>
          <p:cNvPicPr/>
          <p:nvPr/>
        </p:nvPicPr>
        <p:blipFill>
          <a:blip r:embed="rId1"/>
          <a:stretch/>
        </p:blipFill>
        <p:spPr>
          <a:xfrm>
            <a:off x="2103480" y="-208080"/>
            <a:ext cx="4675320" cy="11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457200" y="135684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850"/>
              </a:spcBef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probable – probably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850"/>
              </a:spcBef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research – researchers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850"/>
              </a:spcBef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popular – popularity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850"/>
              </a:spcBef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use – users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850"/>
              </a:spcBef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shop – shopping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850"/>
              </a:spcBef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deliver – delivery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850"/>
              </a:spcBef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populate – population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850"/>
              </a:spcBef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institute - institutions    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Прямоугольник 3" descr=""/>
          <p:cNvPicPr/>
          <p:nvPr/>
        </p:nvPicPr>
        <p:blipFill>
          <a:blip r:embed="rId1"/>
          <a:stretch/>
        </p:blipFill>
        <p:spPr>
          <a:xfrm>
            <a:off x="1212840" y="79200"/>
            <a:ext cx="6205680" cy="11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Прямоугольник 3" descr=""/>
          <p:cNvPicPr/>
          <p:nvPr/>
        </p:nvPicPr>
        <p:blipFill>
          <a:blip r:embed="rId1"/>
          <a:stretch/>
        </p:blipFill>
        <p:spPr>
          <a:xfrm>
            <a:off x="493560" y="12600"/>
            <a:ext cx="8120160" cy="2011320"/>
          </a:xfrm>
          <a:prstGeom prst="rect">
            <a:avLst/>
          </a:prstGeom>
          <a:ln w="0">
            <a:noFill/>
          </a:ln>
        </p:spPr>
      </p:pic>
      <p:pic>
        <p:nvPicPr>
          <p:cNvPr id="51" name="Прямоугольник 5" descr=""/>
          <p:cNvPicPr/>
          <p:nvPr/>
        </p:nvPicPr>
        <p:blipFill>
          <a:blip r:embed="rId2"/>
          <a:stretch/>
        </p:blipFill>
        <p:spPr>
          <a:xfrm>
            <a:off x="189000" y="1938240"/>
            <a:ext cx="2487600" cy="2030400"/>
          </a:xfrm>
          <a:prstGeom prst="rect">
            <a:avLst/>
          </a:prstGeom>
          <a:ln w="0">
            <a:noFill/>
          </a:ln>
        </p:spPr>
      </p:pic>
      <p:pic>
        <p:nvPicPr>
          <p:cNvPr id="52" name="Прямоугольник 6" descr=""/>
          <p:cNvPicPr/>
          <p:nvPr/>
        </p:nvPicPr>
        <p:blipFill>
          <a:blip r:embed="rId3"/>
          <a:stretch/>
        </p:blipFill>
        <p:spPr>
          <a:xfrm>
            <a:off x="3614760" y="2584440"/>
            <a:ext cx="1719360" cy="2030400"/>
          </a:xfrm>
          <a:prstGeom prst="rect">
            <a:avLst/>
          </a:prstGeom>
          <a:ln w="0">
            <a:noFill/>
          </a:ln>
        </p:spPr>
      </p:pic>
      <p:pic>
        <p:nvPicPr>
          <p:cNvPr id="53" name="Прямоугольник 7" descr=""/>
          <p:cNvPicPr/>
          <p:nvPr/>
        </p:nvPicPr>
        <p:blipFill>
          <a:blip r:embed="rId4"/>
          <a:stretch/>
        </p:blipFill>
        <p:spPr>
          <a:xfrm>
            <a:off x="6114960" y="3797280"/>
            <a:ext cx="1717920" cy="2030400"/>
          </a:xfrm>
          <a:prstGeom prst="rect">
            <a:avLst/>
          </a:prstGeom>
          <a:ln w="0">
            <a:noFill/>
          </a:ln>
        </p:spPr>
      </p:pic>
      <p:pic>
        <p:nvPicPr>
          <p:cNvPr id="54" name="Прямоугольник 8" descr=""/>
          <p:cNvPicPr/>
          <p:nvPr/>
        </p:nvPicPr>
        <p:blipFill>
          <a:blip r:embed="rId5"/>
          <a:stretch/>
        </p:blipFill>
        <p:spPr>
          <a:xfrm>
            <a:off x="6400800" y="1938240"/>
            <a:ext cx="1335240" cy="2030400"/>
          </a:xfrm>
          <a:prstGeom prst="rect">
            <a:avLst/>
          </a:prstGeom>
          <a:ln w="0">
            <a:noFill/>
          </a:ln>
        </p:spPr>
      </p:pic>
      <p:pic>
        <p:nvPicPr>
          <p:cNvPr id="55" name="Прямоугольник 9" descr=""/>
          <p:cNvPicPr/>
          <p:nvPr/>
        </p:nvPicPr>
        <p:blipFill>
          <a:blip r:embed="rId6"/>
          <a:stretch/>
        </p:blipFill>
        <p:spPr>
          <a:xfrm>
            <a:off x="3481560" y="5151600"/>
            <a:ext cx="2474640" cy="2035080"/>
          </a:xfrm>
          <a:prstGeom prst="rect">
            <a:avLst/>
          </a:prstGeom>
          <a:ln w="0">
            <a:noFill/>
          </a:ln>
        </p:spPr>
      </p:pic>
      <p:pic>
        <p:nvPicPr>
          <p:cNvPr id="56" name="Прямоугольник 10" descr=""/>
          <p:cNvPicPr/>
          <p:nvPr/>
        </p:nvPicPr>
        <p:blipFill>
          <a:blip r:embed="rId7"/>
          <a:stretch/>
        </p:blipFill>
        <p:spPr>
          <a:xfrm>
            <a:off x="981000" y="3938760"/>
            <a:ext cx="2475000" cy="202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12-08T11:42:58Z</dcterms:created>
  <dc:creator>Kab-38</dc:creator>
  <dc:description/>
  <dc:language>en-US</dc:language>
  <cp:lastModifiedBy>Kab-38</cp:lastModifiedBy>
  <dcterms:modified xsi:type="dcterms:W3CDTF">2019-12-08T17:58:52Z</dcterms:modified>
  <cp:revision>2</cp:revision>
  <dc:subject/>
  <dc:title>Слайд 1</dc:title>
</cp:coreProperties>
</file>