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C7A-54A9-4EC3-839F-1801A575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5731-BE88-4BC9-B828-3BFC3EF7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8B54-3576-4BC1-A2A4-2DB51BFA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2E4-7C58-4467-834E-434C6CC3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C02-9B14-4681-A952-F74E2BB2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55D-8EAC-4E55-A169-A215AEA6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6BBE-BF7B-4ACA-B993-5666A18F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3B9-100E-4FF1-9455-E1AA541C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4C3A-03A4-468D-BCB3-F366AC80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3D7D-748D-416C-A5ED-BC1D43ED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F53-6D44-4AE8-A891-0C1B9549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C037-C570-4DD5-9BD8-D8495518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7C41-886F-42DE-A73C-331C045B45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lubava.do.am/st.lampa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1779480" y="281160"/>
            <a:ext cx="7785360" cy="1481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428920" y="3571920"/>
            <a:ext cx="64008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ыполнил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ченик 2"б" класс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Жиров Александ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оверил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лассный руководител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афонова Елена Валер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http://1000dosok.info/s/18-01-27363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Заголовок 1" descr=""/>
          <p:cNvPicPr/>
          <p:nvPr/>
        </p:nvPicPr>
        <p:blipFill>
          <a:blip r:embed="rId2"/>
          <a:stretch/>
        </p:blipFill>
        <p:spPr>
          <a:xfrm>
            <a:off x="298440" y="865080"/>
            <a:ext cx="8778960" cy="44928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497800" cy="115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printonic.ru/uploads/images/2016/03/01/.tmb/thumb_img_56d57f548d63a_resize_900_5000.jpg"/>
          <p:cNvPicPr/>
          <p:nvPr/>
        </p:nvPicPr>
        <p:blipFill>
          <a:blip r:embed="rId2"/>
          <a:srcRect l="4229" t="0" r="0" b="18184"/>
          <a:stretch/>
        </p:blipFill>
        <p:spPr>
          <a:xfrm>
            <a:off x="5643720" y="1285920"/>
            <a:ext cx="3500280" cy="2571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img0.liveinternet.ru/images/attach/c/2/71/271/71271900_1mashina_stiralnaya.jpg"/>
          <p:cNvPicPr/>
          <p:nvPr/>
        </p:nvPicPr>
        <p:blipFill>
          <a:blip r:embed="rId3"/>
          <a:stretch/>
        </p:blipFill>
        <p:spPr>
          <a:xfrm>
            <a:off x="0" y="3786120"/>
            <a:ext cx="3502080" cy="3071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fotohomka.ru/images/Jan/10/e0b816ac477f32c8bd254591979a1f20/mini_3.jpg"/>
          <p:cNvPicPr/>
          <p:nvPr/>
        </p:nvPicPr>
        <p:blipFill>
          <a:blip r:embed="rId4"/>
          <a:stretch/>
        </p:blipFill>
        <p:spPr>
          <a:xfrm>
            <a:off x="5427720" y="3857760"/>
            <a:ext cx="3451320" cy="257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vceznaika.ru/production/images/big/8682857.jpg"/>
          <p:cNvPicPr/>
          <p:nvPr/>
        </p:nvPicPr>
        <p:blipFill>
          <a:blip r:embed="rId5"/>
          <a:srcRect l="0" t="0" r="3500" b="12963"/>
          <a:stretch/>
        </p:blipFill>
        <p:spPr>
          <a:xfrm>
            <a:off x="214200" y="1285920"/>
            <a:ext cx="3071880" cy="264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s://i.ytimg.com/vi/i80da_KA7FA/0.jpg"/>
          <p:cNvPicPr/>
          <p:nvPr/>
        </p:nvPicPr>
        <p:blipFill>
          <a:blip r:embed="rId6"/>
          <a:srcRect l="12504" t="2079" r="17189" b="18751"/>
          <a:stretch/>
        </p:blipFill>
        <p:spPr>
          <a:xfrm rot="20943600">
            <a:off x="3071880" y="2857320"/>
            <a:ext cx="270648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energygaz.ru/eng/uploads/2014/11/slide2.jpg"/>
          <p:cNvPicPr/>
          <p:nvPr/>
        </p:nvPicPr>
        <p:blipFill>
          <a:blip r:embed="rId1"/>
          <a:srcRect l="21430" t="0" r="11842" b="0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Заголовок 1" descr=""/>
          <p:cNvPicPr/>
          <p:nvPr/>
        </p:nvPicPr>
        <p:blipFill>
          <a:blip r:embed="rId2"/>
          <a:stretch/>
        </p:blipFill>
        <p:spPr>
          <a:xfrm>
            <a:off x="407880" y="42840"/>
            <a:ext cx="8302680" cy="144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ru24news.ru/uploads/posts/2017-08/rezervnaya-elektrogeneraciya-v-simferopole-gotova_1.jpeg"/>
          <p:cNvPicPr/>
          <p:nvPr/>
        </p:nvPicPr>
        <p:blipFill>
          <a:blip r:embed="rId1"/>
          <a:srcRect l="0" t="0" r="165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3706920" y="1420920"/>
            <a:ext cx="6102360" cy="39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domohozyajka.com/wp-content/uploads/2012/11/%D0%9E%D0%BF%D0%B0%D1%81%D0%BD%D0%BE%D1%81%D1%82%D1%8C-%D1%8D%D0%BB%D0%B5%D0%BA%D1%82%D1%80%D0%B8%D1%87%D0%B5%D1%81%D1%82%D0%B2%D0%B0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9" name="Заголовок 1" descr=""/>
          <p:cNvPicPr/>
          <p:nvPr/>
        </p:nvPicPr>
        <p:blipFill>
          <a:blip r:embed="rId2"/>
          <a:stretch/>
        </p:blipFill>
        <p:spPr>
          <a:xfrm>
            <a:off x="493560" y="268200"/>
            <a:ext cx="8369280" cy="267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3.bp.blogspot.com/-NilKhvJgxyw/Wd5p_O2ulHI/AAAAAAABBzE/xfGrirmkzXchjVUQYRftntIFuWHAQqB6ACEwYBhgL/s1600/10.jpg"/>
          <p:cNvPicPr/>
          <p:nvPr/>
        </p:nvPicPr>
        <p:blipFill>
          <a:blip r:embed="rId1"/>
          <a:stretch/>
        </p:blipFill>
        <p:spPr>
          <a:xfrm>
            <a:off x="0" y="0"/>
            <a:ext cx="9225000" cy="6915240"/>
          </a:xfrm>
          <a:prstGeom prst="rect">
            <a:avLst/>
          </a:prstGeom>
          <a:ln w="0">
            <a:noFill/>
          </a:ln>
        </p:spPr>
      </p:pic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285840" y="49320"/>
            <a:ext cx="8686800" cy="1511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1-20T18:48:00Z</dcterms:modified>
  <cp:revision>5</cp:revision>
  <dc:subject/>
  <dc:title>ПРОФЕССИЯ ЭЛЕКТРИК</dc:title>
</cp:coreProperties>
</file>