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8.wmf" ContentType="image/x-wmf"/>
  <Override PartName="/ppt/media/image27.jpeg" ContentType="image/jpeg"/>
  <Override PartName="/ppt/media/image13.wmf" ContentType="image/x-wmf"/>
  <Override PartName="/ppt/media/image50.jpeg" ContentType="image/jpeg"/>
  <Override PartName="/ppt/media/image26.wmf" ContentType="image/x-wmf"/>
  <Override PartName="/ppt/media/image46.jpeg" ContentType="image/jpeg"/>
  <Override PartName="/ppt/media/image25.wmf" ContentType="image/x-wmf"/>
  <Override PartName="/ppt/media/image22.wmf" ContentType="image/x-wmf"/>
  <Override PartName="/ppt/media/image59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18.png" ContentType="image/png"/>
  <Override PartName="/ppt/media/image58.wmf" ContentType="image/x-wmf"/>
  <Override PartName="/ppt/media/image19.wmf" ContentType="image/x-wmf"/>
  <Override PartName="/ppt/media/image17.wmf" ContentType="image/x-wmf"/>
  <Override PartName="/ppt/media/image15.wmf" ContentType="image/x-wmf"/>
  <Override PartName="/ppt/media/image24.wmf" ContentType="image/x-wmf"/>
  <Override PartName="/ppt/media/image1.wmf" ContentType="image/x-wmf"/>
  <Override PartName="/ppt/media/image5.gif" ContentType="image/gif"/>
  <Override PartName="/ppt/media/image31.wmf" ContentType="image/x-wmf"/>
  <Override PartName="/ppt/media/image2.png" ContentType="image/png"/>
  <Override PartName="/ppt/media/image23.wmf" ContentType="image/x-wmf"/>
  <Override PartName="/ppt/media/image9.jpeg" ContentType="image/jpeg"/>
  <Override PartName="/ppt/media/image11.png" ContentType="image/png"/>
  <Override PartName="/ppt/media/image51.wmf" ContentType="image/x-wmf"/>
  <Override PartName="/ppt/media/image3.png" ContentType="image/png"/>
  <Override PartName="/ppt/media/image10.gif" ContentType="image/gif"/>
  <Override PartName="/ppt/media/image14.wmf" ContentType="image/x-wmf"/>
  <Override PartName="/ppt/media/image6.png" ContentType="image/png"/>
  <Override PartName="/ppt/media/image42.jpeg" ContentType="image/jpeg"/>
  <Override PartName="/ppt/media/image34.wmf" ContentType="image/x-wmf"/>
  <Override PartName="/ppt/media/image38.wmf" ContentType="image/x-wmf"/>
  <Override PartName="/ppt/media/image40.wmf" ContentType="image/x-wmf"/>
  <Override PartName="/ppt/media/image43.jpeg" ContentType="image/jpeg"/>
  <Override PartName="/ppt/media/image44.jpeg" ContentType="image/jpeg"/>
  <Override PartName="/ppt/media/image54.wmf" ContentType="image/x-wmf"/>
  <Override PartName="/ppt/media/image39.wmf" ContentType="image/x-wmf"/>
  <Override PartName="/ppt/media/image32.wmf" ContentType="image/x-wmf"/>
  <Override PartName="/ppt/media/image49.jpeg" ContentType="image/jpeg"/>
  <Override PartName="/ppt/media/image56.wmf" ContentType="image/x-wmf"/>
  <Override PartName="/ppt/media/image48.jpeg" ContentType="image/jpeg"/>
  <Override PartName="/ppt/media/image52.wmf" ContentType="image/x-wmf"/>
  <Override PartName="/ppt/media/image53.wmf" ContentType="image/x-wmf"/>
  <Override PartName="/ppt/media/image41.wmf" ContentType="image/x-wmf"/>
  <Override PartName="/ppt/media/image8.png" ContentType="image/png"/>
  <Override PartName="/ppt/media/image55.wmf" ContentType="image/x-wmf"/>
  <Override PartName="/ppt/media/image12.wmf" ContentType="image/x-wmf"/>
  <Override PartName="/ppt/media/image4.png" ContentType="image/png"/>
  <Override PartName="/ppt/media/image47.jpeg" ContentType="image/jpeg"/>
  <Override PartName="/ppt/media/image36.wmf" ContentType="image/x-wmf"/>
  <Override PartName="/ppt/media/image35.wmf" ContentType="image/x-wmf"/>
  <Override PartName="/ppt/media/image33.jpeg" ContentType="image/jpeg"/>
  <Override PartName="/ppt/media/image30.wmf" ContentType="image/x-wmf"/>
  <Override PartName="/ppt/media/image16.wmf" ContentType="image/x-wmf"/>
  <Override PartName="/ppt/media/image45.jpeg" ContentType="image/jpeg"/>
  <Override PartName="/ppt/media/image7.wmf" ContentType="image/x-wmf"/>
  <Override PartName="/ppt/media/image37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1195-3B78-4459-A861-31268609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9330-A16E-4FD8-8A7B-F327277E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415-CB57-4F44-A811-6D15BBE8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A55E-96A1-45D1-BE31-4ADCD05C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CE72-0468-4E2E-AD82-694697D9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D947-496E-48BC-93B5-BC65A762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BC57-6C4C-4420-9310-72D76F0B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475C-4494-474F-B483-0690A137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098F-C159-4459-BD55-3137C8F6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14A4-92A1-4A80-BDB8-AEB42B99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EA36-AF67-48CF-BAD2-CAA489E8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D9B-6463-43C1-8207-D8E2F8A7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00D6-FFAA-4C18-8637-97DB5307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9424-0E96-4933-8A31-549D8FF6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146F-843B-4A2C-8C3C-DACDA20F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55F7-5542-4FE2-A39D-9896904B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5C56-10C1-47E9-9846-F865E413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BF6EE-1CB7-452E-8EE3-E345B3CC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A43ED-2AF6-40B2-9A18-D2BF860F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B2C7E-E912-457F-B5EB-50E13392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4D21C-EF5B-4898-8789-5C18EEAC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98F79-AB61-45AF-B294-5CC7069A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7D99-C181-436F-AFBD-AB45E95E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0F433-FFF0-46E3-B558-E07789C4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69D2C-88A2-4B7A-9F3A-0E69A14F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263B1-E961-4D85-8085-A4D16B3C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1DEB2-965E-415E-AC7A-0F59235A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C971C-9DC8-4BE3-8369-E2F2FEFE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2E962-1D58-49B7-A55A-8431C389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93BF6-F140-4B70-8FA5-179B7271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1F490-9BF2-4734-8997-FED64273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51DB1-DE2E-41D8-9036-4F3382A7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82D0F-4C95-48D4-ABB0-E23C2223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44E0-2607-4B82-B40F-AE476335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1412A-6984-4FFF-A1FE-A1175887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B2881-F9C4-498E-AC0F-0FF74369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E5AAE-D374-47D8-9F9C-20574E72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AEB50-D1DE-4E01-A573-50B30B9C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EB60A-3F8D-42F0-A796-F57AB39A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F385F-569D-454C-A79D-B479E1E6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B7DC0-9D94-4312-BFD5-A7FAECD9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4B2AF-685D-4795-99AD-4A503E65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C4D92-51A2-4CAE-8AFE-419F919B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6F5EF-E6A1-4881-ABAB-FF383753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9FF-F1B5-47FB-A213-25351A11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7FC50-3F45-4E93-8F7A-3177C9AF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F7C88-9034-43CB-B3EA-37E7AC63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5FF7C-52CC-4843-A0DF-F98B0097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6B8A7-5576-4A04-AB52-43343426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0C488-65B2-4791-B64C-9C6C2FF6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A6E8B-7768-418B-A30E-CEBB4484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67192-387D-4885-9069-A4E1B279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54EAF-BD6D-4AD2-AAEF-1886BBB3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470D5-76E1-46FE-B79B-A1D274D7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0400C-524F-4794-932E-BD5D6EAE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DD3A-EA44-4E97-B222-6E0EDA7A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9BEB7-A147-4F55-B556-5753291F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00643-4D1D-4AE7-B0A2-08AEC1A2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CEFAD-DF42-4198-ABC7-626A2C5D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6BA19-29DD-4EC3-8200-C2B94F3B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941F7-3E5B-47A6-8771-BD5DBCBD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456DB-EDDA-426D-A2B4-DD0A0080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3B85A-2824-4027-BF08-652DEF1A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5EE0B-329E-4C72-A155-4BE7D751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7E324-D423-4F46-BD05-AB2D24E6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2860D-49BF-41F3-9EB9-3DD043CA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E536-BBAD-4ED2-834B-72B90F27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A2695-78E6-431C-ABFC-F05D2474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DD966-5825-4A37-BB41-B37CD3D8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F212B-90FE-473B-AAD8-9922A4FD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84B53-19A4-4FC4-BBDF-8EFAE65A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0D3F7-1C41-4CF6-93E2-FAAB813C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C8758-15F3-4D91-9991-8D570CB3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B36CE-646F-446C-B9AE-E617E172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A6236-227C-4B93-8951-C4A46708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5981F-0995-4082-82B6-CA40946E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F60EB-75F2-4978-8A23-A1A05665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6E1F-C42E-4F9E-A27F-67180DC9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F1D86-B710-4690-8B11-23F6AC38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C8956-D6C8-49F2-9F78-79EA3F40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8297F-67C1-420F-BF20-6DED2293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3AC3B-A96B-44DA-9035-07F39891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083DD-8FBD-4DEE-BC04-598C64D1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AE292-A665-4A83-8AFC-EFFE29C4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AF16F-03FF-4458-93C9-B1FCAB5A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93BE0-AC56-4C1F-9700-852D6D65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78071-6C30-452A-BC45-7EB10078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AC2F2-09C3-4AC7-B20B-1F0F9857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1A5E-231C-4753-8403-3F6FF6A2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49095-2787-4B54-ABD5-3FE21BE0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CD841-7792-477C-8A00-5EC65C07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ED9DD-4F21-412A-B77F-9448B33A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EAB17-2018-42C6-91E9-742AF2C6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BB619-D0AF-4360-9829-2AB215B2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08A9C-8A3B-4F94-A088-FD2D1867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ADF0A-ECFF-4C97-A457-97168082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1E5D-1E93-4192-92A2-6E210961CC6C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27C1-779C-4FB0-9463-9018DE9629C2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8E07-96E9-4203-BED7-F335990F1846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2D42-A874-4F30-92F5-1323CE25F85A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AE2C-F2E6-417E-A468-05C8B5FBAEE4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4A17-6D07-4217-8FAC-DD380B85EA3D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DB61-D155-4155-A245-C5938271F498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FC0E-E207-406E-B766-80C3749F9CAE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image" Target="../media/image50.jpeg"/><Relationship Id="rId10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1"/>
          <p:cNvSpPr/>
          <p:nvPr/>
        </p:nvSpPr>
        <p:spPr>
          <a:xfrm>
            <a:off x="1857240" y="857160"/>
            <a:ext cx="6786720" cy="59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Организация работы со слабоуспевающими и неуспевающими учащимися 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C66A-645D-4A43-B878-1EC093A3203D}" type="slidenum">
              <a:rPr b="0" lang="ru-RU" sz="1400" spc="-1" strike="noStrike">
                <a:solidFill>
                  <a:srgbClr val="464653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4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2500200" cy="30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4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тставание ученика в усвоении конкретного учебного предмета можно обнаружить по следующим признакам: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94920" y="1714680"/>
            <a:ext cx="82803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1. Низкий уровень умственного развит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2. Несформированность учебных навык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3. Дефицит внимания с гиперактивностью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4. Отсутствие познавательного интерес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5. Несформированность произвольной сфер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6. Конфликтные отношения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7. Низкий познавательный интерес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8. Низкий уровень развития словесно-логического мышле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9. Низкая работоспособность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713880"/>
            <a:ext cx="822960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Чтобы предотвратить неуспеваемость, надо своевременно выявлять образовавшиеся пробелы в знаниях, умениях и навыках учащихся и организовать своевременную ликвидацию этих пробе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8" descr="ucheb"/>
          <p:cNvPicPr/>
          <p:nvPr/>
        </p:nvPicPr>
        <p:blipFill>
          <a:blip r:embed="rId1"/>
          <a:stretch/>
        </p:blipFill>
        <p:spPr>
          <a:xfrm>
            <a:off x="-6480" y="5278320"/>
            <a:ext cx="9296640" cy="1725840"/>
          </a:xfrm>
          <a:prstGeom prst="rect">
            <a:avLst/>
          </a:prstGeom>
          <a:ln w="0">
            <a:noFill/>
          </a:ln>
        </p:spPr>
      </p:pic>
      <p:pic>
        <p:nvPicPr>
          <p:cNvPr id="425" name="Схема 3" descr=""/>
          <p:cNvPicPr/>
          <p:nvPr/>
        </p:nvPicPr>
        <p:blipFill>
          <a:blip r:embed="rId2"/>
          <a:stretch/>
        </p:blipFill>
        <p:spPr>
          <a:xfrm>
            <a:off x="-6480" y="963720"/>
            <a:ext cx="9156960" cy="56196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ЖЕСТКИЙ ТРЕУГОЛЬНИК”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27" name="Picture 5" descr="D:\Рабочий стол\презент\Флэшки\Флэшки 2\школа и дети\school1.gif"/>
          <p:cNvPicPr/>
          <p:nvPr/>
        </p:nvPicPr>
        <p:blipFill>
          <a:blip r:embed="rId3"/>
          <a:stretch/>
        </p:blipFill>
        <p:spPr>
          <a:xfrm>
            <a:off x="714240" y="1000080"/>
            <a:ext cx="229104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8" descr="ucheb"/>
          <p:cNvPicPr/>
          <p:nvPr/>
        </p:nvPicPr>
        <p:blipFill>
          <a:blip r:embed="rId1"/>
          <a:stretch/>
        </p:blipFill>
        <p:spPr>
          <a:xfrm>
            <a:off x="-6480" y="5278320"/>
            <a:ext cx="9296640" cy="172584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ambria"/>
              </a:rPr>
              <a:t>«ЖЕСТКИЙ ТРЕУГОЛЬНИК»</a:t>
            </a:r>
            <a:r>
              <a:rPr b="0" lang="ru-RU" sz="5400" spc="-1" strike="noStrike">
                <a:solidFill>
                  <a:srgbClr val="848fba"/>
                </a:solidFill>
                <a:latin typeface="Cambria"/>
              </a:rPr>
              <a:t> </a:t>
            </a:r>
            <a:endParaRPr b="0" lang="en-US" sz="54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30" name="Содержимое 3" descr=""/>
          <p:cNvPicPr/>
          <p:nvPr/>
        </p:nvPicPr>
        <p:blipFill>
          <a:blip r:embed="rId2"/>
          <a:stretch/>
        </p:blipFill>
        <p:spPr>
          <a:xfrm>
            <a:off x="-719280" y="1573200"/>
            <a:ext cx="8242560" cy="46623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90"/>
          <p:cNvPicPr/>
          <p:nvPr/>
        </p:nvPicPr>
        <p:blipFill>
          <a:blip r:embed="rId3"/>
          <a:stretch/>
        </p:blipFill>
        <p:spPr>
          <a:xfrm>
            <a:off x="6148440" y="1214280"/>
            <a:ext cx="2995560" cy="5407200"/>
          </a:xfrm>
          <a:prstGeom prst="rect">
            <a:avLst/>
          </a:prstGeom>
          <a:ln w="0">
            <a:noFill/>
          </a:ln>
        </p:spPr>
      </p:pic>
      <p:sp>
        <p:nvSpPr>
          <p:cNvPr id="432" name="TextBox 5"/>
          <p:cNvSpPr/>
          <p:nvPr/>
        </p:nvSpPr>
        <p:spPr>
          <a:xfrm>
            <a:off x="1643040" y="571680"/>
            <a:ext cx="692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ЖЕСТКИЙ ТРЕУГОЛЬНИК”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6" descr="787353526"/>
          <p:cNvPicPr/>
          <p:nvPr/>
        </p:nvPicPr>
        <p:blipFill>
          <a:blip r:embed="rId1"/>
          <a:stretch/>
        </p:blipFill>
        <p:spPr>
          <a:xfrm>
            <a:off x="1133640" y="1487520"/>
            <a:ext cx="5376600" cy="53769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ucheb"/>
          <p:cNvPicPr/>
          <p:nvPr/>
        </p:nvPicPr>
        <p:blipFill>
          <a:blip r:embed="rId2"/>
          <a:stretch/>
        </p:blipFill>
        <p:spPr>
          <a:xfrm>
            <a:off x="-6480" y="5278320"/>
            <a:ext cx="9296640" cy="1725840"/>
          </a:xfrm>
          <a:prstGeom prst="rect">
            <a:avLst/>
          </a:prstGeom>
          <a:ln w="0">
            <a:noFill/>
          </a:ln>
        </p:spPr>
      </p:pic>
      <p:pic>
        <p:nvPicPr>
          <p:cNvPr id="435" name="Object 4" descr=""/>
          <p:cNvPicPr/>
          <p:nvPr/>
        </p:nvPicPr>
        <p:blipFill>
          <a:blip r:embed="rId3"/>
          <a:stretch/>
        </p:blipFill>
        <p:spPr>
          <a:xfrm>
            <a:off x="571680" y="714240"/>
            <a:ext cx="2857320" cy="22575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D:\Рабочий стол\презент\Флэшки\Флэшки 2\школа и дети\school2.gif"/>
          <p:cNvPicPr/>
          <p:nvPr/>
        </p:nvPicPr>
        <p:blipFill>
          <a:blip r:embed="rId4"/>
          <a:stretch/>
        </p:blipFill>
        <p:spPr>
          <a:xfrm>
            <a:off x="5929200" y="642960"/>
            <a:ext cx="2786040" cy="2286000"/>
          </a:xfrm>
          <a:prstGeom prst="rect">
            <a:avLst/>
          </a:prstGeom>
          <a:ln w="0">
            <a:noFill/>
          </a:ln>
        </p:spPr>
      </p:pic>
      <p:sp>
        <p:nvSpPr>
          <p:cNvPr id="437" name="TextBox 6"/>
          <p:cNvSpPr/>
          <p:nvPr/>
        </p:nvSpPr>
        <p:spPr>
          <a:xfrm>
            <a:off x="857160" y="214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TextBox 7"/>
          <p:cNvSpPr/>
          <p:nvPr/>
        </p:nvSpPr>
        <p:spPr>
          <a:xfrm>
            <a:off x="6643800" y="2142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Учени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9" name="Двойная стрелка влево/вправо 8"/>
          <p:cNvSpPr/>
          <p:nvPr/>
        </p:nvSpPr>
        <p:spPr>
          <a:xfrm>
            <a:off x="3643200" y="1357200"/>
            <a:ext cx="1928880" cy="857520"/>
          </a:xfrm>
          <a:prstGeom prst="leftRightArrow">
            <a:avLst>
              <a:gd name="adj1" fmla="val 50000"/>
              <a:gd name="adj2" fmla="val 49986"/>
            </a:avLst>
          </a:prstGeom>
          <a:solidFill>
            <a:srgbClr val="232329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Прямоугольник 9"/>
          <p:cNvSpPr/>
          <p:nvPr/>
        </p:nvSpPr>
        <p:spPr>
          <a:xfrm>
            <a:off x="4786200" y="314316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нужны знания, но пр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этом не прикладывает усили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500040" y="3155040"/>
            <a:ext cx="407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учитель ставит “2” –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облемы с администрацией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и классным руководителем;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учитель ставит “3” - но знаний  у учащихся нет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6" descr="787353526"/>
          <p:cNvPicPr/>
          <p:nvPr/>
        </p:nvPicPr>
        <p:blipFill>
          <a:blip r:embed="rId1"/>
          <a:stretch/>
        </p:blipFill>
        <p:spPr>
          <a:xfrm>
            <a:off x="2494080" y="633240"/>
            <a:ext cx="5375160" cy="53769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8" descr="ucheb"/>
          <p:cNvPicPr/>
          <p:nvPr/>
        </p:nvPicPr>
        <p:blipFill>
          <a:blip r:embed="rId2"/>
          <a:stretch/>
        </p:blipFill>
        <p:spPr>
          <a:xfrm>
            <a:off x="-6480" y="5278320"/>
            <a:ext cx="9296640" cy="1725840"/>
          </a:xfrm>
          <a:prstGeom prst="rect">
            <a:avLst/>
          </a:prstGeom>
          <a:ln w="0">
            <a:noFill/>
          </a:ln>
        </p:spPr>
      </p:pic>
      <p:sp>
        <p:nvSpPr>
          <p:cNvPr id="444" name="TextBox 6"/>
          <p:cNvSpPr/>
          <p:nvPr/>
        </p:nvSpPr>
        <p:spPr>
          <a:xfrm>
            <a:off x="642960" y="26208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Родители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TextBox 7"/>
          <p:cNvSpPr/>
          <p:nvPr/>
        </p:nvSpPr>
        <p:spPr>
          <a:xfrm>
            <a:off x="6072120" y="20160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Учитель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Двойная стрелка влево/вправо 8"/>
          <p:cNvSpPr/>
          <p:nvPr/>
        </p:nvSpPr>
        <p:spPr>
          <a:xfrm>
            <a:off x="3071880" y="214200"/>
            <a:ext cx="2857320" cy="642960"/>
          </a:xfrm>
          <a:prstGeom prst="leftRightArrow">
            <a:avLst>
              <a:gd name="adj1" fmla="val 50000"/>
              <a:gd name="adj2" fmla="val 49995"/>
            </a:avLst>
          </a:prstGeom>
          <a:solidFill>
            <a:srgbClr val="00206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Прямоугольник 9"/>
          <p:cNvSpPr/>
          <p:nvPr/>
        </p:nvSpPr>
        <p:spPr>
          <a:xfrm>
            <a:off x="428760" y="428616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родителям нужно, чтобы у ребенка были знания, но при этом нет контроля и помощи детям с их стороны;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8" name="Прямоугольник 10"/>
          <p:cNvSpPr/>
          <p:nvPr/>
        </p:nvSpPr>
        <p:spPr>
          <a:xfrm>
            <a:off x="500040" y="292896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учитель, по мнению родителей, выступает в роли “монстра”, “надзирателя”;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9" name="Прямоугольник 11"/>
          <p:cNvSpPr/>
          <p:nvPr/>
        </p:nvSpPr>
        <p:spPr>
          <a:xfrm>
            <a:off x="5286240" y="1071720"/>
            <a:ext cx="3429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учителя иногда отчитывают родителей даже в присутствии ребенка, при этом не всегда давая конкретные советы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Прямоугольник 12"/>
          <p:cNvSpPr/>
          <p:nvPr/>
        </p:nvSpPr>
        <p:spPr>
          <a:xfrm>
            <a:off x="500040" y="107172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родители  в свою очередь  обвиняют  учителей в некомпетентности в присутствии детей;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1" name="Прямоугольник 13"/>
          <p:cNvSpPr/>
          <p:nvPr/>
        </p:nvSpPr>
        <p:spPr>
          <a:xfrm>
            <a:off x="5429160" y="3786120"/>
            <a:ext cx="3214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сами учителя не всегда видят выход из создавшейся конфликтной ситуации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6" descr="787353526"/>
          <p:cNvPicPr/>
          <p:nvPr/>
        </p:nvPicPr>
        <p:blipFill>
          <a:blip r:embed="rId1"/>
          <a:stretch/>
        </p:blipFill>
        <p:spPr>
          <a:xfrm>
            <a:off x="1994040" y="420840"/>
            <a:ext cx="4370400" cy="43704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8" descr="ucheb"/>
          <p:cNvPicPr/>
          <p:nvPr/>
        </p:nvPicPr>
        <p:blipFill>
          <a:blip r:embed="rId2"/>
          <a:stretch/>
        </p:blipFill>
        <p:spPr>
          <a:xfrm>
            <a:off x="-6480" y="5278320"/>
            <a:ext cx="9296640" cy="17258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7" descr="BD07156_"/>
          <p:cNvPicPr/>
          <p:nvPr/>
        </p:nvPicPr>
        <p:blipFill>
          <a:blip r:embed="rId3"/>
          <a:stretch/>
        </p:blipFill>
        <p:spPr>
          <a:xfrm>
            <a:off x="357120" y="4071960"/>
            <a:ext cx="3070440" cy="2606760"/>
          </a:xfrm>
          <a:prstGeom prst="rect">
            <a:avLst/>
          </a:prstGeom>
          <a:ln w="0">
            <a:noFill/>
          </a:ln>
        </p:spPr>
      </p:pic>
      <p:pic>
        <p:nvPicPr>
          <p:cNvPr id="455" name="Object 4" descr=""/>
          <p:cNvPicPr/>
          <p:nvPr/>
        </p:nvPicPr>
        <p:blipFill>
          <a:blip r:embed="rId4"/>
          <a:stretch/>
        </p:blipFill>
        <p:spPr>
          <a:xfrm>
            <a:off x="6019920" y="428760"/>
            <a:ext cx="2838240" cy="2185920"/>
          </a:xfrm>
          <a:prstGeom prst="rect">
            <a:avLst/>
          </a:prstGeom>
          <a:ln w="0">
            <a:noFill/>
          </a:ln>
        </p:spPr>
      </p:pic>
      <p:sp>
        <p:nvSpPr>
          <p:cNvPr id="456" name="TextBox 7"/>
          <p:cNvSpPr/>
          <p:nvPr/>
        </p:nvSpPr>
        <p:spPr>
          <a:xfrm>
            <a:off x="1000080" y="3571920"/>
            <a:ext cx="1857600" cy="429120"/>
          </a:xfrm>
          <a:prstGeom prst="rect">
            <a:avLst/>
          </a:prstGeom>
          <a:solidFill>
            <a:srgbClr val="dde9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 Black"/>
              </a:rPr>
              <a:t>Учитель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TextBox 8"/>
          <p:cNvSpPr/>
          <p:nvPr/>
        </p:nvSpPr>
        <p:spPr>
          <a:xfrm>
            <a:off x="5143680" y="500040"/>
            <a:ext cx="2714400" cy="429120"/>
          </a:xfrm>
          <a:prstGeom prst="rect">
            <a:avLst/>
          </a:prstGeom>
          <a:solidFill>
            <a:srgbClr val="dde9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 Black"/>
              </a:rPr>
              <a:t>Администрация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8" name="Двойная стрелка влево/вверх 9"/>
          <p:cNvSpPr/>
          <p:nvPr/>
        </p:nvSpPr>
        <p:spPr>
          <a:xfrm rot="10800000">
            <a:off x="2571840" y="1856880"/>
            <a:ext cx="3357360" cy="1428840"/>
          </a:xfrm>
          <a:custGeom>
            <a:avLst/>
            <a:gdLst>
              <a:gd name="textAreaLeft" fmla="*/ 178560 w 3357360"/>
              <a:gd name="textAreaRight" fmla="*/ 3000240 w 3357360"/>
              <a:gd name="textAreaTop" fmla="*/ 893160 h 1428840"/>
              <a:gd name="textAreaBottom" fmla="*/ 1250280 h 1428840"/>
            </a:gdLst>
            <a:ahLst/>
            <a:rect l="textAreaLeft" t="textAreaTop" r="textAreaRight" b="textAreaBottom"/>
            <a:pathLst>
              <a:path w="3357563" h="1428750">
                <a:moveTo>
                  <a:pt x="0" y="1071563"/>
                </a:moveTo>
                <a:lnTo>
                  <a:pt x="357188" y="714375"/>
                </a:lnTo>
                <a:lnTo>
                  <a:pt x="357188" y="892969"/>
                </a:lnTo>
                <a:lnTo>
                  <a:pt x="2821782" y="892969"/>
                </a:lnTo>
                <a:lnTo>
                  <a:pt x="2821782" y="357188"/>
                </a:lnTo>
                <a:lnTo>
                  <a:pt x="2643188" y="357188"/>
                </a:lnTo>
                <a:lnTo>
                  <a:pt x="3000376" y="0"/>
                </a:lnTo>
                <a:lnTo>
                  <a:pt x="3357563" y="357188"/>
                </a:lnTo>
                <a:lnTo>
                  <a:pt x="3178969" y="357188"/>
                </a:lnTo>
                <a:lnTo>
                  <a:pt x="3178969" y="1250156"/>
                </a:lnTo>
                <a:lnTo>
                  <a:pt x="357188" y="1250156"/>
                </a:lnTo>
                <a:lnTo>
                  <a:pt x="357188" y="1428750"/>
                </a:lnTo>
                <a:close/>
              </a:path>
            </a:pathLst>
          </a:custGeom>
          <a:solidFill>
            <a:srgbClr val="232329"/>
          </a:solidFill>
          <a:ln w="19080">
            <a:solidFill>
              <a:srgbClr val="5259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4085280" y="3364920"/>
            <a:ext cx="4499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Администрация требует :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хороших знаний учащихся;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высоких показателей;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бесконфликтных отношений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с учениками и родителями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229320" y="293400"/>
            <a:ext cx="478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Что остается делать учителю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если  классы у него слабые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и он ещё и классны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уководитель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в этих классах 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Object 3" descr=""/>
          <p:cNvPicPr/>
          <p:nvPr/>
        </p:nvPicPr>
        <p:blipFill>
          <a:blip r:embed="rId1"/>
          <a:stretch/>
        </p:blipFill>
        <p:spPr>
          <a:xfrm>
            <a:off x="928800" y="1857240"/>
            <a:ext cx="3179520" cy="452592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3"/>
          <p:cNvSpPr/>
          <p:nvPr/>
        </p:nvSpPr>
        <p:spPr>
          <a:xfrm>
            <a:off x="285840" y="428760"/>
            <a:ext cx="535788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Учителю становится “тошно” от “безысходности”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Прямоугольник 4"/>
          <p:cNvSpPr/>
          <p:nvPr/>
        </p:nvSpPr>
        <p:spPr>
          <a:xfrm>
            <a:off x="3643200" y="1643040"/>
            <a:ext cx="485784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У учителя опускаются руки,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нет желания идти на работу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4" name="Прямоугольник 5"/>
          <p:cNvSpPr/>
          <p:nvPr/>
        </p:nvSpPr>
        <p:spPr>
          <a:xfrm>
            <a:off x="4143240" y="3429000"/>
            <a:ext cx="457200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8e7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Ученик предпочитает улицу, или случайных знакомых занятиям в школе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65" name="Picture 6" descr="1060"/>
          <p:cNvPicPr/>
          <p:nvPr/>
        </p:nvPicPr>
        <p:blipFill>
          <a:blip r:embed="rId2"/>
          <a:stretch/>
        </p:blipFill>
        <p:spPr>
          <a:xfrm>
            <a:off x="5500800" y="4500720"/>
            <a:ext cx="273528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акой же выход из создавшейся ситуаци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ак помочь ученику, учителям и родителям выйти из “неподвижного треугольника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48fba"/>
                </a:solidFill>
                <a:latin typeface="Cambria"/>
              </a:rPr>
              <a:t>Задачи педсовет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68" name="Picture 8" descr="ucheb"/>
          <p:cNvPicPr/>
          <p:nvPr/>
        </p:nvPicPr>
        <p:blipFill>
          <a:blip r:embed="rId1"/>
          <a:stretch/>
        </p:blipFill>
        <p:spPr>
          <a:xfrm>
            <a:off x="-6480" y="5278320"/>
            <a:ext cx="9296640" cy="172584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1"/>
          <p:cNvSpPr/>
          <p:nvPr/>
        </p:nvSpPr>
        <p:spPr>
          <a:xfrm>
            <a:off x="392040" y="668160"/>
            <a:ext cx="880740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i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Систематизировать теоретические знания по теме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i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Провести  психолого-педагогическую диагностику      слабоуспевающих учащихся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i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Выявить основные причины и меры профилактики    неуспеваемости школьников.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i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Определить пути, формы и способы решения проблемы   неуспеваемости на различных этапах учебной деятельности.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Превратить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  <a:ea typeface="Arial"/>
              </a:rPr>
              <a:t>“</a:t>
            </a:r>
            <a:r>
              <a:rPr b="1" i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жёсткий треугольник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  <a:ea typeface="Arial"/>
              </a:rPr>
              <a:t>”</a:t>
            </a:r>
            <a:r>
              <a:rPr b="1" i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 в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  <a:ea typeface="Arial"/>
              </a:rPr>
              <a:t>“</a:t>
            </a:r>
            <a:r>
              <a:rPr b="1" i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подвижный четырёхугольник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70" name="Picture 4" descr="54"/>
          <p:cNvPicPr/>
          <p:nvPr/>
        </p:nvPicPr>
        <p:blipFill>
          <a:blip r:embed="rId2"/>
          <a:stretch/>
        </p:blipFill>
        <p:spPr>
          <a:xfrm>
            <a:off x="5967360" y="3571920"/>
            <a:ext cx="28670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357120" y="285840"/>
            <a:ext cx="82868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Неуспевающий ученик- </a:t>
            </a:r>
            <a:r>
              <a:rPr b="0" lang="ru-RU" sz="3600" spc="-1" strike="noStrike">
                <a:solidFill>
                  <a:srgbClr val="002060"/>
                </a:solidFill>
                <a:latin typeface="Monotype Corsiva"/>
              </a:rPr>
              <a:t>это ребенок, который не может продемонстрировать тот уровень знаний, умений, скорость мышления и выполнения операций, который  показывают обучающиеся рядом с ним дети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Monotype Corsiva"/>
              </a:rPr>
              <a:t>                                                  </a:t>
            </a:r>
            <a:r>
              <a:rPr b="0" lang="ru-RU" sz="3600" spc="-1" strike="noStrike">
                <a:solidFill>
                  <a:srgbClr val="002060"/>
                </a:solidFill>
                <a:latin typeface="Monotype Corsiva"/>
              </a:rPr>
              <a:t>И. П. Подвласов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0450-CA00-4E1F-81CD-B09863678C75}" type="slidenum">
              <a:rPr b="0" lang="ru-RU" sz="1400" spc="-1" strike="noStrike">
                <a:solidFill>
                  <a:srgbClr val="464653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7" name="Picture 4" descr="1"/>
          <p:cNvPicPr/>
          <p:nvPr/>
        </p:nvPicPr>
        <p:blipFill>
          <a:blip r:embed="rId1"/>
          <a:stretch/>
        </p:blipFill>
        <p:spPr>
          <a:xfrm>
            <a:off x="527040" y="3714840"/>
            <a:ext cx="2401920" cy="29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8" descr="ucheb"/>
          <p:cNvPicPr/>
          <p:nvPr/>
        </p:nvPicPr>
        <p:blipFill>
          <a:blip r:embed="rId1"/>
          <a:stretch/>
        </p:blipFill>
        <p:spPr>
          <a:xfrm>
            <a:off x="-6480" y="5278320"/>
            <a:ext cx="9296640" cy="1725840"/>
          </a:xfrm>
          <a:prstGeom prst="rect">
            <a:avLst/>
          </a:prstGeom>
          <a:ln w="0">
            <a:noFill/>
          </a:ln>
        </p:spPr>
      </p:pic>
      <p:sp>
        <p:nvSpPr>
          <p:cNvPr id="472" name="Ромб 3"/>
          <p:cNvSpPr/>
          <p:nvPr/>
        </p:nvSpPr>
        <p:spPr>
          <a:xfrm>
            <a:off x="1714680" y="500040"/>
            <a:ext cx="5143320" cy="5857920"/>
          </a:xfrm>
          <a:prstGeom prst="diamond">
            <a:avLst/>
          </a:prstGeom>
          <a:solidFill>
            <a:srgbClr val="cc00ff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3214800" y="58680"/>
            <a:ext cx="22143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Ученик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285840" y="2857680"/>
            <a:ext cx="24289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Родители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5" name="TextBox 6"/>
          <p:cNvSpPr/>
          <p:nvPr/>
        </p:nvSpPr>
        <p:spPr>
          <a:xfrm>
            <a:off x="5572080" y="2786040"/>
            <a:ext cx="35719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Администрация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TextBox 7"/>
          <p:cNvSpPr/>
          <p:nvPr/>
        </p:nvSpPr>
        <p:spPr>
          <a:xfrm>
            <a:off x="3357720" y="6215040"/>
            <a:ext cx="22860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77" name="Picture 7" descr="BD07213_"/>
          <p:cNvPicPr/>
          <p:nvPr/>
        </p:nvPicPr>
        <p:blipFill>
          <a:blip r:embed="rId2"/>
          <a:stretch/>
        </p:blipFill>
        <p:spPr>
          <a:xfrm>
            <a:off x="3357720" y="2143080"/>
            <a:ext cx="1752480" cy="21304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1085"/>
          <p:cNvPicPr/>
          <p:nvPr/>
        </p:nvPicPr>
        <p:blipFill>
          <a:blip r:embed="rId3"/>
          <a:stretch/>
        </p:blipFill>
        <p:spPr>
          <a:xfrm>
            <a:off x="214200" y="3500280"/>
            <a:ext cx="1978200" cy="35942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5" descr="BD07154_"/>
          <p:cNvPicPr/>
          <p:nvPr/>
        </p:nvPicPr>
        <p:blipFill>
          <a:blip r:embed="rId4"/>
          <a:stretch/>
        </p:blipFill>
        <p:spPr>
          <a:xfrm>
            <a:off x="5643720" y="0"/>
            <a:ext cx="350028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48fba"/>
                </a:solidFill>
                <a:latin typeface="Cambria"/>
              </a:rPr>
              <a:t>ВЫВОД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81" name="Picture 8" descr="ucheb"/>
          <p:cNvPicPr/>
          <p:nvPr/>
        </p:nvPicPr>
        <p:blipFill>
          <a:blip r:embed="rId1"/>
          <a:stretch/>
        </p:blipFill>
        <p:spPr>
          <a:xfrm>
            <a:off x="-6480" y="5278320"/>
            <a:ext cx="9296640" cy="172584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5"/>
          <p:cNvSpPr/>
          <p:nvPr/>
        </p:nvSpPr>
        <p:spPr>
          <a:xfrm>
            <a:off x="500040" y="881280"/>
            <a:ext cx="8072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Чтобы предотвратить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неуспеваемость учащихся,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нужно так организовать учебный процесс,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жизнь учащихся в школе и в классе,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чтоб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вызва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разви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у учащихся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внутреннюю мотивацию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учебной деятельности,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стойк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познаватель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интере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к учению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28760" y="1071720"/>
            <a:ext cx="8229600" cy="37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  <a:ea typeface="Arial"/>
              </a:rPr>
              <a:t>Все наши дети очень разные: одни яркие, талантливые, другие не очень. Но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Arial"/>
              </a:rPr>
              <a:t>каждый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Arial"/>
              </a:rPr>
              <a:t>ребенок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Arial"/>
              </a:rPr>
              <a:t>должен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Arial"/>
              </a:rPr>
              <a:t>самореализоваться. 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едагогика сродни терапии: она всег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Должна возвращать ребенку его физическ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 психическое здоровь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о всегда ли нам это удает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5" descr="1019"/>
          <p:cNvPicPr/>
          <p:nvPr/>
        </p:nvPicPr>
        <p:blipFill>
          <a:blip r:embed="rId1"/>
          <a:stretch/>
        </p:blipFill>
        <p:spPr>
          <a:xfrm>
            <a:off x="0" y="4005360"/>
            <a:ext cx="2509920" cy="25653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7" descr="1001"/>
          <p:cNvPicPr/>
          <p:nvPr/>
        </p:nvPicPr>
        <p:blipFill>
          <a:blip r:embed="rId2"/>
          <a:stretch/>
        </p:blipFill>
        <p:spPr>
          <a:xfrm>
            <a:off x="6483240" y="2681280"/>
            <a:ext cx="26607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Таким образом, рождается идея создания индивидуальной образовательной программы работы со слабоуспевающими и неуспевающими учащимися.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4" descr="107"/>
          <p:cNvPicPr/>
          <p:nvPr/>
        </p:nvPicPr>
        <p:blipFill>
          <a:blip r:embed="rId1"/>
          <a:stretch/>
        </p:blipFill>
        <p:spPr>
          <a:xfrm>
            <a:off x="7613640" y="2571840"/>
            <a:ext cx="1530360" cy="40766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5" descr="1009"/>
          <p:cNvPicPr/>
          <p:nvPr/>
        </p:nvPicPr>
        <p:blipFill>
          <a:blip r:embed="rId2"/>
          <a:stretch/>
        </p:blipFill>
        <p:spPr>
          <a:xfrm>
            <a:off x="4143240" y="2714760"/>
            <a:ext cx="2768760" cy="39607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6" descr="1032"/>
          <p:cNvPicPr/>
          <p:nvPr/>
        </p:nvPicPr>
        <p:blipFill>
          <a:blip r:embed="rId3"/>
          <a:stretch/>
        </p:blipFill>
        <p:spPr>
          <a:xfrm>
            <a:off x="0" y="2786040"/>
            <a:ext cx="363852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48fba"/>
                </a:solidFill>
                <a:latin typeface="Cambria"/>
              </a:rPr>
              <a:t>Тема педсовет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Об эффективности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со слабоуспевающими учащими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Picture 8" descr="ucheb"/>
          <p:cNvPicPr/>
          <p:nvPr/>
        </p:nvPicPr>
        <p:blipFill>
          <a:blip r:embed="rId1"/>
          <a:stretch/>
        </p:blipFill>
        <p:spPr>
          <a:xfrm>
            <a:off x="-6480" y="5278320"/>
            <a:ext cx="9296640" cy="17258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36"/>
          <p:cNvPicPr/>
          <p:nvPr/>
        </p:nvPicPr>
        <p:blipFill>
          <a:blip r:embed="rId2"/>
          <a:stretch/>
        </p:blipFill>
        <p:spPr>
          <a:xfrm>
            <a:off x="7380360" y="0"/>
            <a:ext cx="1522440" cy="15397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59"/>
          <p:cNvPicPr/>
          <p:nvPr/>
        </p:nvPicPr>
        <p:blipFill>
          <a:blip r:embed="rId3"/>
          <a:stretch/>
        </p:blipFill>
        <p:spPr>
          <a:xfrm>
            <a:off x="3500280" y="3429000"/>
            <a:ext cx="27640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929800" cy="5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Деятельность учителя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97" name="Picture 8" descr="ucheb"/>
          <p:cNvPicPr/>
          <p:nvPr/>
        </p:nvPicPr>
        <p:blipFill>
          <a:blip r:embed="rId1"/>
          <a:stretch/>
        </p:blipFill>
        <p:spPr>
          <a:xfrm>
            <a:off x="-6480" y="5278320"/>
            <a:ext cx="9296640" cy="172584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1"/>
          <p:cNvSpPr/>
          <p:nvPr/>
        </p:nvSpPr>
        <p:spPr>
          <a:xfrm>
            <a:off x="285840" y="880920"/>
            <a:ext cx="85010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1. В начале учебного года проводить диагностику учащихся с целью выявления уровня обучаемост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2. Использовать на уроках различные виды опроса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3. Обязательно комментировать каждую оценку ученика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4. Учитель не должен опрашивать ученика или предлагать ему письменную работу в первый день занятий после болезни или отсутствия в школе по уважительной причине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5. Учитель для устранения пробелов в знаниях ученика по пропущенной теме должен определить время, за которое учащийся должен освоить указанную тему, и в случае затруднения проконсультировать его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8" descr="ucheb"/>
          <p:cNvPicPr/>
          <p:nvPr/>
        </p:nvPicPr>
        <p:blipFill>
          <a:blip r:embed="rId1"/>
          <a:stretch/>
        </p:blipFill>
        <p:spPr>
          <a:xfrm>
            <a:off x="-6480" y="5278320"/>
            <a:ext cx="9296640" cy="172584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1"/>
          <p:cNvSpPr/>
          <p:nvPr/>
        </p:nvSpPr>
        <p:spPr>
          <a:xfrm>
            <a:off x="500040" y="597600"/>
            <a:ext cx="8143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6. Учитель должен выставлять полученные учащимся       неудовлетворительные оценки в дневник с целью своевременного контроля со стороны родителей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7. Учитель обязан поставить в известность классного руководителя или непосредственно родителей ученика о снижении успеваемости учащегося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8. Учитель не должен снижать оценку учащемуся за плохое поведение на уроке, в этом случае он должен использовать другие методы воздействия на ученика (убеждение, беседа с психологом и социальным педагогом)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9. Учитель-предметник обязан выставлять четвертные оценки за неделю до конца четверт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18352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mbria"/>
              </a:rPr>
              <a:t>Пути достижения высокой успеваемости: </a:t>
            </a: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502" name="Picture 8" descr="ucheb"/>
          <p:cNvPicPr/>
          <p:nvPr/>
        </p:nvPicPr>
        <p:blipFill>
          <a:blip r:embed="rId1"/>
          <a:stretch/>
        </p:blipFill>
        <p:spPr>
          <a:xfrm>
            <a:off x="-6480" y="5138640"/>
            <a:ext cx="9296640" cy="172584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6"/>
          <p:cNvSpPr/>
          <p:nvPr/>
        </p:nvSpPr>
        <p:spPr>
          <a:xfrm>
            <a:off x="214200" y="1571760"/>
            <a:ext cx="86439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авильное раскрытие причин неуспеваемости и определение путей ее ликвидаци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высокое качество уроков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использование передовых методов в обучени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ьная помощь и  тесный контакт всех членов семьи с педагогическим коллективом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четко поставленный контроль за учебным процессом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13920" y="1643040"/>
            <a:ext cx="7572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рганизация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аботы со слабоуспевающими  неуспевающими учащимися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а уроке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506" name="Picture 4" descr="59"/>
          <p:cNvPicPr/>
          <p:nvPr/>
        </p:nvPicPr>
        <p:blipFill>
          <a:blip r:embed="rId1"/>
          <a:stretch/>
        </p:blipFill>
        <p:spPr>
          <a:xfrm>
            <a:off x="714240" y="142920"/>
            <a:ext cx="2764080" cy="2254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8" descr="ucheb"/>
          <p:cNvPicPr/>
          <p:nvPr/>
        </p:nvPicPr>
        <p:blipFill>
          <a:blip r:embed="rId1"/>
          <a:stretch/>
        </p:blipFill>
        <p:spPr>
          <a:xfrm>
            <a:off x="-6480" y="5278320"/>
            <a:ext cx="9296640" cy="172584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d2da7a"/>
                </a:solidFill>
                <a:latin typeface="Arial"/>
                <a:ea typeface="Arial"/>
              </a:rPr>
              <a:t> 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Любому профессиональному педагогу понятно, что выставление неудовлетворительной оценки, должно сопровождаться целой системой мер по её дальнейшему предотвращению. </a:t>
            </a: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848fba"/>
                </a:solidFill>
                <a:latin typeface="Cambria"/>
              </a:rPr>
              <a:t>     </a:t>
            </a:r>
            <a:br>
              <a:rPr sz="2900"/>
            </a:br>
            <a:r>
              <a:rPr b="0" lang="ru-RU" sz="2900" spc="-1" strike="noStrike">
                <a:solidFill>
                  <a:srgbClr val="848fba"/>
                </a:solidFill>
                <a:latin typeface="Cambria"/>
              </a:rPr>
              <a:t>                                                                                               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03280" y="5072040"/>
            <a:ext cx="8183520" cy="2858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1"/>
          <p:cNvPicPr/>
          <p:nvPr/>
        </p:nvPicPr>
        <p:blipFill>
          <a:blip r:embed="rId3"/>
          <a:stretch/>
        </p:blipFill>
        <p:spPr>
          <a:xfrm>
            <a:off x="6630840" y="3757680"/>
            <a:ext cx="251316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42600" y="1428840"/>
            <a:ext cx="7643880" cy="32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Нужно так организовать учебный процесс, жизнь учащихся в школе и в классе, чтобы вызвать и развить у учащихся внутреннюю мотивацию учебной деятельности, стойкий познавательный интерес к учению.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508" name="Picture 4" descr="59"/>
          <p:cNvPicPr/>
          <p:nvPr/>
        </p:nvPicPr>
        <p:blipFill>
          <a:blip r:embed="rId1"/>
          <a:stretch/>
        </p:blipFill>
        <p:spPr>
          <a:xfrm>
            <a:off x="2236680" y="1782720"/>
            <a:ext cx="4670640" cy="3809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4" descr="59"/>
          <p:cNvPicPr/>
          <p:nvPr/>
        </p:nvPicPr>
        <p:blipFill>
          <a:blip r:embed="rId1"/>
          <a:stretch/>
        </p:blipFill>
        <p:spPr>
          <a:xfrm>
            <a:off x="6380280" y="3500280"/>
            <a:ext cx="2763720" cy="225432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ак помочь слабоуспевающему ученику: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250920" y="928800"/>
            <a:ext cx="854064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Для закрепления необходимо более длительное время и больший объем решаемых зада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Учитель для себя и для ученика должен сформулировать минимум знаний и навыков, который должен усвоить учени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ак повысить работоспособнос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Разнообразить виды деятельн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роветривать кабине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роводить физминут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сегда надо помнить о соблюдении принципа необходимости и достаточн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Box 3"/>
          <p:cNvSpPr/>
          <p:nvPr/>
        </p:nvSpPr>
        <p:spPr>
          <a:xfrm>
            <a:off x="4429080" y="714240"/>
            <a:ext cx="3429000" cy="1373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арточки для индивидуальной работы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TextBox 5"/>
          <p:cNvSpPr/>
          <p:nvPr/>
        </p:nvSpPr>
        <p:spPr>
          <a:xfrm>
            <a:off x="214200" y="1928880"/>
            <a:ext cx="3500640" cy="861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Задания с выбором ответа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TextBox 6"/>
          <p:cNvSpPr/>
          <p:nvPr/>
        </p:nvSpPr>
        <p:spPr>
          <a:xfrm>
            <a:off x="428760" y="285840"/>
            <a:ext cx="3643200" cy="861480"/>
          </a:xfrm>
          <a:prstGeom prst="rect">
            <a:avLst/>
          </a:prstGeom>
          <a:noFill/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еформированные задания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5" name="TextBox 7"/>
          <p:cNvSpPr/>
          <p:nvPr/>
        </p:nvSpPr>
        <p:spPr>
          <a:xfrm>
            <a:off x="4714920" y="2786040"/>
            <a:ext cx="4071960" cy="94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арточки – тренажеры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785880" y="3857760"/>
            <a:ext cx="7500960" cy="2293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Творческие задания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иск различных способов решения задач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Составление кроссвордов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Сочинение математических сказок, игр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Составление задач по данному условию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Учитель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олжен: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285480" y="642600"/>
            <a:ext cx="864396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Знать психическое развитие ребён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3560" indent="-2235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Стремиться понять и принять каждого ребёнк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3560" indent="-2235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Создать спокойную обстановку и благоприятный психологический климат на уроке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3560" indent="-2235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Проявлять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356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- разумную требовательность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- неиссякаемое терпение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- справедливую строгость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- веру в возможности учени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3560" indent="-2235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Уметь встать на позиции ученик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3560" indent="-2235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Сказать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НЕТ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насмешливому тону!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3560" indent="-2235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Уметь вести непринуждённый диалог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3560" indent="-2235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Стремиться к внешней заниматель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3560" indent="-2235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Использовать средства невербального общения (опорные сигналы, рисунки, таблицы, схемы, план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3560" indent="-2235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Учить работать со словарями и другим справочным материал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3560" indent="-2235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56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Picture 4" descr="59"/>
          <p:cNvPicPr/>
          <p:nvPr/>
        </p:nvPicPr>
        <p:blipFill>
          <a:blip r:embed="rId1"/>
          <a:stretch/>
        </p:blipFill>
        <p:spPr>
          <a:xfrm>
            <a:off x="5929200" y="2357280"/>
            <a:ext cx="2764080" cy="2254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09" dur="2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читель должен: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7200" y="78588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обучении применя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опережающее обучение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различные формы групповой работы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взаимоопрос, самоконтроль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конспекты-блоки по разным темам, использование их на разных этапах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и формулировании целей урока включать как приоритетный коррекционно – развивающий аспек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ационально распределять учебный материал (трудное – сначала!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именять частую смену видов деятельности на урок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Многократно проговаривать и закреплять материал уро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емиться к алгоритмизации деяте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4" descr="59"/>
          <p:cNvPicPr/>
          <p:nvPr/>
        </p:nvPicPr>
        <p:blipFill>
          <a:blip r:embed="rId1"/>
          <a:stretch/>
        </p:blipFill>
        <p:spPr>
          <a:xfrm>
            <a:off x="6380280" y="214200"/>
            <a:ext cx="2763720" cy="2254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5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авила, разработанные психологами: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95280" y="857160"/>
            <a:ext cx="829152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е ставить слабого в ситуацию неожиданного вопроса и не требовать быстрого ответа на него, давать ученику достаточно времени на обдумывание и подготов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Желательно, чтобы ответ был не в устной, а в письменной форм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ельзя давать для усвоения в ограниченный промежуток времени большой, разнообразный, сложный материал, нужно постараться разбить его на отдельные информационные куски и давать их постепенно, по мере усво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е следует заставлять таких учеников отвечать на вопросы по новому, только что усвоенному материалу, лучше отложить опрос на следующий урок, дав возможность ученикам позаниматься до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250560" y="713880"/>
            <a:ext cx="87138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утём правильной тактики опросов и поощрений (не только оценкой, но и замечаниями типа «отлично», «молодец», «умница» и т. д.) нужно формировать у таких учеников уверенность в своих силах, в своих знаниях, в возможности учиться. Эта уверенность поможет ученику в экстремальных стрессовых ситуациях сдачи экзаменов, написания контрольных работ и т. 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720" indent="-522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Следует осторожнее оценивать неудачи ученика, ведь он сам очень болезненно к ним относи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720" indent="-522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о время подготовки учеником ответа нужно дать ему время для проверки и исправления написанн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720" indent="-522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Следует в минимальной степени отвлекать ученика, стараться не переключать его внимание, создавать спокойную, не нервозную обстанов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720" indent="-522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ифференцированный подход 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857160"/>
            <a:ext cx="8229600" cy="52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ри закреплен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ри проверке домашнего зада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ри самостоятельной рабо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оздать на уроке ситуацию успех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омочь сильному ученику реализовать свои возможности в более трудоемкой и сложной деятельност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лабому – выполнить посильный объем рабо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бучение в сотрудничестве 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озволяет отстающим ученикам чувствовать себя полноправными членами команды и стимулирует желание учить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оектное обу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етод проектов рассматривается как спосо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актуализации и стимулиро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ознавательной деятельности учащих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азнообразные формы и жанры урока 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143000" y="1219320"/>
            <a:ext cx="72151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-иг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-спектак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-путешеств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-детекти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-сказ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-конце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-карт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лиц уроки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Picture 4" descr="59"/>
          <p:cNvPicPr/>
          <p:nvPr/>
        </p:nvPicPr>
        <p:blipFill>
          <a:blip r:embed="rId1"/>
          <a:stretch/>
        </p:blipFill>
        <p:spPr>
          <a:xfrm>
            <a:off x="5786280" y="2428920"/>
            <a:ext cx="27640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07560" y="439560"/>
            <a:ext cx="7696440" cy="4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Система работы со слабоуспевающими учащимися</a:t>
            </a:r>
            <a:endParaRPr b="0" lang="en-US" sz="25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2116080" y="1060560"/>
            <a:ext cx="4900680" cy="334800"/>
          </a:xfrm>
          <a:prstGeom prst="rect">
            <a:avLst/>
          </a:prstGeom>
          <a:solidFill>
            <a:srgbClr val="d9f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явление слабоуспевающих учащихся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2114640" y="1627200"/>
            <a:ext cx="4900680" cy="334800"/>
          </a:xfrm>
          <a:prstGeom prst="rect">
            <a:avLst/>
          </a:prstGeom>
          <a:solidFill>
            <a:srgbClr val="d9f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учение причин неуспеваемости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2114640" y="2163600"/>
            <a:ext cx="4900680" cy="335160"/>
          </a:xfrm>
          <a:prstGeom prst="rect">
            <a:avLst/>
          </a:prstGeom>
          <a:solidFill>
            <a:srgbClr val="d9f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авление работы с неуспевающими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241200" y="2746440"/>
            <a:ext cx="1370160" cy="915840"/>
          </a:xfrm>
          <a:prstGeom prst="rect">
            <a:avLst/>
          </a:prstGeom>
          <a:solidFill>
            <a:srgbClr val="d9f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т индивиду-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ьных особен-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стей личности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1711440" y="2746440"/>
            <a:ext cx="1198440" cy="915840"/>
          </a:xfrm>
          <a:prstGeom prst="rect">
            <a:avLst/>
          </a:prstGeom>
          <a:solidFill>
            <a:srgbClr val="d9f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т социаль-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ых условий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3016080" y="2746440"/>
            <a:ext cx="1503360" cy="901800"/>
          </a:xfrm>
          <a:prstGeom prst="rect">
            <a:avLst/>
          </a:prstGeom>
          <a:solidFill>
            <a:srgbClr val="d9f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т возрастных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бенностей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4613400" y="2730600"/>
            <a:ext cx="1373040" cy="919080"/>
          </a:xfrm>
          <a:prstGeom prst="rect">
            <a:avLst/>
          </a:prstGeom>
          <a:solidFill>
            <a:srgbClr val="d9f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т состояния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доровья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6040440" y="2744640"/>
            <a:ext cx="1387440" cy="901800"/>
          </a:xfrm>
          <a:prstGeom prst="rect">
            <a:avLst/>
          </a:prstGeom>
          <a:solidFill>
            <a:srgbClr val="d9f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т сформиро-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нности общих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пециальных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ловий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7527960" y="2751120"/>
            <a:ext cx="1387440" cy="901800"/>
          </a:xfrm>
          <a:prstGeom prst="rect">
            <a:avLst/>
          </a:prstGeom>
          <a:solidFill>
            <a:srgbClr val="d9f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т сформиро-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нности общих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пециальных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ловий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2136600" y="4087800"/>
            <a:ext cx="4900680" cy="334800"/>
          </a:xfrm>
          <a:prstGeom prst="rect">
            <a:avLst/>
          </a:prstGeom>
          <a:solidFill>
            <a:srgbClr val="d9f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ирование и развитие учебных навыков учащихся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Rectangle 15"/>
          <p:cNvSpPr/>
          <p:nvPr/>
        </p:nvSpPr>
        <p:spPr>
          <a:xfrm>
            <a:off x="247680" y="4741920"/>
            <a:ext cx="1370160" cy="695160"/>
          </a:xfrm>
          <a:prstGeom prst="rect">
            <a:avLst/>
          </a:prstGeom>
          <a:solidFill>
            <a:srgbClr val="d9f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рекционная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1717560" y="4741920"/>
            <a:ext cx="1198800" cy="695160"/>
          </a:xfrm>
          <a:prstGeom prst="rect">
            <a:avLst/>
          </a:prstGeom>
          <a:solidFill>
            <a:srgbClr val="d9f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дивидуаль-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я работ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Rectangle 17"/>
          <p:cNvSpPr/>
          <p:nvPr/>
        </p:nvSpPr>
        <p:spPr>
          <a:xfrm>
            <a:off x="3022560" y="4741920"/>
            <a:ext cx="1503360" cy="684000"/>
          </a:xfrm>
          <a:prstGeom prst="rect">
            <a:avLst/>
          </a:prstGeom>
          <a:solidFill>
            <a:srgbClr val="d9f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фференци-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ванная работ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6" name="Rectangle 18"/>
          <p:cNvSpPr/>
          <p:nvPr/>
        </p:nvSpPr>
        <p:spPr>
          <a:xfrm>
            <a:off x="4619520" y="4726080"/>
            <a:ext cx="1373400" cy="696960"/>
          </a:xfrm>
          <a:prstGeom prst="rect">
            <a:avLst/>
          </a:prstGeom>
          <a:solidFill>
            <a:srgbClr val="d9f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олнитель-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ые занятия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Rectangle 19"/>
          <p:cNvSpPr/>
          <p:nvPr/>
        </p:nvSpPr>
        <p:spPr>
          <a:xfrm>
            <a:off x="6046920" y="4740120"/>
            <a:ext cx="1387440" cy="684360"/>
          </a:xfrm>
          <a:prstGeom prst="rect">
            <a:avLst/>
          </a:prstGeom>
          <a:solidFill>
            <a:srgbClr val="d9f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влечение в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кции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культативы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" name="Rectangle 20"/>
          <p:cNvSpPr/>
          <p:nvPr/>
        </p:nvSpPr>
        <p:spPr>
          <a:xfrm>
            <a:off x="7534440" y="4746600"/>
            <a:ext cx="1387440" cy="684360"/>
          </a:xfrm>
          <a:prstGeom prst="rect">
            <a:avLst/>
          </a:prstGeom>
          <a:solidFill>
            <a:srgbClr val="d9f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та с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ителями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Rectangle 21"/>
          <p:cNvSpPr/>
          <p:nvPr/>
        </p:nvSpPr>
        <p:spPr>
          <a:xfrm>
            <a:off x="2187720" y="5835600"/>
            <a:ext cx="4900320" cy="335160"/>
          </a:xfrm>
          <a:prstGeom prst="rect">
            <a:avLst/>
          </a:prstGeom>
          <a:solidFill>
            <a:srgbClr val="d9f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е стандарта образования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Line 22"/>
          <p:cNvSpPr/>
          <p:nvPr/>
        </p:nvSpPr>
        <p:spPr>
          <a:xfrm>
            <a:off x="4529160" y="140796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Line 23"/>
          <p:cNvSpPr/>
          <p:nvPr/>
        </p:nvSpPr>
        <p:spPr>
          <a:xfrm>
            <a:off x="4551480" y="19670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2" name="Line 24"/>
          <p:cNvSpPr/>
          <p:nvPr/>
        </p:nvSpPr>
        <p:spPr>
          <a:xfrm>
            <a:off x="966960" y="36511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3" name="Line 25"/>
          <p:cNvSpPr/>
          <p:nvPr/>
        </p:nvSpPr>
        <p:spPr>
          <a:xfrm>
            <a:off x="2324160" y="365904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Line 26"/>
          <p:cNvSpPr/>
          <p:nvPr/>
        </p:nvSpPr>
        <p:spPr>
          <a:xfrm>
            <a:off x="3760920" y="364500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Line 27"/>
          <p:cNvSpPr/>
          <p:nvPr/>
        </p:nvSpPr>
        <p:spPr>
          <a:xfrm>
            <a:off x="5329080" y="36464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Line 28"/>
          <p:cNvSpPr/>
          <p:nvPr/>
        </p:nvSpPr>
        <p:spPr>
          <a:xfrm>
            <a:off x="6765840" y="365904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7" name="Line 29"/>
          <p:cNvSpPr/>
          <p:nvPr/>
        </p:nvSpPr>
        <p:spPr>
          <a:xfrm>
            <a:off x="8231040" y="36734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Line 30"/>
          <p:cNvSpPr/>
          <p:nvPr/>
        </p:nvSpPr>
        <p:spPr>
          <a:xfrm>
            <a:off x="4587840" y="38638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Line 31"/>
          <p:cNvSpPr/>
          <p:nvPr/>
        </p:nvSpPr>
        <p:spPr>
          <a:xfrm>
            <a:off x="973080" y="3860640"/>
            <a:ext cx="727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Line 32"/>
          <p:cNvSpPr/>
          <p:nvPr/>
        </p:nvSpPr>
        <p:spPr>
          <a:xfrm flipH="1">
            <a:off x="1015560" y="2525760"/>
            <a:ext cx="348300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1" name="Line 33"/>
          <p:cNvSpPr/>
          <p:nvPr/>
        </p:nvSpPr>
        <p:spPr>
          <a:xfrm flipH="1">
            <a:off x="2626920" y="2554200"/>
            <a:ext cx="177012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2" name="Line 34"/>
          <p:cNvSpPr/>
          <p:nvPr/>
        </p:nvSpPr>
        <p:spPr>
          <a:xfrm flipH="1">
            <a:off x="3903840" y="2583000"/>
            <a:ext cx="582480" cy="11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Line 35"/>
          <p:cNvSpPr/>
          <p:nvPr/>
        </p:nvSpPr>
        <p:spPr>
          <a:xfrm>
            <a:off x="4586400" y="2583000"/>
            <a:ext cx="552240" cy="13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Line 36"/>
          <p:cNvSpPr/>
          <p:nvPr/>
        </p:nvSpPr>
        <p:spPr>
          <a:xfrm>
            <a:off x="4586400" y="2541600"/>
            <a:ext cx="204624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5" name="Line 37"/>
          <p:cNvSpPr/>
          <p:nvPr/>
        </p:nvSpPr>
        <p:spPr>
          <a:xfrm>
            <a:off x="4586400" y="2496960"/>
            <a:ext cx="365760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Line 38"/>
          <p:cNvSpPr/>
          <p:nvPr/>
        </p:nvSpPr>
        <p:spPr>
          <a:xfrm flipH="1">
            <a:off x="1007640" y="4492800"/>
            <a:ext cx="3483000" cy="15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Line 39"/>
          <p:cNvSpPr/>
          <p:nvPr/>
        </p:nvSpPr>
        <p:spPr>
          <a:xfrm flipH="1">
            <a:off x="2619000" y="4521240"/>
            <a:ext cx="177012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Line 40"/>
          <p:cNvSpPr/>
          <p:nvPr/>
        </p:nvSpPr>
        <p:spPr>
          <a:xfrm flipH="1">
            <a:off x="3895200" y="4549680"/>
            <a:ext cx="582840" cy="11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9" name="Line 41"/>
          <p:cNvSpPr/>
          <p:nvPr/>
        </p:nvSpPr>
        <p:spPr>
          <a:xfrm>
            <a:off x="4578480" y="4549680"/>
            <a:ext cx="552240" cy="13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0" name="Line 42"/>
          <p:cNvSpPr/>
          <p:nvPr/>
        </p:nvSpPr>
        <p:spPr>
          <a:xfrm>
            <a:off x="4578480" y="4508640"/>
            <a:ext cx="204624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Line 43"/>
          <p:cNvSpPr/>
          <p:nvPr/>
        </p:nvSpPr>
        <p:spPr>
          <a:xfrm>
            <a:off x="4578480" y="4464000"/>
            <a:ext cx="36576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Line 44"/>
          <p:cNvSpPr/>
          <p:nvPr/>
        </p:nvSpPr>
        <p:spPr>
          <a:xfrm>
            <a:off x="957240" y="5457960"/>
            <a:ext cx="3470400" cy="3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3" name="Line 45"/>
          <p:cNvSpPr/>
          <p:nvPr/>
        </p:nvSpPr>
        <p:spPr>
          <a:xfrm>
            <a:off x="2409840" y="5443560"/>
            <a:ext cx="208908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Line 46"/>
          <p:cNvSpPr/>
          <p:nvPr/>
        </p:nvSpPr>
        <p:spPr>
          <a:xfrm>
            <a:off x="3860640" y="5457960"/>
            <a:ext cx="725760" cy="20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5" name="Line 47"/>
          <p:cNvSpPr/>
          <p:nvPr/>
        </p:nvSpPr>
        <p:spPr>
          <a:xfrm flipH="1">
            <a:off x="4674960" y="5459400"/>
            <a:ext cx="8125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Line 48"/>
          <p:cNvSpPr/>
          <p:nvPr/>
        </p:nvSpPr>
        <p:spPr>
          <a:xfrm flipH="1">
            <a:off x="4761000" y="5443560"/>
            <a:ext cx="196056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7" name="Line 49"/>
          <p:cNvSpPr/>
          <p:nvPr/>
        </p:nvSpPr>
        <p:spPr>
          <a:xfrm flipH="1">
            <a:off x="4817880" y="5443560"/>
            <a:ext cx="3498840" cy="3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mbria"/>
              </a:rPr>
              <a:t>Технология “полного усвоения”</a:t>
            </a:r>
            <a:r>
              <a:rPr b="0" lang="ru-RU" sz="4000" spc="-1" strike="noStrike">
                <a:solidFill>
                  <a:srgbClr val="464653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534" name="Picture 6" descr="C:\Documents and Settings\Administrator\Desktop\технология полного усвоения.files\img2.jpg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79280" y="198360"/>
          <a:ext cx="8964720" cy="6675480"/>
        </p:xfrm>
        <a:graphic>
          <a:graphicData uri="http://schemas.openxmlformats.org/drawingml/2006/table">
            <a:tbl>
              <a:tblPr/>
              <a:tblGrid>
                <a:gridCol w="6185160"/>
                <a:gridCol w="27795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Этапы освоения изучаемо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атери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рганизационно-педагогическая направл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. Изучение нового материа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Индивидуализация учебного процесс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. Диагностическое тестирова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Проверка базового уровн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. Уроки коррекции и развития.</a:t>
                      </a:r>
                      <a:r>
                        <a:rPr b="0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ррекция: повторение (на качественно новом уровне) —&gt; закрепление —&gt; повторная диагностическая рабо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звитие: повторный уровень —&gt; углубленный уровен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Дифференциация учебного процесс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4. Итоговый контроль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язательный уровень —&gt; продвинутый уровень —&gt; углубленный уровен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Проверка результатов обуч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7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comic"/>
              </a:rPr>
              <a:t>В процессе обучения возникает проблема: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999800"/>
            <a:ext cx="82296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Calibri"/>
              </a:rPr>
              <a:t>Как быть с родителями таких учащихс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Picture 4" descr="59"/>
          <p:cNvPicPr/>
          <p:nvPr/>
        </p:nvPicPr>
        <p:blipFill>
          <a:blip r:embed="rId1"/>
          <a:stretch/>
        </p:blipFill>
        <p:spPr>
          <a:xfrm>
            <a:off x="4067280" y="3357720"/>
            <a:ext cx="2763720" cy="22539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" descr="61"/>
          <p:cNvPicPr/>
          <p:nvPr/>
        </p:nvPicPr>
        <p:blipFill>
          <a:blip r:embed="rId2"/>
          <a:stretch/>
        </p:blipFill>
        <p:spPr>
          <a:xfrm>
            <a:off x="0" y="3214800"/>
            <a:ext cx="4427640" cy="3643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6" descr="1126"/>
          <p:cNvPicPr/>
          <p:nvPr/>
        </p:nvPicPr>
        <p:blipFill>
          <a:blip r:embed="rId3"/>
          <a:stretch/>
        </p:blipFill>
        <p:spPr>
          <a:xfrm>
            <a:off x="6364440" y="2521080"/>
            <a:ext cx="277956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55640" y="499680"/>
            <a:ext cx="7772400" cy="389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0000"/>
                </a:solidFill>
                <a:latin typeface="Century Schoolbook"/>
              </a:rPr>
              <a:t>Организация работы с родителями слабоуспевающих и неуспевающих учащихся.</a:t>
            </a:r>
            <a:endParaRPr b="0" lang="en-US" sz="4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544" name="Picture 4" descr="8"/>
          <p:cNvPicPr/>
          <p:nvPr/>
        </p:nvPicPr>
        <p:blipFill>
          <a:blip r:embed="rId1"/>
          <a:stretch/>
        </p:blipFill>
        <p:spPr>
          <a:xfrm rot="19318800">
            <a:off x="0" y="3715920"/>
            <a:ext cx="3960720" cy="25336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6" descr="1109"/>
          <p:cNvPicPr/>
          <p:nvPr/>
        </p:nvPicPr>
        <p:blipFill>
          <a:blip r:embed="rId2"/>
          <a:stretch/>
        </p:blipFill>
        <p:spPr>
          <a:xfrm>
            <a:off x="3924360" y="4508640"/>
            <a:ext cx="2004840" cy="21650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1110"/>
          <p:cNvPicPr/>
          <p:nvPr/>
        </p:nvPicPr>
        <p:blipFill>
          <a:blip r:embed="rId3"/>
          <a:stretch/>
        </p:blipFill>
        <p:spPr>
          <a:xfrm>
            <a:off x="6427800" y="2781360"/>
            <a:ext cx="2716200" cy="39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абота с родителям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8" name="Text Box 13"/>
          <p:cNvSpPr/>
          <p:nvPr/>
        </p:nvSpPr>
        <p:spPr>
          <a:xfrm>
            <a:off x="701640" y="1322280"/>
            <a:ext cx="79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Цель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оздание условий для развития личностного потенциала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учащихся в условиях взаимодействия школы, семьи, внешнего социума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425520" y="2265480"/>
            <a:ext cx="814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дачи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2667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оздать коллектив единомышленников, сделать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учащихся, учителей, родителей соучастниками образовательного и  воспит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2667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рганизовать разнообразную, увлекательную, социально-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значимую совместную деятельность учащихся и родителей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2667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рганизовать всеобуч для родителей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Text Box 16"/>
          <p:cNvSpPr/>
          <p:nvPr/>
        </p:nvSpPr>
        <p:spPr>
          <a:xfrm>
            <a:off x="469800" y="4700520"/>
            <a:ext cx="830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жидаемые результаты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установление диалога и взаимовыгодного сотрудничества между школой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 родителями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формирование у учащихся любви, долга к родителям, близким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ешение проблемы занятости учащихся в свободное от уроков время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9F97-539A-4A4B-87EC-45A16F8678A3}" type="slidenum">
              <a:rPr b="0" lang="ru-RU" sz="1400" spc="-1" strike="noStrike">
                <a:solidFill>
                  <a:srgbClr val="464653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ередко от родителей можно услышать: «Не сделаешь домашнее задание – не пойдешь к друзьям», «Закончишь обучение с тройками – не поедешь на море»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Мы настолько привыкли к примитивной поведенческой схеме «стимул-реакция», что не можем представить себе другой способ мотивирования детей, стимулирования их работы, творчества, достижен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И, в результате,получаем личность, которая не интересуется ничем, кром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ознаграждения  за свои усилия и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испытывает потреб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 постоянном контроле со стороны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Picture 5" descr="E:\Катя\фото универ\71127282_1---.jpg"/>
          <p:cNvPicPr/>
          <p:nvPr/>
        </p:nvPicPr>
        <p:blipFill>
          <a:blip r:embed="rId1"/>
          <a:stretch/>
        </p:blipFill>
        <p:spPr>
          <a:xfrm>
            <a:off x="6643800" y="4500720"/>
            <a:ext cx="214308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91440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Формы организации работы с родителями слабоуспевающих и неуспевающими учащихс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Picture 4" descr="46"/>
          <p:cNvPicPr/>
          <p:nvPr/>
        </p:nvPicPr>
        <p:blipFill>
          <a:blip r:embed="rId1"/>
          <a:stretch/>
        </p:blipFill>
        <p:spPr>
          <a:xfrm>
            <a:off x="571680" y="3429000"/>
            <a:ext cx="61434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56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С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амой распространенной формы работы с такими родителями является индивидуальная беседа.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28760" y="1714320"/>
            <a:ext cx="822960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Организация  индивидуальной бесед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родителей и учителя в присутствии уче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4" descr="1"/>
          <p:cNvPicPr/>
          <p:nvPr/>
        </p:nvPicPr>
        <p:blipFill>
          <a:blip r:embed="rId1"/>
          <a:stretch/>
        </p:blipFill>
        <p:spPr>
          <a:xfrm>
            <a:off x="1214280" y="2857680"/>
            <a:ext cx="2860920" cy="35287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5" descr="102"/>
          <p:cNvPicPr/>
          <p:nvPr/>
        </p:nvPicPr>
        <p:blipFill>
          <a:blip r:embed="rId2"/>
          <a:stretch/>
        </p:blipFill>
        <p:spPr>
          <a:xfrm>
            <a:off x="714240" y="2857680"/>
            <a:ext cx="1316160" cy="32209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6" descr="1060"/>
          <p:cNvPicPr/>
          <p:nvPr/>
        </p:nvPicPr>
        <p:blipFill>
          <a:blip r:embed="rId3"/>
          <a:stretch/>
        </p:blipFill>
        <p:spPr>
          <a:xfrm>
            <a:off x="4071960" y="4286160"/>
            <a:ext cx="273528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7" descr="14"/>
          <p:cNvPicPr/>
          <p:nvPr/>
        </p:nvPicPr>
        <p:blipFill>
          <a:blip r:embed="rId1"/>
          <a:stretch/>
        </p:blipFill>
        <p:spPr>
          <a:xfrm>
            <a:off x="142920" y="0"/>
            <a:ext cx="2087640" cy="16812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1086"/>
          <p:cNvPicPr/>
          <p:nvPr/>
        </p:nvPicPr>
        <p:blipFill>
          <a:blip r:embed="rId2"/>
          <a:stretch/>
        </p:blipFill>
        <p:spPr>
          <a:xfrm rot="873600">
            <a:off x="6372360" y="2487240"/>
            <a:ext cx="2590560" cy="32860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6" descr="185"/>
          <p:cNvPicPr/>
          <p:nvPr/>
        </p:nvPicPr>
        <p:blipFill>
          <a:blip r:embed="rId3"/>
          <a:stretch/>
        </p:blipFill>
        <p:spPr>
          <a:xfrm rot="20682600">
            <a:off x="60120" y="3554280"/>
            <a:ext cx="2728800" cy="299736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 txBox="1"/>
          <p:nvPr/>
        </p:nvSpPr>
        <p:spPr>
          <a:xfrm>
            <a:off x="1500120" y="642600"/>
            <a:ext cx="614376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Выполнение индивидуальных заданий во внеурочное время по учебным пособиям, карточкам, где учитываются дифференцированные задания для создания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итуации успех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7" descr="14"/>
          <p:cNvPicPr/>
          <p:nvPr/>
        </p:nvPicPr>
        <p:blipFill>
          <a:blip r:embed="rId4"/>
          <a:stretch/>
        </p:blipFill>
        <p:spPr>
          <a:xfrm>
            <a:off x="142920" y="0"/>
            <a:ext cx="208764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76197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одительское собрание 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071960" y="1500120"/>
            <a:ext cx="4929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Tahoma"/>
              </a:rPr>
              <a:t>Подкрепляется методическими рекомендациями                     и практикумо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Tahoma"/>
              </a:rPr>
              <a:t>Рекомендация методической           литературы  по  отдельным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Tahoma"/>
              </a:rPr>
              <a:t>   </a:t>
            </a:r>
            <a:r>
              <a:rPr b="0" i="1" lang="ru-RU" sz="2600" spc="-1" strike="noStrike">
                <a:solidFill>
                  <a:srgbClr val="002060"/>
                </a:solidFill>
                <a:latin typeface="Tahoma"/>
              </a:rPr>
              <a:t>предмета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4" descr="36"/>
          <p:cNvPicPr/>
          <p:nvPr/>
        </p:nvPicPr>
        <p:blipFill>
          <a:blip r:embed="rId1"/>
          <a:stretch/>
        </p:blipFill>
        <p:spPr>
          <a:xfrm>
            <a:off x="7380360" y="0"/>
            <a:ext cx="1522440" cy="15397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82"/>
          <p:cNvPicPr/>
          <p:nvPr/>
        </p:nvPicPr>
        <p:blipFill>
          <a:blip r:embed="rId2"/>
          <a:stretch/>
        </p:blipFill>
        <p:spPr>
          <a:xfrm>
            <a:off x="2857680" y="2857680"/>
            <a:ext cx="1753920" cy="27097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70"/>
          <p:cNvPicPr/>
          <p:nvPr/>
        </p:nvPicPr>
        <p:blipFill>
          <a:blip r:embed="rId3"/>
          <a:stretch/>
        </p:blipFill>
        <p:spPr>
          <a:xfrm>
            <a:off x="6643800" y="4071960"/>
            <a:ext cx="1279440" cy="19890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1085"/>
          <p:cNvPicPr/>
          <p:nvPr/>
        </p:nvPicPr>
        <p:blipFill>
          <a:blip r:embed="rId4"/>
          <a:stretch/>
        </p:blipFill>
        <p:spPr>
          <a:xfrm>
            <a:off x="0" y="1143000"/>
            <a:ext cx="34732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Основными признаками неуспешности учащихся можно считать: 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9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4327-774A-42D2-963E-BE1B01CD778A}" type="slidenum">
              <a:rPr b="0" lang="ru-RU" sz="1400" spc="-1" strike="noStrike">
                <a:solidFill>
                  <a:srgbClr val="464653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00040" y="17856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едостаточное семейное воспит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робелы в фактических знани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едостаточный уровень 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Calibri"/>
              </a:rPr>
              <a:t>развития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и воспитанности личностных качеств, не позволяющий ученику проявлять самостоятельность, целеустремленность, настойчивос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рганизованность  и другие свойства, необходимые для успешного уч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457200" y="571680"/>
            <a:ext cx="8229600" cy="55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Каждый из нас может привести примеры из своей личной жизни, педагогической практики, или просто из истории, когда, например, “из-за полной бездарности” был исключен из школы Эдисон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знаменитый химик Либич, в 14 лет по неспособност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оставил школу, а 21 год стал профессоро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4" descr="1017"/>
          <p:cNvPicPr/>
          <p:nvPr/>
        </p:nvPicPr>
        <p:blipFill>
          <a:blip r:embed="rId1"/>
          <a:stretch/>
        </p:blipFill>
        <p:spPr>
          <a:xfrm>
            <a:off x="6550200" y="3141720"/>
            <a:ext cx="25938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еуспевающий  школьник – фигура легендарная и в жизни, и педагогике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75" name="Номер слайда 2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2B6C-D184-4EA5-980E-D31D9CCDA467}" type="slidenum">
              <a:rPr b="0" lang="ru-RU" sz="1400" spc="-1" strike="noStrike">
                <a:solidFill>
                  <a:srgbClr val="464653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1495080" cy="1866960"/>
          </a:xfrm>
          <a:prstGeom prst="rect">
            <a:avLst/>
          </a:prstGeom>
          <a:ln w="0">
            <a:noFill/>
          </a:ln>
        </p:spPr>
      </p:pic>
      <p:sp>
        <p:nvSpPr>
          <p:cNvPr id="577" name="TextBox 3"/>
          <p:cNvSpPr/>
          <p:nvPr/>
        </p:nvSpPr>
        <p:spPr>
          <a:xfrm>
            <a:off x="357120" y="3429000"/>
            <a:ext cx="16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саак Ньютон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2"/>
          <a:stretch/>
        </p:blipFill>
        <p:spPr>
          <a:xfrm>
            <a:off x="2571840" y="1428840"/>
            <a:ext cx="2146320" cy="17859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5"/>
          <p:cNvSpPr/>
          <p:nvPr/>
        </p:nvSpPr>
        <p:spPr>
          <a:xfrm>
            <a:off x="2571840" y="3429000"/>
            <a:ext cx="200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Чарльз Дарвин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3"/>
          <a:stretch/>
        </p:blipFill>
        <p:spPr>
          <a:xfrm>
            <a:off x="5429160" y="1428840"/>
            <a:ext cx="1243080" cy="1785960"/>
          </a:xfrm>
          <a:prstGeom prst="rect">
            <a:avLst/>
          </a:prstGeom>
          <a:ln w="0">
            <a:noFill/>
          </a:ln>
        </p:spPr>
      </p:pic>
      <p:sp>
        <p:nvSpPr>
          <p:cNvPr id="581" name="TextBox 7"/>
          <p:cNvSpPr/>
          <p:nvPr/>
        </p:nvSpPr>
        <p:spPr>
          <a:xfrm>
            <a:off x="5072040" y="3500280"/>
            <a:ext cx="171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альтер Скотт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2" name="Picture 5" descr=""/>
          <p:cNvPicPr/>
          <p:nvPr/>
        </p:nvPicPr>
        <p:blipFill>
          <a:blip r:embed="rId4"/>
          <a:stretch/>
        </p:blipFill>
        <p:spPr>
          <a:xfrm>
            <a:off x="7286760" y="1357200"/>
            <a:ext cx="1376280" cy="1833840"/>
          </a:xfrm>
          <a:prstGeom prst="rect">
            <a:avLst/>
          </a:prstGeom>
          <a:ln w="0">
            <a:noFill/>
          </a:ln>
        </p:spPr>
      </p:pic>
      <p:sp>
        <p:nvSpPr>
          <p:cNvPr id="583" name="TextBox 9"/>
          <p:cNvSpPr/>
          <p:nvPr/>
        </p:nvSpPr>
        <p:spPr>
          <a:xfrm>
            <a:off x="7286760" y="3429000"/>
            <a:ext cx="15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арл Линней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4" name="Picture 6" descr=""/>
          <p:cNvPicPr/>
          <p:nvPr/>
        </p:nvPicPr>
        <p:blipFill>
          <a:blip r:embed="rId5"/>
          <a:stretch/>
        </p:blipFill>
        <p:spPr>
          <a:xfrm>
            <a:off x="428760" y="4143240"/>
            <a:ext cx="1571400" cy="1532160"/>
          </a:xfrm>
          <a:prstGeom prst="rect">
            <a:avLst/>
          </a:prstGeom>
          <a:ln w="0">
            <a:noFill/>
          </a:ln>
        </p:spPr>
      </p:pic>
      <p:sp>
        <p:nvSpPr>
          <p:cNvPr id="585" name="TextBox 11"/>
          <p:cNvSpPr/>
          <p:nvPr/>
        </p:nvSpPr>
        <p:spPr>
          <a:xfrm>
            <a:off x="142920" y="585792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Альберт Энштейн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6" name="Picture 2" descr=""/>
          <p:cNvPicPr/>
          <p:nvPr/>
        </p:nvPicPr>
        <p:blipFill>
          <a:blip r:embed="rId6"/>
          <a:stretch/>
        </p:blipFill>
        <p:spPr>
          <a:xfrm>
            <a:off x="2428920" y="4143240"/>
            <a:ext cx="1285920" cy="1727280"/>
          </a:xfrm>
          <a:prstGeom prst="rect">
            <a:avLst/>
          </a:prstGeom>
          <a:ln w="0">
            <a:noFill/>
          </a:ln>
        </p:spPr>
      </p:pic>
      <p:sp>
        <p:nvSpPr>
          <p:cNvPr id="587" name="TextBox 13"/>
          <p:cNvSpPr/>
          <p:nvPr/>
        </p:nvSpPr>
        <p:spPr>
          <a:xfrm>
            <a:off x="2143080" y="5857920"/>
            <a:ext cx="171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Уильям Шекспир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7"/>
          <a:stretch/>
        </p:blipFill>
        <p:spPr>
          <a:xfrm>
            <a:off x="4071960" y="4214880"/>
            <a:ext cx="1170000" cy="1428840"/>
          </a:xfrm>
          <a:prstGeom prst="rect">
            <a:avLst/>
          </a:prstGeom>
          <a:ln w="0">
            <a:noFill/>
          </a:ln>
        </p:spPr>
      </p:pic>
      <p:sp>
        <p:nvSpPr>
          <p:cNvPr id="589" name="TextBox 16"/>
          <p:cNvSpPr/>
          <p:nvPr/>
        </p:nvSpPr>
        <p:spPr>
          <a:xfrm>
            <a:off x="3929040" y="5715000"/>
            <a:ext cx="142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Джордж Гордон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Байрон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0" name="Picture 5" descr=""/>
          <p:cNvPicPr/>
          <p:nvPr/>
        </p:nvPicPr>
        <p:blipFill>
          <a:blip r:embed="rId8"/>
          <a:stretch/>
        </p:blipFill>
        <p:spPr>
          <a:xfrm>
            <a:off x="5786280" y="4214880"/>
            <a:ext cx="1214640" cy="1469880"/>
          </a:xfrm>
          <a:prstGeom prst="rect">
            <a:avLst/>
          </a:prstGeom>
          <a:ln w="0">
            <a:noFill/>
          </a:ln>
        </p:spPr>
      </p:pic>
      <p:sp>
        <p:nvSpPr>
          <p:cNvPr id="591" name="TextBox 18"/>
          <p:cNvSpPr/>
          <p:nvPr/>
        </p:nvSpPr>
        <p:spPr>
          <a:xfrm>
            <a:off x="5572080" y="5786280"/>
            <a:ext cx="15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иколай Гоголь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2" name="Picture 6" descr=""/>
          <p:cNvPicPr/>
          <p:nvPr/>
        </p:nvPicPr>
        <p:blipFill>
          <a:blip r:embed="rId9"/>
          <a:stretch/>
        </p:blipFill>
        <p:spPr>
          <a:xfrm>
            <a:off x="7358040" y="4071960"/>
            <a:ext cx="1285920" cy="1549440"/>
          </a:xfrm>
          <a:prstGeom prst="rect">
            <a:avLst/>
          </a:prstGeom>
          <a:ln w="0">
            <a:noFill/>
          </a:ln>
        </p:spPr>
      </p:pic>
      <p:sp>
        <p:nvSpPr>
          <p:cNvPr id="593" name="TextBox 20"/>
          <p:cNvSpPr/>
          <p:nvPr/>
        </p:nvSpPr>
        <p:spPr>
          <a:xfrm>
            <a:off x="7286760" y="564372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Александр Пушкин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иглашение родителей  на уроки с целью: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56760" y="1857240"/>
            <a:ext cx="5410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66"/>
                </a:solidFill>
                <a:latin typeface="Times New Rom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Определи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интеллектуальн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уровень ребёнка на фо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классного коллекти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4" descr="40"/>
          <p:cNvPicPr/>
          <p:nvPr/>
        </p:nvPicPr>
        <p:blipFill>
          <a:blip r:embed="rId1"/>
          <a:stretch/>
        </p:blipFill>
        <p:spPr>
          <a:xfrm>
            <a:off x="5700600" y="1557360"/>
            <a:ext cx="34434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Создание коррекционных тетрадей.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68360" y="126828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Обмен информацией между учителем и родителями об итогах практических заданий, на определённом этапе обуч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Совместное выполнение произвольных заданий по предметам родителя и учен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Создание Папки -  Копилки, где накапливаются задания  для развития логического мышления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(задачи на смекалку, кроссворды, ребусы, перевёртыши, каверзные вопросы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4" descr="29"/>
          <p:cNvPicPr/>
          <p:nvPr/>
        </p:nvPicPr>
        <p:blipFill>
          <a:blip r:embed="rId1"/>
          <a:stretch/>
        </p:blipFill>
        <p:spPr>
          <a:xfrm>
            <a:off x="1476360" y="4005360"/>
            <a:ext cx="619272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85480" y="428760"/>
            <a:ext cx="8715240" cy="14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Тесная связь с библиотекой, где осуществляется подбор заданий для ребёнка:</a:t>
            </a:r>
            <a:br>
              <a:rPr sz="3600"/>
            </a:b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6840" y="2143080"/>
            <a:ext cx="81867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► 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по развитию речи и техники чте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►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расширению кругозора,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►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общение с художественной литератур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2" name="Picture 5" descr="1049"/>
          <p:cNvPicPr/>
          <p:nvPr/>
        </p:nvPicPr>
        <p:blipFill>
          <a:blip r:embed="rId1"/>
          <a:stretch/>
        </p:blipFill>
        <p:spPr>
          <a:xfrm rot="21237000">
            <a:off x="6673680" y="1824120"/>
            <a:ext cx="2275200" cy="38257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19"/>
          <p:cNvPicPr/>
          <p:nvPr/>
        </p:nvPicPr>
        <p:blipFill>
          <a:blip r:embed="rId2"/>
          <a:stretch/>
        </p:blipFill>
        <p:spPr>
          <a:xfrm>
            <a:off x="642960" y="4643280"/>
            <a:ext cx="5616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6" descr="90"/>
          <p:cNvPicPr/>
          <p:nvPr/>
        </p:nvPicPr>
        <p:blipFill>
          <a:blip r:embed="rId1"/>
          <a:stretch/>
        </p:blipFill>
        <p:spPr>
          <a:xfrm>
            <a:off x="6357960" y="1214280"/>
            <a:ext cx="2643120" cy="50724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Психологический тренинг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6840" y="1357200"/>
            <a:ext cx="692316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Индивидуальная работа со слабоуспевающими и неуспевающими ученик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Индивидуальная работа психолога с родителями слабоуспевающих и неуспевающих уче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Picture 4" descr="62"/>
          <p:cNvPicPr/>
          <p:nvPr/>
        </p:nvPicPr>
        <p:blipFill>
          <a:blip r:embed="rId2"/>
          <a:stretch/>
        </p:blipFill>
        <p:spPr>
          <a:xfrm>
            <a:off x="7956720" y="0"/>
            <a:ext cx="1046160" cy="8366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" descr="76"/>
          <p:cNvPicPr/>
          <p:nvPr/>
        </p:nvPicPr>
        <p:blipFill>
          <a:blip r:embed="rId3"/>
          <a:stretch/>
        </p:blipFill>
        <p:spPr>
          <a:xfrm>
            <a:off x="0" y="333360"/>
            <a:ext cx="144000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оветы родителям слабоуспевающих учеников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сячески укрепляйте уверенность ребенка в своих сила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Давайте ребенку только одно задание на определенный промежуток времени, чтобы он мог его выполни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ддерживайте дома четкий распорядок д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Отрабатывайте формы поведения в различных ситуаци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роявляйте заинтересованность школьными делами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Будьте последовательны в своих требованиях, поощрениях и наказани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е предъявляйте завышенные требования к ребенку и не вводите его в роль «неудачник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457200" y="713880"/>
            <a:ext cx="822960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Формируйте положительную мотивацию к учёб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икогда не критикуйте учителей в присутствии де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могайте ребёнку в случае необходим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икогда не выполняйте задание за учени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Старайтесь привить ребёнку привычку использовать дополнительную литературу, заинтересуйте е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Хвалите, радуйтесь вместе с ребёнком, когда он получает хорошие отмет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ощряйте ребёнка за его успех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Держите связь с учителями-предметниками в том случае, если вы сами не можете помочь ребён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Советы классному руководителю по работе со слабоуспевающими детьми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14200" y="1219320"/>
            <a:ext cx="8715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 начале учебного года проинформировать учителей -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редметников о наличии слабоуспевающих детей в классе (на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малом педсовете или в индивидуальной беседе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ддерживать связь с психологической службой, учителями -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редметниками, интересуясь уровнем обучаемости учащихся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темпами их развития, стилем общения с одноклассниками и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реподавател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ривлекать родителей слабоуспевающих детей к общественным делам клас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овремя информировать родителей о негативных проявлениях в учебной дисциплине со стороны ученика (пропуски уроков без уважительной причин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214200" y="857160"/>
            <a:ext cx="8715600" cy="52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Доводить до сведения администрации (зам. директора по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оспитательной работе, социального педагога) случаи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арушения норм и правил поведения в целях современной их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рофилак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Создать условия для занятия учащимися достойного места в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коллективе класса через активное включение во внеурочную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деятель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Держать на контроле состояние их здоров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Стремиться наладить доверительные отнош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Чаще использовать поощрение нежели наказание для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ддержания веры в свои си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mbria"/>
              </a:rPr>
              <a:t>ЖАЛОБЫ ШКОЛЬНИКОВ</a:t>
            </a:r>
            <a:br>
              <a:rPr sz="3600"/>
            </a:b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2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D59D-7D31-4757-BC45-E1409EBC1C9C}" type="slidenum">
              <a:rPr b="0" lang="ru-RU" sz="1400" spc="-1" strike="noStrike">
                <a:solidFill>
                  <a:srgbClr val="464653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500040" y="157140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1. Хроническая устал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2. Сонливость в дневные час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3. Пассивность на уроках из-за плохой подготовки до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4. Отказ от умственного напря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5. Нестойкость интерес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одводя итог вышесказанному , можно сделать вывод, что при правильном раскрытии причин неуспеваемости и определении путей ее ликвидации, высокое качество уроков,  реальная помощь и  тесный контакт всех членов семьи с педагогическим коллективом, использование передовых методов в обучении, четко поставленный контроль за учебным процессом, - таковы наиболее реальные пути, для достижения высокой успеваемости и прочных знаний учащихся разного интеллектуального уровн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Picture 4" descr="618"/>
          <p:cNvPicPr/>
          <p:nvPr/>
        </p:nvPicPr>
        <p:blipFill>
          <a:blip r:embed="rId1"/>
          <a:stretch/>
        </p:blipFill>
        <p:spPr>
          <a:xfrm>
            <a:off x="8172360" y="0"/>
            <a:ext cx="1271520" cy="26319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" descr="10"/>
          <p:cNvPicPr/>
          <p:nvPr/>
        </p:nvPicPr>
        <p:blipFill>
          <a:blip r:embed="rId2"/>
          <a:stretch/>
        </p:blipFill>
        <p:spPr>
          <a:xfrm>
            <a:off x="7270920" y="5281560"/>
            <a:ext cx="1873080" cy="1576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6" descr="41"/>
          <p:cNvPicPr/>
          <p:nvPr/>
        </p:nvPicPr>
        <p:blipFill>
          <a:blip r:embed="rId3"/>
          <a:stretch/>
        </p:blipFill>
        <p:spPr>
          <a:xfrm>
            <a:off x="468360" y="5630760"/>
            <a:ext cx="12589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Трудности подростка, проявляющиеся в форме отставания в учебе, эмоциональной неустойчивости, могут иметь самые различные причины: </a:t>
            </a:r>
            <a:endParaRPr b="0" lang="en-US" sz="2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5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5A20-9AF7-47DE-931F-D0A5895865E7}" type="slidenum">
              <a:rPr b="0" lang="ru-RU" sz="1400" spc="-1" strike="noStrike">
                <a:solidFill>
                  <a:srgbClr val="464653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28760" y="13568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лабое состояние здоровь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сформированность приемов учебной деятельности. Если психолого­педагогические навыки успешной учебной деятельности не выработаны, то учащийся  заучивает учебный материал механически, без предварительной логической обработ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достатки познавательной сферы (мышления, памяти, внимания).  Полное усвоение школьной программы предполагает обязательное абстрактно-логическое мышление, умение систематизировать, обобщать, классифицировать, сравнивать. Неумение запоминать тоже сказывается на учебной деятельности ребенка и в конечном счете влияет на его отношение к учебе и школ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достаточное развитие мотивационной сферы, что является в первую очередь приоритетом семейного воспит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собенности неуспевающих учащихся</a:t>
            </a:r>
            <a:r>
              <a:rPr b="1" lang="en-US" sz="3600" spc="-1" strike="noStrike">
                <a:solidFill>
                  <a:srgbClr val="ff0000"/>
                </a:solidFill>
                <a:latin typeface="Bookman Old Style"/>
              </a:rPr>
              <a:t>:</a:t>
            </a:r>
            <a:r>
              <a:rPr b="0" lang="ru-RU" sz="36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39640" y="178560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низкий уровень знаний, как следствие этого низкий уровень интеллектуального развити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отсутствие познавательного интерес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не сформированы элементарные организационные навык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учащиеся требуют индивидуального подхода с психологической и педагогической (в плане обучения) точки зрени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собенности неуспевающих учащихся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68360" y="178560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нет опоры на родителей как союзников учителя - предметник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дети, в основном, из асоциальных семей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отсутствие адекватной самооценки со стороны учащихс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частые пропуски уроков без уважительной причины, что приводит к отсутствию системы в знаниях и как следствие этого - низкий уровень интеллек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4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5:06:32Z</dcterms:created>
  <dc:creator>маргарита владимировна</dc:creator>
  <dc:description/>
  <dc:language>en-US</dc:language>
  <cp:lastModifiedBy>evroset</cp:lastModifiedBy>
  <dcterms:modified xsi:type="dcterms:W3CDTF">2019-12-11T18:06:35Z</dcterms:modified>
  <cp:revision>87</cp:revision>
  <dc:subject/>
  <dc:title>Организация работы с родителями слабоуспевающих и неуспевающих учащихс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23000000000001024140</vt:lpwstr>
  </property>
</Properties>
</file>