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1493B-BAE8-4C74-BF20-629CAB461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df5327"/>
              </a:solidFill>
              <a:latin typeface="Corbe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df5327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df53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61BBB-141F-43E1-8BBE-4C7F6AFBB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df5327"/>
              </a:solidFill>
              <a:latin typeface="Corbe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df5327"/>
              </a:solidFill>
              <a:latin typeface="Corbe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df5327"/>
              </a:solidFill>
              <a:latin typeface="Corbe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df5327"/>
              </a:solidFill>
              <a:latin typeface="Corbe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df5327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B5D0A-EC27-4A06-9343-BC20FACA9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df5327"/>
              </a:solidFill>
              <a:latin typeface="Corbe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df5327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6024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df5327"/>
              </a:solidFill>
              <a:latin typeface="Corbe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86368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df5327"/>
              </a:solidFill>
              <a:latin typeface="Corbe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5680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df5327"/>
              </a:solidFill>
              <a:latin typeface="Corbe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6024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df5327"/>
              </a:solidFill>
              <a:latin typeface="Corbe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86368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df5327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DB34F-F2BA-4269-A059-46E96B72F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54117-A456-4A7C-AF05-989DFDD9C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df5327"/>
              </a:solidFill>
              <a:latin typeface="Corbe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df53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44E88-1B44-4DDF-B28C-B92B65D56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df5327"/>
              </a:solidFill>
              <a:latin typeface="Corbe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df53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22ADB-B12F-4F97-828C-5E10207BE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df5327"/>
              </a:solidFill>
              <a:latin typeface="Corbe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df5327"/>
              </a:solidFill>
              <a:latin typeface="Corbe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df53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069CE-3206-4E9F-9AD9-8B3F2AEB0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df53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3B0DC-5E75-4D85-AEEF-A902DAB7F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57160" y="609480"/>
            <a:ext cx="7407360" cy="62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df53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A30F3-AAB4-4799-806E-2BC136DCC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df5327"/>
              </a:solidFill>
              <a:latin typeface="Corbe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df5327"/>
              </a:solidFill>
              <a:latin typeface="Corbe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df5327"/>
              </a:solidFill>
              <a:latin typeface="Corbe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df53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C5A89-F918-4240-847D-ED2299FE5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df5327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df53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F32D0-BA9D-44F6-AF17-9DB3F95FC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df5327"/>
              </a:solidFill>
              <a:latin typeface="Corbe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df5327"/>
              </a:solidFill>
              <a:latin typeface="Corbe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df5327"/>
              </a:solidFill>
              <a:latin typeface="Corbe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df53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77A25-BEB1-4C6A-9D30-2928F8F8D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df5327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df5327"/>
              </a:solidFill>
              <a:latin typeface="Corbe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df5327"/>
              </a:solidFill>
              <a:latin typeface="Corbe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df53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1214C-8D19-4FF7-B1A8-18BBE3E44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df5327"/>
              </a:solidFill>
              <a:latin typeface="Corbe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df5327"/>
              </a:solidFill>
              <a:latin typeface="Corbe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df53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6C381-6CDA-4EF8-A739-64A8CF5AE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df5327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df5327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df5327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df5327"/>
              </a:solidFill>
              <a:latin typeface="Corbe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df5327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7BC4C-43D3-46A7-BC2B-027461DEC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df5327"/>
              </a:solidFill>
              <a:latin typeface="Corbe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df5327"/>
              </a:solidFill>
              <a:latin typeface="Corbe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6024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df5327"/>
              </a:solidFill>
              <a:latin typeface="Corbe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86368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df5327"/>
              </a:solidFill>
              <a:latin typeface="Corbe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5680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df5327"/>
              </a:solidFill>
              <a:latin typeface="Corbe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6024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df5327"/>
              </a:solidFill>
              <a:latin typeface="Corbe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86368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df5327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833C1-BDF1-4F8F-9F13-4E6039ABC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6A9EE2-8E0E-4FCC-8C6E-896542CE6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df5327"/>
              </a:solidFill>
              <a:latin typeface="Corbe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df53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32CE53-FF28-4686-AC62-243832AE3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df5327"/>
              </a:solidFill>
              <a:latin typeface="Corbe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df53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743DE5-55A3-4873-9127-D64BAC3CF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df5327"/>
              </a:solidFill>
              <a:latin typeface="Corbe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df5327"/>
              </a:solidFill>
              <a:latin typeface="Corbe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df53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8BCF50-1610-4A7C-AB90-6B0021562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df53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AC4761-D83F-49DB-87A5-1122392A6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df5327"/>
              </a:solidFill>
              <a:latin typeface="Corbe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df53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6A4A4-CA08-4045-896A-46BBA3AA8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857160" y="609480"/>
            <a:ext cx="7407360" cy="62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df53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FC7AB2-2F7B-439E-B5BB-D9C937229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df5327"/>
              </a:solidFill>
              <a:latin typeface="Corbe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df5327"/>
              </a:solidFill>
              <a:latin typeface="Corbe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df5327"/>
              </a:solidFill>
              <a:latin typeface="Corbe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df53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962519-630D-4BCE-AD55-F2D6CDEE6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df5327"/>
              </a:solidFill>
              <a:latin typeface="Corbe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df5327"/>
              </a:solidFill>
              <a:latin typeface="Corbe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df5327"/>
              </a:solidFill>
              <a:latin typeface="Corbe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df53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E0B058-2145-4725-8E6C-DB2A3CFD6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df5327"/>
              </a:solidFill>
              <a:latin typeface="Corbe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df5327"/>
              </a:solidFill>
              <a:latin typeface="Corbe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df5327"/>
              </a:solidFill>
              <a:latin typeface="Corbe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df53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E64EEE-1054-41EB-979B-0D7D599BE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df5327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df5327"/>
              </a:solidFill>
              <a:latin typeface="Corbe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df53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D27798-EEE1-42BE-82C9-0C0C3B5DD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df5327"/>
              </a:solidFill>
              <a:latin typeface="Corbe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df5327"/>
              </a:solidFill>
              <a:latin typeface="Corbe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df5327"/>
              </a:solidFill>
              <a:latin typeface="Corbe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df5327"/>
              </a:solidFill>
              <a:latin typeface="Corbe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df5327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7054AA-84E6-4C6E-A9C5-02927945B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df5327"/>
              </a:solidFill>
              <a:latin typeface="Corbe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df5327"/>
              </a:solidFill>
              <a:latin typeface="Corbe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36024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df5327"/>
              </a:solidFill>
              <a:latin typeface="Corbe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86368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df5327"/>
              </a:solidFill>
              <a:latin typeface="Corbe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85680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df5327"/>
              </a:solidFill>
              <a:latin typeface="Corbe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36024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df5327"/>
              </a:solidFill>
              <a:latin typeface="Corbe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86368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df5327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6D684B-C556-4AC2-A39F-F31E5537C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df5327"/>
              </a:solidFill>
              <a:latin typeface="Corbe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df5327"/>
              </a:solidFill>
              <a:latin typeface="Corbe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df53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66F06-A6AB-41A9-BAA2-75115B4A3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df53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C5352-9929-4CF8-9AF5-F5B3799EB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57160" y="609480"/>
            <a:ext cx="7407360" cy="62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df53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D05FE-6F7F-4601-8D36-7B9ADA76F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df5327"/>
              </a:solidFill>
              <a:latin typeface="Corbe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df5327"/>
              </a:solidFill>
              <a:latin typeface="Corbe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df5327"/>
              </a:solidFill>
              <a:latin typeface="Corbe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df53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6C7C2-EFDE-4E9F-96D2-B90262C5D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df5327"/>
              </a:solidFill>
              <a:latin typeface="Corbe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df5327"/>
              </a:solidFill>
              <a:latin typeface="Corbe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df5327"/>
              </a:solidFill>
              <a:latin typeface="Corbe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df53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4F578-3A48-4170-A116-149C96149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df5327"/>
              </a:solidFill>
              <a:latin typeface="Corbe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df5327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df5327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df53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A57E7-E1B6-4E68-950C-D78DC2E3F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53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182520" y="182520"/>
            <a:ext cx="8778960" cy="64929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df5327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df5327"/>
              </a:solidFill>
              <a:latin typeface="Corbe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df53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df5327"/>
                </a:solidFill>
                <a:latin typeface="Corbel"/>
              </a:rPr>
              <a:t>Click to edit the outline text format</a:t>
            </a:r>
            <a:endParaRPr b="0" lang="en-US" sz="2000" spc="-1" strike="noStrike">
              <a:solidFill>
                <a:srgbClr val="df53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001"/>
              </a:spcBef>
              <a:buClr>
                <a:srgbClr val="df53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df5327"/>
                </a:solidFill>
                <a:latin typeface="Corbel"/>
              </a:rPr>
              <a:t>Second Outline Level</a:t>
            </a:r>
            <a:endParaRPr b="0" lang="en-US" sz="2000" spc="-1" strike="noStrike">
              <a:solidFill>
                <a:srgbClr val="df53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001"/>
              </a:spcBef>
              <a:buClr>
                <a:srgbClr val="df53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df5327"/>
                </a:solidFill>
                <a:latin typeface="Corbel"/>
              </a:rPr>
              <a:t>Third Outline Level</a:t>
            </a:r>
            <a:endParaRPr b="0" lang="en-US" sz="2000" spc="-1" strike="noStrike">
              <a:solidFill>
                <a:srgbClr val="df53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001"/>
              </a:spcBef>
              <a:buClr>
                <a:srgbClr val="df53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df5327"/>
                </a:solidFill>
                <a:latin typeface="Corbel"/>
              </a:rPr>
              <a:t>Fourth Outline Level</a:t>
            </a:r>
            <a:endParaRPr b="0" lang="en-US" sz="2000" spc="-1" strike="noStrike">
              <a:solidFill>
                <a:srgbClr val="df5327"/>
              </a:solidFill>
              <a:latin typeface="Corbel"/>
            </a:endParaRPr>
          </a:p>
          <a:p>
            <a:pPr lvl="4" marL="919080" indent="-136440">
              <a:lnSpc>
                <a:spcPct val="90000"/>
              </a:lnSpc>
              <a:spcBef>
                <a:spcPts val="1001"/>
              </a:spcBef>
              <a:buClr>
                <a:srgbClr val="df53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df5327"/>
                </a:solidFill>
                <a:latin typeface="Corbel"/>
              </a:rPr>
              <a:t>Fifth Outline Level</a:t>
            </a:r>
            <a:endParaRPr b="0" lang="en-US" sz="2000" spc="-1" strike="noStrike">
              <a:solidFill>
                <a:srgbClr val="df5327"/>
              </a:solidFill>
              <a:latin typeface="Corbel"/>
            </a:endParaRPr>
          </a:p>
          <a:p>
            <a:pPr lvl="5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df5327"/>
                </a:solidFill>
                <a:latin typeface="Corbel"/>
              </a:rPr>
              <a:t>Sixth Outline Level</a:t>
            </a:r>
            <a:endParaRPr b="0" lang="en-US" sz="2000" spc="-1" strike="noStrike">
              <a:solidFill>
                <a:srgbClr val="df5327"/>
              </a:solidFill>
              <a:latin typeface="Corbel"/>
            </a:endParaRPr>
          </a:p>
          <a:p>
            <a:pPr lvl="6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df5327"/>
                </a:solidFill>
                <a:latin typeface="Corbel"/>
              </a:rPr>
              <a:t>Seventh Outline Level</a:t>
            </a:r>
            <a:endParaRPr b="0" lang="en-US" sz="2000" spc="-1" strike="noStrike">
              <a:solidFill>
                <a:srgbClr val="df5327"/>
              </a:solidFill>
              <a:latin typeface="Corbe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856800" y="6224760"/>
            <a:ext cx="174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df53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df532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962080" y="6224760"/>
            <a:ext cx="3538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df53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E68D5-7BA3-4190-BF05-537D463B292B}" type="slidenum">
              <a:rPr b="0" lang="ru-RU" sz="1000" spc="-1" strike="noStrike">
                <a:solidFill>
                  <a:srgbClr val="df532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53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6"/>
          <p:cNvSpPr/>
          <p:nvPr/>
        </p:nvSpPr>
        <p:spPr>
          <a:xfrm>
            <a:off x="182520" y="182520"/>
            <a:ext cx="8778960" cy="64929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Straight Connector 7"/>
          <p:cNvSpPr/>
          <p:nvPr/>
        </p:nvSpPr>
        <p:spPr>
          <a:xfrm>
            <a:off x="1484280" y="3733920"/>
            <a:ext cx="6172200" cy="0"/>
          </a:xfrm>
          <a:prstGeom prst="line">
            <a:avLst/>
          </a:prstGeom>
          <a:ln w="10080">
            <a:solidFill>
              <a:srgbClr val="df53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df5327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df5327"/>
              </a:solidFill>
              <a:latin typeface="Corbe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df53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df5327"/>
                </a:solidFill>
                <a:latin typeface="Corbel"/>
              </a:rPr>
              <a:t>Click to edit the outline text format</a:t>
            </a:r>
            <a:endParaRPr b="0" lang="en-US" sz="2000" spc="-1" strike="noStrike">
              <a:solidFill>
                <a:srgbClr val="df53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001"/>
              </a:spcBef>
              <a:buClr>
                <a:srgbClr val="df53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df5327"/>
                </a:solidFill>
                <a:latin typeface="Corbel"/>
              </a:rPr>
              <a:t>Second Outline Level</a:t>
            </a:r>
            <a:endParaRPr b="0" lang="en-US" sz="2000" spc="-1" strike="noStrike">
              <a:solidFill>
                <a:srgbClr val="df53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001"/>
              </a:spcBef>
              <a:buClr>
                <a:srgbClr val="df53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df5327"/>
                </a:solidFill>
                <a:latin typeface="Corbel"/>
              </a:rPr>
              <a:t>Third Outline Level</a:t>
            </a:r>
            <a:endParaRPr b="0" lang="en-US" sz="2000" spc="-1" strike="noStrike">
              <a:solidFill>
                <a:srgbClr val="df53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001"/>
              </a:spcBef>
              <a:buClr>
                <a:srgbClr val="df53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df5327"/>
                </a:solidFill>
                <a:latin typeface="Corbel"/>
              </a:rPr>
              <a:t>Fourth Outline Level</a:t>
            </a:r>
            <a:endParaRPr b="0" lang="en-US" sz="2000" spc="-1" strike="noStrike">
              <a:solidFill>
                <a:srgbClr val="df5327"/>
              </a:solidFill>
              <a:latin typeface="Corbel"/>
            </a:endParaRPr>
          </a:p>
          <a:p>
            <a:pPr lvl="4" marL="919080" indent="-136440">
              <a:lnSpc>
                <a:spcPct val="90000"/>
              </a:lnSpc>
              <a:spcBef>
                <a:spcPts val="1001"/>
              </a:spcBef>
              <a:buClr>
                <a:srgbClr val="df53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df5327"/>
                </a:solidFill>
                <a:latin typeface="Corbel"/>
              </a:rPr>
              <a:t>Fifth Outline Level</a:t>
            </a:r>
            <a:endParaRPr b="0" lang="en-US" sz="2000" spc="-1" strike="noStrike">
              <a:solidFill>
                <a:srgbClr val="df5327"/>
              </a:solidFill>
              <a:latin typeface="Corbel"/>
            </a:endParaRPr>
          </a:p>
          <a:p>
            <a:pPr lvl="5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df5327"/>
                </a:solidFill>
                <a:latin typeface="Corbel"/>
              </a:rPr>
              <a:t>Sixth Outline Level</a:t>
            </a:r>
            <a:endParaRPr b="0" lang="en-US" sz="2000" spc="-1" strike="noStrike">
              <a:solidFill>
                <a:srgbClr val="df5327"/>
              </a:solidFill>
              <a:latin typeface="Corbel"/>
            </a:endParaRPr>
          </a:p>
          <a:p>
            <a:pPr lvl="6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df5327"/>
                </a:solidFill>
                <a:latin typeface="Corbel"/>
              </a:rPr>
              <a:t>Seventh Outline Level</a:t>
            </a:r>
            <a:endParaRPr b="0" lang="en-US" sz="2000" spc="-1" strike="noStrike">
              <a:solidFill>
                <a:srgbClr val="df5327"/>
              </a:solidFill>
              <a:latin typeface="Corbe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856800" y="6224760"/>
            <a:ext cx="174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df53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df532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2962080" y="6224760"/>
            <a:ext cx="3538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df53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FEAD2-90FF-48E4-8085-1F9EA1667651}" type="slidenum">
              <a:rPr b="0" lang="ru-RU" sz="1000" spc="-1" strike="noStrike">
                <a:solidFill>
                  <a:srgbClr val="df532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53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6"/>
          <p:cNvSpPr/>
          <p:nvPr/>
        </p:nvSpPr>
        <p:spPr>
          <a:xfrm>
            <a:off x="182520" y="182520"/>
            <a:ext cx="8778960" cy="64929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traight Connector 6"/>
          <p:cNvSpPr/>
          <p:nvPr/>
        </p:nvSpPr>
        <p:spPr>
          <a:xfrm>
            <a:off x="1486080" y="4021200"/>
            <a:ext cx="6172200" cy="0"/>
          </a:xfrm>
          <a:prstGeom prst="line">
            <a:avLst/>
          </a:prstGeom>
          <a:ln w="10080">
            <a:solidFill>
              <a:srgbClr val="df53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df5327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df5327"/>
              </a:solidFill>
              <a:latin typeface="Corbe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df53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df5327"/>
                </a:solidFill>
                <a:latin typeface="Corbel"/>
              </a:rPr>
              <a:t>Click to edit the outline text format</a:t>
            </a:r>
            <a:endParaRPr b="0" lang="en-US" sz="2000" spc="-1" strike="noStrike">
              <a:solidFill>
                <a:srgbClr val="df53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001"/>
              </a:spcBef>
              <a:buClr>
                <a:srgbClr val="df53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df5327"/>
                </a:solidFill>
                <a:latin typeface="Corbel"/>
              </a:rPr>
              <a:t>Second Outline Level</a:t>
            </a:r>
            <a:endParaRPr b="0" lang="en-US" sz="2000" spc="-1" strike="noStrike">
              <a:solidFill>
                <a:srgbClr val="df53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001"/>
              </a:spcBef>
              <a:buClr>
                <a:srgbClr val="df53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df5327"/>
                </a:solidFill>
                <a:latin typeface="Corbel"/>
              </a:rPr>
              <a:t>Third Outline Level</a:t>
            </a:r>
            <a:endParaRPr b="0" lang="en-US" sz="2000" spc="-1" strike="noStrike">
              <a:solidFill>
                <a:srgbClr val="df53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001"/>
              </a:spcBef>
              <a:buClr>
                <a:srgbClr val="df53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df5327"/>
                </a:solidFill>
                <a:latin typeface="Corbel"/>
              </a:rPr>
              <a:t>Fourth Outline Level</a:t>
            </a:r>
            <a:endParaRPr b="0" lang="en-US" sz="2000" spc="-1" strike="noStrike">
              <a:solidFill>
                <a:srgbClr val="df5327"/>
              </a:solidFill>
              <a:latin typeface="Corbel"/>
            </a:endParaRPr>
          </a:p>
          <a:p>
            <a:pPr lvl="4" marL="919080" indent="-136440">
              <a:lnSpc>
                <a:spcPct val="90000"/>
              </a:lnSpc>
              <a:spcBef>
                <a:spcPts val="1001"/>
              </a:spcBef>
              <a:buClr>
                <a:srgbClr val="df53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df5327"/>
                </a:solidFill>
                <a:latin typeface="Corbel"/>
              </a:rPr>
              <a:t>Fifth Outline Level</a:t>
            </a:r>
            <a:endParaRPr b="0" lang="en-US" sz="2000" spc="-1" strike="noStrike">
              <a:solidFill>
                <a:srgbClr val="df5327"/>
              </a:solidFill>
              <a:latin typeface="Corbel"/>
            </a:endParaRPr>
          </a:p>
          <a:p>
            <a:pPr lvl="5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df5327"/>
                </a:solidFill>
                <a:latin typeface="Corbel"/>
              </a:rPr>
              <a:t>Sixth Outline Level</a:t>
            </a:r>
            <a:endParaRPr b="0" lang="en-US" sz="2000" spc="-1" strike="noStrike">
              <a:solidFill>
                <a:srgbClr val="df5327"/>
              </a:solidFill>
              <a:latin typeface="Corbel"/>
            </a:endParaRPr>
          </a:p>
          <a:p>
            <a:pPr lvl="6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df5327"/>
                </a:solidFill>
                <a:latin typeface="Corbel"/>
              </a:rPr>
              <a:t>Seventh Outline Level</a:t>
            </a:r>
            <a:endParaRPr b="0" lang="en-US" sz="2000" spc="-1" strike="noStrike">
              <a:solidFill>
                <a:srgbClr val="df5327"/>
              </a:solidFill>
              <a:latin typeface="Corbe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856800" y="6224760"/>
            <a:ext cx="174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df53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df532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2962080" y="6224760"/>
            <a:ext cx="3538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df53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74406-6EC6-427A-92D5-8D854F8AE96E}" type="slidenum">
              <a:rPr b="0" lang="ru-RU" sz="1000" spc="-1" strike="noStrike">
                <a:solidFill>
                  <a:srgbClr val="df532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1042560" y="494136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800" spc="-1" strike="noStrike">
                <a:solidFill>
                  <a:srgbClr val="df5327"/>
                </a:solidFill>
                <a:latin typeface="Corbel"/>
              </a:rPr>
              <a:t> </a:t>
            </a:r>
            <a:endParaRPr b="0" lang="en-US" sz="1800" spc="-1" strike="noStrike">
              <a:solidFill>
                <a:srgbClr val="df5327"/>
              </a:solidFill>
              <a:latin typeface="Corbel"/>
            </a:endParaRPr>
          </a:p>
        </p:txBody>
      </p:sp>
      <p:pic>
        <p:nvPicPr>
          <p:cNvPr id="129" name="Прямоугольник 4" descr=""/>
          <p:cNvPicPr/>
          <p:nvPr/>
        </p:nvPicPr>
        <p:blipFill>
          <a:blip r:embed="rId1"/>
          <a:stretch/>
        </p:blipFill>
        <p:spPr>
          <a:xfrm>
            <a:off x="1212840" y="549360"/>
            <a:ext cx="6553080" cy="15652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5" descr="C:\Users\Я\Desktop\1339694613_b31dd864f6d4-1.jpg"/>
          <p:cNvPicPr/>
          <p:nvPr/>
        </p:nvPicPr>
        <p:blipFill>
          <a:blip r:embed="rId2"/>
          <a:stretch/>
        </p:blipFill>
        <p:spPr>
          <a:xfrm>
            <a:off x="3062160" y="2205000"/>
            <a:ext cx="3360960" cy="3095640"/>
          </a:xfrm>
          <a:prstGeom prst="rect">
            <a:avLst/>
          </a:prstGeom>
          <a:ln w="0">
            <a:noFill/>
          </a:ln>
        </p:spPr>
      </p:pic>
      <p:sp>
        <p:nvSpPr>
          <p:cNvPr id="131" name="TextBox 1"/>
          <p:cNvSpPr/>
          <p:nvPr/>
        </p:nvSpPr>
        <p:spPr>
          <a:xfrm>
            <a:off x="6156360" y="6093000"/>
            <a:ext cx="429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оспитатель: Кравченко Е.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179280" y="259920"/>
            <a:ext cx="360072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Corbel"/>
              </a:rPr>
              <a:t>Филимоновская игрушка - старейший народный художественный промысел России. </a:t>
            </a:r>
            <a:endParaRPr b="0" lang="en-US" sz="1500" spc="-1" strike="noStrike">
              <a:solidFill>
                <a:srgbClr val="df5327"/>
              </a:solidFill>
              <a:latin typeface="Corbel"/>
            </a:endParaRPr>
          </a:p>
          <a:p>
            <a:pPr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Corbel"/>
              </a:rPr>
              <a:t>В самом сердце России, недалеко от старинного города Одоева, Тульской области, на высоком берегу реки Упы стоит деревня Филимоново. По местным преданиям, истоки гончарного ремесла относятся к временам Ивана Грозного. Родина промысла - деревня Филимоново Одоевского района Тульской области, впервые упоминается в древних летописях XVI века. Мужчины в деревне Филимоново изготовляли на гончарном круге посуду, женщины лепили из глины игрушки. Все филимоновские игрушки - свистульки, лепятся из местной пластичной глины «синики», дающей после обжига белый черепок. Белые фигурки филимоновской игрушки играют основными цветами росписи: желтым, зеленым, красным. Старинная филимоновская игрушка расписывалась только красным и зеленым, а желтоватый цвет имела сама глина после обжига</a:t>
            </a:r>
            <a:endParaRPr b="0" lang="en-US" sz="1500" spc="-1" strike="noStrike">
              <a:solidFill>
                <a:srgbClr val="df5327"/>
              </a:solidFill>
              <a:latin typeface="Corbel"/>
            </a:endParaRPr>
          </a:p>
        </p:txBody>
      </p:sp>
      <p:pic>
        <p:nvPicPr>
          <p:cNvPr id="133" name="Рисунок 1" descr=""/>
          <p:cNvPicPr/>
          <p:nvPr/>
        </p:nvPicPr>
        <p:blipFill>
          <a:blip r:embed="rId1"/>
          <a:stretch/>
        </p:blipFill>
        <p:spPr>
          <a:xfrm>
            <a:off x="3780000" y="611280"/>
            <a:ext cx="5113080" cy="533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195280" y="-360"/>
            <a:ext cx="526716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rbel"/>
              </a:rPr>
              <a:t>Знаки и символы</a:t>
            </a:r>
            <a:endParaRPr b="0" lang="en-US" sz="4000" spc="-1" strike="noStrike">
              <a:solidFill>
                <a:srgbClr val="df5327"/>
              </a:solidFill>
              <a:latin typeface="Corbel"/>
            </a:endParaRPr>
          </a:p>
        </p:txBody>
      </p:sp>
      <p:pic>
        <p:nvPicPr>
          <p:cNvPr id="135" name="Picture 4" descr="C:\Users\Я\Desktop\horse.jpg"/>
          <p:cNvPicPr/>
          <p:nvPr/>
        </p:nvPicPr>
        <p:blipFill>
          <a:blip r:embed="rId1"/>
          <a:stretch/>
        </p:blipFill>
        <p:spPr>
          <a:xfrm>
            <a:off x="6783480" y="2436840"/>
            <a:ext cx="2138400" cy="29098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2" descr="C:\Users\Я\Desktop\tree.jpg"/>
          <p:cNvPicPr/>
          <p:nvPr/>
        </p:nvPicPr>
        <p:blipFill>
          <a:blip r:embed="rId2"/>
          <a:stretch/>
        </p:blipFill>
        <p:spPr>
          <a:xfrm>
            <a:off x="4387680" y="4629240"/>
            <a:ext cx="2692440" cy="1231920"/>
          </a:xfrm>
          <a:prstGeom prst="rect">
            <a:avLst/>
          </a:prstGeom>
          <a:ln w="0">
            <a:noFill/>
          </a:ln>
        </p:spPr>
      </p:pic>
      <p:sp>
        <p:nvSpPr>
          <p:cNvPr id="137" name="Прямоугольник 4"/>
          <p:cNvSpPr/>
          <p:nvPr/>
        </p:nvSpPr>
        <p:spPr>
          <a:xfrm>
            <a:off x="5197320" y="5861160"/>
            <a:ext cx="3383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Елочка – это символическое изображение Древа жизни. Образ Древа – символ плодород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Прямоугольник 6"/>
          <p:cNvSpPr/>
          <p:nvPr/>
        </p:nvSpPr>
        <p:spPr>
          <a:xfrm>
            <a:off x="2552760" y="3090960"/>
            <a:ext cx="43196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онь у древних вятичей, южно-восточных славян, является символом устремления вперед, и конь является символом солнца, но как атрибут, а не солнце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6" descr="C:\Users\Я\Desktop\lady.jpg"/>
          <p:cNvPicPr/>
          <p:nvPr/>
        </p:nvPicPr>
        <p:blipFill>
          <a:blip r:embed="rId3"/>
          <a:stretch/>
        </p:blipFill>
        <p:spPr>
          <a:xfrm>
            <a:off x="347760" y="3500280"/>
            <a:ext cx="1295280" cy="3106800"/>
          </a:xfrm>
          <a:prstGeom prst="rect">
            <a:avLst/>
          </a:prstGeom>
          <a:ln w="0">
            <a:noFill/>
          </a:ln>
        </p:spPr>
      </p:pic>
      <p:sp>
        <p:nvSpPr>
          <p:cNvPr id="140" name="Прямоугольник 10"/>
          <p:cNvSpPr/>
          <p:nvPr/>
        </p:nvSpPr>
        <p:spPr>
          <a:xfrm>
            <a:off x="1643040" y="4567320"/>
            <a:ext cx="273672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арыня – хранительница и защитница семейного очага, женских ремесел, прародительница рода человеческого. Землю, ее плодородие народ издревле олицетворял в образе матери. Берегиню всегда изображали с птицей или птицам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6" descr="C:\Users\Я\Desktop\znaki_02.jpg"/>
          <p:cNvPicPr/>
          <p:nvPr/>
        </p:nvPicPr>
        <p:blipFill>
          <a:blip r:embed="rId4"/>
          <a:stretch/>
        </p:blipFill>
        <p:spPr>
          <a:xfrm>
            <a:off x="657360" y="1300320"/>
            <a:ext cx="1336680" cy="1136520"/>
          </a:xfrm>
          <a:prstGeom prst="rect">
            <a:avLst/>
          </a:prstGeom>
          <a:ln w="0">
            <a:noFill/>
          </a:ln>
        </p:spPr>
      </p:pic>
      <p:sp>
        <p:nvSpPr>
          <p:cNvPr id="142" name="TextBox 5"/>
          <p:cNvSpPr/>
          <p:nvPr/>
        </p:nvSpPr>
        <p:spPr>
          <a:xfrm>
            <a:off x="2050920" y="820800"/>
            <a:ext cx="6820200" cy="18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Это всё солярные знаки, то есть знаки и символы Солнца. Это символ земной жизни, без солнечного света и тепла не будет урожая, будет холод, болезни. Знаки Солнца образуются из различных сочетаний коротких и длинных линий и точек. Как правило, рисуют на груди животного, юбках барынь. Замкнутый круг – полосочка на игрушке в языческие времена была символом оберега, спасения, это символ добра против зла. Замкнутый круг предотвращал вторжение злых сил. Кольцевые линии, идущие по фигуре игрушки – символ заключенного в игрушку добра, символ солнц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Этапы окраски игрушки</a:t>
            </a:r>
            <a:endParaRPr b="0" lang="en-US" sz="3600" spc="-1" strike="noStrike">
              <a:solidFill>
                <a:srgbClr val="df5327"/>
              </a:solidFill>
              <a:latin typeface="Corbel"/>
            </a:endParaRPr>
          </a:p>
        </p:txBody>
      </p:sp>
      <p:pic>
        <p:nvPicPr>
          <p:cNvPr id="144" name="Picture 2" descr="Филимоновская игрушка1-3"/>
          <p:cNvPicPr/>
          <p:nvPr/>
        </p:nvPicPr>
        <p:blipFill>
          <a:blip r:embed="rId1"/>
          <a:stretch/>
        </p:blipFill>
        <p:spPr>
          <a:xfrm>
            <a:off x="485640" y="1125360"/>
            <a:ext cx="1368720" cy="192564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 txBox="1"/>
          <p:nvPr/>
        </p:nvSpPr>
        <p:spPr>
          <a:xfrm>
            <a:off x="250560" y="3051000"/>
            <a:ext cx="2881080" cy="487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90000"/>
              </a:lnSpc>
              <a:spcBef>
                <a:spcPts val="1001"/>
              </a:spcBef>
              <a:buClr>
                <a:srgbClr val="fe9e00"/>
              </a:buClr>
              <a:buSzPct val="80000"/>
              <a:buFont typeface="Wingdings 2" charset="2"/>
              <a:buChar char="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rbel"/>
              </a:rPr>
              <a:t>Первый этап</a:t>
            </a:r>
            <a:endParaRPr b="0" lang="en-US" sz="1400" spc="-1" strike="noStrike">
              <a:solidFill>
                <a:srgbClr val="df5327"/>
              </a:solidFill>
              <a:latin typeface="Corbel"/>
            </a:endParaRPr>
          </a:p>
          <a:p>
            <a:pPr marL="272880" indent="-272880" algn="just">
              <a:lnSpc>
                <a:spcPct val="90000"/>
              </a:lnSpc>
              <a:spcBef>
                <a:spcPts val="1001"/>
              </a:spcBef>
              <a:buClr>
                <a:srgbClr val="fe9e00"/>
              </a:buClr>
              <a:buSzPct val="80000"/>
              <a:buFont typeface="Wingdings 2" charset="2"/>
              <a:buChar char="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rbel"/>
              </a:rPr>
              <a:t>Игрушку «желтят».По белому фону обожжёной игрушки наносят первый цвет - жёлтый. 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Corbel"/>
              </a:rPr>
              <a:t>Это основа для дальнейшей росписи. Расписывают широкой кисточкой (белка и собака) №3.Основные элементы - линии, кружки, полосы. Начинают мастерицы писать всегда с центра, а от него уже развивается роспись дальше, повинуясь чутью и воображению.</a:t>
            </a:r>
            <a:endParaRPr b="0" lang="en-US" sz="1400" spc="-1" strike="noStrike">
              <a:solidFill>
                <a:srgbClr val="df5327"/>
              </a:solidFill>
              <a:latin typeface="Corbel"/>
            </a:endParaRPr>
          </a:p>
          <a:p>
            <a:pPr marL="272880" indent="-272880" algn="just">
              <a:lnSpc>
                <a:spcPct val="90000"/>
              </a:lnSpc>
              <a:spcBef>
                <a:spcPts val="1001"/>
              </a:spcBef>
              <a:buClr>
                <a:srgbClr val="fe9e00"/>
              </a:buClr>
              <a:buSzPct val="80000"/>
              <a:buFont typeface="Wingdings 2" charset="2"/>
              <a:buChar char="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df5327"/>
              </a:solidFill>
              <a:latin typeface="Corbel"/>
            </a:endParaRPr>
          </a:p>
        </p:txBody>
      </p:sp>
      <p:pic>
        <p:nvPicPr>
          <p:cNvPr id="146" name="Picture 2" descr="Филимоновская игрушка1-4"/>
          <p:cNvPicPr/>
          <p:nvPr/>
        </p:nvPicPr>
        <p:blipFill>
          <a:blip r:embed="rId2"/>
          <a:stretch/>
        </p:blipFill>
        <p:spPr>
          <a:xfrm>
            <a:off x="3886200" y="1125360"/>
            <a:ext cx="1384200" cy="1946520"/>
          </a:xfrm>
          <a:prstGeom prst="rect">
            <a:avLst/>
          </a:prstGeom>
          <a:ln w="0">
            <a:noFill/>
          </a:ln>
        </p:spPr>
      </p:pic>
      <p:sp>
        <p:nvSpPr>
          <p:cNvPr id="147" name="Содержимое 3"/>
          <p:cNvSpPr/>
          <p:nvPr/>
        </p:nvSpPr>
        <p:spPr>
          <a:xfrm>
            <a:off x="3284640" y="3071880"/>
            <a:ext cx="2574720" cy="48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2880" indent="-272880" algn="just">
              <a:lnSpc>
                <a:spcPct val="90000"/>
              </a:lnSpc>
              <a:spcBef>
                <a:spcPts val="1001"/>
              </a:spcBef>
              <a:buClr>
                <a:srgbClr val="fe9e00"/>
              </a:buClr>
              <a:buSzPct val="80000"/>
              <a:buFont typeface="Wingdings 2" charset="2"/>
              <a:buChar char="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rbel"/>
                <a:ea typeface="Arial"/>
              </a:rPr>
              <a:t>Второй этап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90000"/>
              </a:lnSpc>
              <a:spcBef>
                <a:spcPts val="1001"/>
              </a:spcBef>
              <a:buClr>
                <a:srgbClr val="fe9e00"/>
              </a:buClr>
              <a:buSzPct val="80000"/>
              <a:buFont typeface="Wingdings 2" charset="2"/>
              <a:buChar char="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rbel"/>
                <a:ea typeface="Arial"/>
              </a:rPr>
              <a:t>Используют красный цвет (иногда говорят «фуксированный» или «малиновый»)Традиционно называют малинка. Расписывают тонкой кистью (белка, колонок) №1.Линии должны быть тонкими. Роспись ведётся по контуру жёлтого. 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Corbel"/>
                <a:ea typeface="Arial"/>
              </a:rPr>
              <a:t>Линии в различных сочетаниях рождают солнышки, ёлочки, розетки, геометрические узор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2" descr="Филимоновская игрушка1-"/>
          <p:cNvPicPr/>
          <p:nvPr/>
        </p:nvPicPr>
        <p:blipFill>
          <a:blip r:embed="rId3"/>
          <a:stretch/>
        </p:blipFill>
        <p:spPr>
          <a:xfrm>
            <a:off x="6804000" y="1125360"/>
            <a:ext cx="1420920" cy="1990800"/>
          </a:xfrm>
          <a:prstGeom prst="rect">
            <a:avLst/>
          </a:prstGeom>
          <a:ln w="0">
            <a:noFill/>
          </a:ln>
        </p:spPr>
      </p:pic>
      <p:sp>
        <p:nvSpPr>
          <p:cNvPr id="149" name="Содержимое 3"/>
          <p:cNvSpPr/>
          <p:nvPr/>
        </p:nvSpPr>
        <p:spPr>
          <a:xfrm>
            <a:off x="6012000" y="3051000"/>
            <a:ext cx="1989000" cy="46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2880" indent="-272880" algn="just">
              <a:lnSpc>
                <a:spcPct val="90000"/>
              </a:lnSpc>
              <a:spcBef>
                <a:spcPts val="1001"/>
              </a:spcBef>
              <a:buClr>
                <a:srgbClr val="fe9e00"/>
              </a:buClr>
              <a:buSzPct val="80000"/>
              <a:buFont typeface="Wingdings 2" charset="2"/>
              <a:buChar char="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rbel"/>
                <a:ea typeface="Arial"/>
              </a:rPr>
              <a:t>Третий этап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90000"/>
              </a:lnSpc>
              <a:spcBef>
                <a:spcPts val="1001"/>
              </a:spcBef>
              <a:buClr>
                <a:srgbClr val="fe9e00"/>
              </a:buClr>
              <a:buSzPct val="80000"/>
              <a:buFont typeface="Wingdings 2" charset="2"/>
              <a:buChar char="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rbel"/>
                <a:ea typeface="Arial"/>
              </a:rPr>
              <a:t>Накладывается зелёный цвет (бирюзовый). Традиционно - называется зелёнка. Линии тонкие. Расписывают тонкой кистью (белка, колонок) №1. Роспись ведётся между красными линиям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178920" y="333360"/>
            <a:ext cx="547236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fe9e00"/>
              </a:buClr>
              <a:buSzPct val="80000"/>
              <a:buFont typeface="Wingdings 2" charset="2"/>
              <a:buChar char="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rbel"/>
              </a:rPr>
              <a:t>Животные и птицы всегда расписываются по определенной схеме: поперек туловища и шеи идут, чередуясь, разноцветные полоски, и только голова и грудь окрашивается одним цветом, чаще зеленым или красным. </a:t>
            </a:r>
            <a:endParaRPr b="0" lang="en-US" sz="1600" spc="-1" strike="noStrike">
              <a:solidFill>
                <a:srgbClr val="df5327"/>
              </a:solidFill>
              <a:latin typeface="Corbel"/>
            </a:endParaRPr>
          </a:p>
        </p:txBody>
      </p:sp>
      <p:pic>
        <p:nvPicPr>
          <p:cNvPr id="151" name="Содержимое 4" descr="113_1[1].jpg"/>
          <p:cNvPicPr/>
          <p:nvPr/>
        </p:nvPicPr>
        <p:blipFill>
          <a:blip r:embed="rId1"/>
          <a:stretch/>
        </p:blipFill>
        <p:spPr>
          <a:xfrm>
            <a:off x="5867280" y="333360"/>
            <a:ext cx="3084480" cy="3594240"/>
          </a:xfrm>
          <a:prstGeom prst="rect">
            <a:avLst/>
          </a:prstGeom>
          <a:ln w="0">
            <a:noFill/>
          </a:ln>
        </p:spPr>
      </p:pic>
      <p:pic>
        <p:nvPicPr>
          <p:cNvPr id="152" name="Рисунок 1" descr=""/>
          <p:cNvPicPr/>
          <p:nvPr/>
        </p:nvPicPr>
        <p:blipFill>
          <a:blip r:embed="rId2"/>
          <a:stretch/>
        </p:blipFill>
        <p:spPr>
          <a:xfrm>
            <a:off x="468360" y="1628640"/>
            <a:ext cx="3706920" cy="4946760"/>
          </a:xfrm>
          <a:prstGeom prst="rect">
            <a:avLst/>
          </a:prstGeom>
          <a:ln w="0">
            <a:noFill/>
          </a:ln>
        </p:spPr>
      </p:pic>
      <p:sp>
        <p:nvSpPr>
          <p:cNvPr id="153" name="Содержимое 2"/>
          <p:cNvSpPr/>
          <p:nvPr/>
        </p:nvSpPr>
        <p:spPr>
          <a:xfrm>
            <a:off x="4462560" y="4102200"/>
            <a:ext cx="403848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fe9e00"/>
              </a:buClr>
              <a:buSzPct val="80000"/>
              <a:buFont typeface="Wingdings 2" charset="2"/>
              <a:buChar char="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rbel"/>
                <a:ea typeface="Arial"/>
              </a:rPr>
              <a:t>Кофты у барынь и рубахи у солдат филимоновской игрушки обычно окрашены одним цветом: красным, зеленым, желтым. Но сколько выдумки появляется у мастериц, когда они рисуют орнамент на юбках, передниках и штанах у своих кукол! Только лица у игрушек остаются чисто белыми, лишь точки – глаза, пятнышки – рот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fe9e00"/>
              </a:buClr>
              <a:buSzPct val="80000"/>
              <a:buFont typeface="Wingdings 2" charset="2"/>
              <a:buChar char="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107640" y="475920"/>
            <a:ext cx="3600360" cy="587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90000"/>
              </a:lnSpc>
              <a:spcBef>
                <a:spcPts val="1001"/>
              </a:spcBef>
              <a:buClr>
                <a:srgbClr val="fe9e00"/>
              </a:buClr>
              <a:buSzPct val="80000"/>
              <a:buFont typeface="Wingdings 2" charset="2"/>
              <a:buChar char="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rbel"/>
              </a:rPr>
              <a:t>Филимоновская свистулька, прославившая свою деревню, у нас в стране и далеко за ее пределами, должна быть сохранена для будущего. </a:t>
            </a:r>
            <a:endParaRPr b="0" lang="en-US" sz="1600" spc="-1" strike="noStrike">
              <a:solidFill>
                <a:srgbClr val="df5327"/>
              </a:solidFill>
              <a:latin typeface="Corbel"/>
            </a:endParaRPr>
          </a:p>
          <a:p>
            <a:pPr marL="261720" indent="-261720">
              <a:lnSpc>
                <a:spcPct val="90000"/>
              </a:lnSpc>
              <a:spcBef>
                <a:spcPts val="1001"/>
              </a:spcBef>
              <a:buClr>
                <a:srgbClr val="fe9e00"/>
              </a:buClr>
              <a:buSzPct val="80000"/>
              <a:buFont typeface="Wingdings 2" charset="2"/>
              <a:buChar char="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rbel"/>
              </a:rPr>
              <a:t>Пройдя долгий и сложный путь филимоновская игрушка сейчас превратилась в самостоятельное произведение скульптуры (мелкой пластики).</a:t>
            </a:r>
            <a:endParaRPr b="0" lang="en-US" sz="1600" spc="-1" strike="noStrike">
              <a:solidFill>
                <a:srgbClr val="df5327"/>
              </a:solidFill>
              <a:latin typeface="Corbel"/>
            </a:endParaRPr>
          </a:p>
          <a:p>
            <a:pPr marL="261720" indent="-261720">
              <a:lnSpc>
                <a:spcPct val="90000"/>
              </a:lnSpc>
              <a:spcBef>
                <a:spcPts val="1001"/>
              </a:spcBef>
              <a:buClr>
                <a:srgbClr val="fe9e00"/>
              </a:buClr>
              <a:buSzPct val="80000"/>
              <a:buFont typeface="Wingdings 2" charset="2"/>
              <a:buChar char="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rbel"/>
              </a:rPr>
              <a:t>Современная лепная свистулька стала еще ярче, наряднее, больше (до 20 см. в высоту), превратилась в скульптуру малых форм и поменяла и свой облик. Наряду с традиционными барынями, всадниками, животными, возникли сложные групповые композиции и бытовые сценки из деревенской жизни, согретые сердечным теплом мастеров</a:t>
            </a:r>
            <a:r>
              <a:rPr b="0" lang="ru-RU" sz="1600" spc="-1" strike="noStrike">
                <a:solidFill>
                  <a:srgbClr val="df5327"/>
                </a:solidFill>
                <a:latin typeface="Corbel"/>
              </a:rPr>
              <a:t>.</a:t>
            </a:r>
            <a:endParaRPr b="0" lang="en-US" sz="1600" spc="-1" strike="noStrike">
              <a:solidFill>
                <a:srgbClr val="df5327"/>
              </a:solidFill>
              <a:latin typeface="Corbel"/>
            </a:endParaRPr>
          </a:p>
        </p:txBody>
      </p:sp>
      <p:pic>
        <p:nvPicPr>
          <p:cNvPr id="155" name="Содержимое 4" descr="adtmljgqikgnat[1].jpg"/>
          <p:cNvPicPr/>
          <p:nvPr/>
        </p:nvPicPr>
        <p:blipFill>
          <a:blip r:embed="rId1"/>
          <a:stretch/>
        </p:blipFill>
        <p:spPr>
          <a:xfrm>
            <a:off x="3635280" y="1197000"/>
            <a:ext cx="5308560" cy="41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68360" y="234900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rbel"/>
              </a:rPr>
              <a:t>Спасибо за внимание!</a:t>
            </a:r>
            <a:endParaRPr b="0" lang="en-US" sz="4000" spc="-1" strike="noStrike">
              <a:solidFill>
                <a:srgbClr val="df5327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08T13:11:37Z</dcterms:created>
  <dc:creator>Юлечка</dc:creator>
  <dc:description/>
  <dc:language>en-US</dc:language>
  <cp:lastModifiedBy>User</cp:lastModifiedBy>
  <dcterms:modified xsi:type="dcterms:W3CDTF">2019-12-11T07:27:51Z</dcterms:modified>
  <cp:revision>29</cp:revision>
  <dc:subject/>
  <dc:title>Филимоновская игрушка</dc:title>
</cp:coreProperties>
</file>