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25B-426E-4B6B-AB8B-F9589D97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C52-B984-4A77-BB42-507B1A7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C36-EBB6-429E-8A36-0B634805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31C-B50C-48D7-847D-B126DB77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C33-AFAA-4278-BFB1-4C0BD14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E20-6796-4BAD-A283-4F12C8DE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293-460C-4F3A-847E-78E7635F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494-4320-41FA-A2B5-8621E5A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6E9-ECDA-421F-AAF0-2F3D946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B36-09B4-4BAD-A43C-01D63F83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5C6-0BB0-42B9-958C-D14EAACA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D99-6014-42A6-B0CF-2DA0FB6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A45-BCC8-4594-901B-F26909CDBA39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onegin.narod.ru/dopolnenie.html" TargetMode="External"/><Relationship Id="rId2" Type="http://schemas.openxmlformats.org/officeDocument/2006/relationships/hyperlink" Target="http://onegin-rulit.narod.ru/p_onegin.html" TargetMode="External"/><Relationship Id="rId3" Type="http://schemas.openxmlformats.org/officeDocument/2006/relationships/hyperlink" Target="http://il.rsl.ru/j00566.html" TargetMode="External"/><Relationship Id="rId4" Type="http://schemas.openxmlformats.org/officeDocument/2006/relationships/hyperlink" Target="http://pgoryru.livejournal.com/5437.html/" TargetMode="External"/><Relationship Id="rId5" Type="http://schemas.openxmlformats.org/officeDocument/2006/relationships/hyperlink" Target="http://pgoryru.livejournal.com/5437.html/" TargetMode="External"/><Relationship Id="rId6" Type="http://schemas.openxmlformats.org/officeDocument/2006/relationships/hyperlink" Target="http://pgoryru.livejournal.com/5437.html/" TargetMode="External"/><Relationship Id="rId7" Type="http://schemas.openxmlformats.org/officeDocument/2006/relationships/hyperlink" Target="http://pgoryru.livejournal.com/5437.html/" TargetMode="External"/><Relationship Id="rId8" Type="http://schemas.openxmlformats.org/officeDocument/2006/relationships/hyperlink" Target="http://pgoryru.livejournal.com/5437.html/" TargetMode="External"/><Relationship Id="rId9" Type="http://schemas.openxmlformats.org/officeDocument/2006/relationships/hyperlink" Target="http://pgoryru.livejournal.com/5437.html/" TargetMode="External"/><Relationship Id="rId10" Type="http://schemas.openxmlformats.org/officeDocument/2006/relationships/hyperlink" Target="http://pgoryru.livejournal.com/5437.html/" TargetMode="External"/><Relationship Id="rId11" Type="http://schemas.openxmlformats.org/officeDocument/2006/relationships/hyperlink" Target="http://pgoryru.livejournal.com/5437.html/" TargetMode="External"/><Relationship Id="rId12" Type="http://schemas.openxmlformats.org/officeDocument/2006/relationships/hyperlink" Target="http://pgoryru.livejournal.com/5437.html/" TargetMode="External"/><Relationship Id="rId13" Type="http://schemas.openxmlformats.org/officeDocument/2006/relationships/hyperlink" Target="http://pgoryru.livejournal.com/5437.html/" TargetMode="External"/><Relationship Id="rId14" Type="http://schemas.openxmlformats.org/officeDocument/2006/relationships/hyperlink" Target="http://rusmilestones.ru/theme/show/?id=24035" TargetMode="External"/><Relationship Id="rId15" Type="http://schemas.openxmlformats.org/officeDocument/2006/relationships/hyperlink" Target="http://s56.radikal.ru/i154/0908/db/36e359e543ff.jpg" TargetMode="External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3786120" y="142884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 Antiqua"/>
              </a:rPr>
              <a:t>А.С.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 Antiqua"/>
              </a:rPr>
              <a:t>Рома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 Antiqua"/>
              </a:rPr>
              <a:t>«Евгений Онеги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:\Е.А.К\В работе-конкурсы+\А.С.Пушкин Евгений Онегин-иллюстрации\Последнее перо.jpg"/>
          <p:cNvPicPr/>
          <p:nvPr/>
        </p:nvPicPr>
        <p:blipFill>
          <a:blip r:embed="rId1"/>
          <a:stretch/>
        </p:blipFill>
        <p:spPr>
          <a:xfrm>
            <a:off x="214200" y="928800"/>
            <a:ext cx="3594240" cy="385740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fd3e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357120"/>
            <a:ext cx="4643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Онегине сложное переплетение</a:t>
            </a:r>
            <a:r>
              <a:rPr b="1" lang="ru-RU" sz="2400" spc="-1" strike="noStrike">
                <a:solidFill>
                  <a:srgbClr val="355d7e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«старого» </a:t>
            </a:r>
            <a:r>
              <a:rPr b="1" lang="ru-RU" sz="2400" spc="-1" strike="noStrike">
                <a:solidFill>
                  <a:srgbClr val="0070c0"/>
                </a:solidFill>
                <a:latin typeface="Book Antiqua"/>
              </a:rPr>
              <a:t>и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«нового»: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н принимает вызов Ленского на дуэль, понимая нелепость поединка. Боязнь быть смешным, сделаться предметом сплетен влияют на поведение Онегина во время дуэ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н испуг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мненья света», которое презирал, и стал виновником гибели Ле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7439040" y="3295800"/>
            <a:ext cx="285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7429680" y="3286080"/>
            <a:ext cx="285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D:\Е.А.К\В работе-конкурсы+\А.С.Пушкин Евгений Онегин-иллюстрации\Онегин 3.jpg"/>
          <p:cNvPicPr/>
          <p:nvPr/>
        </p:nvPicPr>
        <p:blipFill>
          <a:blip r:embed="rId1"/>
          <a:stretch/>
        </p:blipFill>
        <p:spPr>
          <a:xfrm>
            <a:off x="5072040" y="642960"/>
            <a:ext cx="3676680" cy="501948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3e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4500720" y="428760"/>
            <a:ext cx="435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реживания, размышления, путешествия обогатили внутренний мир героя – теперь он способен не только холодно анализиро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о и любить.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Любовь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Пушкина – пробуждение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конце романа перед нами уже не «демон» с преждевременно состарившейся душой, а герой, жаждущий счастья и люб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:\Е.А.К\В работе-конкурсы+\А.С.Пушкин Евгений Онегин-иллюстрации\43288195.jpg Прощание.jpg"/>
          <p:cNvPicPr/>
          <p:nvPr/>
        </p:nvPicPr>
        <p:blipFill>
          <a:blip r:embed="rId1"/>
          <a:stretch/>
        </p:blipFill>
        <p:spPr>
          <a:xfrm>
            <a:off x="500040" y="785880"/>
            <a:ext cx="3781440" cy="478620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4"/>
          <p:cNvSpPr/>
          <p:nvPr/>
        </p:nvSpPr>
        <p:spPr>
          <a:xfrm>
            <a:off x="571680" y="142920"/>
            <a:ext cx="81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Book Antiqua"/>
              </a:rPr>
              <a:t>Татьяна Л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286160" y="13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нешность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и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характер</a:t>
            </a: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героини дороги автору. «Ни красотой сестры своей, / Ни свежестью ее румяной / не привлекла б она очей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Дика, печальна, молчалива». «Она в семье своей родной казалась девочкой чужой»: играм предпочитала уединение,  ей « с детства нравились романы» и рассказы няни  о стар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:\Е.А.К\В работе-конкурсы+\А.С.Пушкин Евгений Онегин-иллюстрации\Татьяна 6.jpg"/>
          <p:cNvPicPr/>
          <p:nvPr/>
        </p:nvPicPr>
        <p:blipFill>
          <a:blip r:embed="rId1"/>
          <a:stretch/>
        </p:blipFill>
        <p:spPr>
          <a:xfrm>
            <a:off x="500040" y="1357200"/>
            <a:ext cx="3591000" cy="460872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285840" y="571680"/>
            <a:ext cx="4786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 любви</a:t>
            </a: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атьяна отличается от светских девушек: нет кокетства, жеманства. Зато есть наивность, поэтичность, мечтательность. Под влиянием романов она создает в своем воображении романтический образ возлюбленного. Таким предстал перед нею Евгений Онегин. Татьяна проявляет решительность и смелость: своим письмом фактически бросает вызов светским услов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:\Е.А.К\В работе-конкурсы+\А.С.Пушкин Евгений Онегин-иллюстрации\Татьяна 2.jpg1.jpg"/>
          <p:cNvPicPr/>
          <p:nvPr/>
        </p:nvPicPr>
        <p:blipFill>
          <a:blip r:embed="rId1"/>
          <a:stretch/>
        </p:blipFill>
        <p:spPr>
          <a:xfrm>
            <a:off x="5429160" y="714240"/>
            <a:ext cx="3360960" cy="5370480"/>
          </a:xfrm>
          <a:prstGeom prst="rect">
            <a:avLst/>
          </a:prstGeom>
          <a:ln w="0">
            <a:noFill/>
          </a:ln>
        </p:spPr>
      </p:pic>
    </p:spTree>
  </p:cSld>
  <p:transition advTm="24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1ccb5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286160" y="857160"/>
            <a:ext cx="45720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основе ее мира –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народная культура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. Татьяна тонко чувствует природу:  душевная чуткость делает ее ближе к простому народу, чем к светскому обществу. Даже имя её привычнее в народной среде. Им впервые названа героиня рома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ред нами неброская, печальная, но глубокая и чистая натур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огатым внутренним ми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:\Е.А.К\В работе-конкурсы+\А.С.Пушкин Евгений Онегин-иллюстрации\Татьяна 3.jpg1.jpg"/>
          <p:cNvPicPr/>
          <p:nvPr/>
        </p:nvPicPr>
        <p:blipFill>
          <a:blip r:embed="rId1"/>
          <a:stretch/>
        </p:blipFill>
        <p:spPr>
          <a:xfrm>
            <a:off x="428760" y="714240"/>
            <a:ext cx="3571920" cy="4935600"/>
          </a:xfrm>
          <a:prstGeom prst="rect">
            <a:avLst/>
          </a:prstGeom>
          <a:ln w="0">
            <a:noFill/>
          </a:ln>
        </p:spPr>
      </p:pic>
    </p:spTree>
  </p:cSld>
  <p:transition advTm="18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142920" y="3429000"/>
            <a:ext cx="90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Светская жизнь </a:t>
            </a: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олько подчеркивает цельность натуры героини. Став женой генерала, уважаемой дамой, Татьяна остается прежней. Она не изменяет своим духовным ценностям в угоду светскому обществу, сохранив в душе чистоту и искренность. Светскую жизнь считает «блеском, мишурой, ветошью маскарада».</a:t>
            </a: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на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оплощение идеального образа русской женщины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, «милый идеал» 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:\Е.А.К\В работе-конкурсы+\А.С.Пушкин Евгений Онегин-иллюстрации\Татьяна 4.jpg"/>
          <p:cNvPicPr/>
          <p:nvPr/>
        </p:nvPicPr>
        <p:blipFill>
          <a:blip r:embed="rId1"/>
          <a:stretch/>
        </p:blipFill>
        <p:spPr>
          <a:xfrm>
            <a:off x="2786040" y="214200"/>
            <a:ext cx="4091040" cy="319716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2ce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5"/>
          <p:cNvSpPr/>
          <p:nvPr/>
        </p:nvSpPr>
        <p:spPr>
          <a:xfrm>
            <a:off x="142920" y="2142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Book Antiqua"/>
              </a:rPr>
              <a:t>Евгений Онегин и Владимир Л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786040" y="128592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Это </a:t>
            </a:r>
            <a:r>
              <a:rPr b="1" i="1" lang="ru-RU" sz="2400" spc="-1" strike="noStrike">
                <a:solidFill>
                  <a:srgbClr val="00b050"/>
                </a:solidFill>
                <a:latin typeface="Book Antiqua"/>
              </a:rPr>
              <a:t>антиподы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волна и камень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лед и пламень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от делать нечего друзья»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357120" y="428616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негин получил традиционное дворянское воспитание и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4714920" y="421488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енский учился в Германии . Результатом такого образования становится романтическое миро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14"/>
          <p:cNvCxnSpPr/>
          <p:nvPr/>
        </p:nvCxnSpPr>
        <p:spPr>
          <a:xfrm flipH="1">
            <a:off x="3285360" y="3285000"/>
            <a:ext cx="857880" cy="786600"/>
          </a:xfrm>
          <a:prstGeom prst="straightConnector1">
            <a:avLst/>
          </a:prstGeom>
          <a:ln w="1260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82" name="Прямая со стрелкой 16"/>
          <p:cNvCxnSpPr/>
          <p:nvPr/>
        </p:nvCxnSpPr>
        <p:spPr>
          <a:xfrm>
            <a:off x="4857480" y="3285720"/>
            <a:ext cx="857880" cy="715320"/>
          </a:xfrm>
          <a:prstGeom prst="straightConnector1">
            <a:avLst/>
          </a:prstGeom>
          <a:ln w="12600">
            <a:solidFill>
              <a:srgbClr val="94b6d2"/>
            </a:solidFill>
            <a:miter/>
            <a:tailEnd len="med" type="arrow" w="med"/>
          </a:ln>
        </p:spPr>
      </p:cxnSp>
      <p:pic>
        <p:nvPicPr>
          <p:cNvPr id="83" name="Picture 8" descr="D:\Е.А.К\В работе-конкурсы+\А.С.Пушкин Евгений Онегин-иллюстрации\Онегин 3.jpg1.jpg"/>
          <p:cNvPicPr/>
          <p:nvPr/>
        </p:nvPicPr>
        <p:blipFill>
          <a:blip r:embed="rId1"/>
          <a:stretch/>
        </p:blipFill>
        <p:spPr>
          <a:xfrm>
            <a:off x="736560" y="928800"/>
            <a:ext cx="2243160" cy="324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D:\Е.А.К\В работе-конкурсы+\А.С.Пушкин Евгений Онегин-иллюстрации\Ленскийjpg.jpg1.jpg"/>
          <p:cNvPicPr/>
          <p:nvPr/>
        </p:nvPicPr>
        <p:blipFill>
          <a:blip r:embed="rId2"/>
          <a:stretch/>
        </p:blipFill>
        <p:spPr>
          <a:xfrm>
            <a:off x="6215040" y="928800"/>
            <a:ext cx="2206800" cy="3219480"/>
          </a:xfrm>
          <a:prstGeom prst="rect">
            <a:avLst/>
          </a:prstGeom>
          <a:ln w="0">
            <a:noFill/>
          </a:ln>
        </p:spPr>
      </p:pic>
    </p:spTree>
  </p:cSld>
  <p:transition advTm="1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2ce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42920" y="285840"/>
            <a:ext cx="3357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негин чувствует себя уставшим от жизни, разочаровавшимся в ней, для него нет никаких ценносте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н не ценит любовь, друж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«Нет: рано чувства в нем остыли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Ему наскучил света шу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И далее автор «ставит «диагноз» состоянию своего героя – «короче: русская хандра 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владела понемногу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786280" y="285840"/>
            <a:ext cx="32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рнувшись на родину, Ленский ждет от жизни счастья и чуда – поэтому его душа и сердце открыты для любви, дружбы и твор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«Цель жизни нашей для него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Была заманчивой загадкой,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д ней он голову ло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И чудеса подозревал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»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«Он сердц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илый был невеж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285840" y="550080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сора на балу, дуэль – </a:t>
            </a:r>
            <a:r>
              <a:rPr b="1" i="1" lang="ru-RU" sz="2000" spc="-1" strike="noStrike">
                <a:solidFill>
                  <a:srgbClr val="00b050"/>
                </a:solidFill>
                <a:latin typeface="Book Antiqua"/>
              </a:rPr>
              <a:t>переломные события в жизни героев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. Смерть Ленского стала причиной серьёзных изменений в Онег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:\Е.А.К\В работе-конкурсы+\А.С.Пушкин Евгений Онегин-иллюстрации\Дуэль 4f.jpg"/>
          <p:cNvPicPr/>
          <p:nvPr/>
        </p:nvPicPr>
        <p:blipFill>
          <a:blip r:embed="rId1"/>
          <a:stretch/>
        </p:blipFill>
        <p:spPr>
          <a:xfrm>
            <a:off x="3429000" y="1071720"/>
            <a:ext cx="2500200" cy="3427200"/>
          </a:xfrm>
          <a:prstGeom prst="rect">
            <a:avLst/>
          </a:prstGeom>
          <a:ln w="0">
            <a:noFill/>
          </a:ln>
        </p:spPr>
      </p:pic>
    </p:spTree>
  </p:cSld>
  <p:transition advTm="32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2ce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4"/>
          <p:cNvSpPr/>
          <p:nvPr/>
        </p:nvSpPr>
        <p:spPr>
          <a:xfrm>
            <a:off x="571680" y="28584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Book Antiqua"/>
              </a:rPr>
              <a:t>Ольга Л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2920" y="928800"/>
            <a:ext cx="5072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Всегда скромна, всегда послуш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сегда как утро вес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жизнь поэта простодушн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о это</a:t>
            </a:r>
            <a:r>
              <a:rPr b="1" i="1" lang="ru-RU" sz="2400" spc="-1" strike="noStrike">
                <a:solidFill>
                  <a:srgbClr val="00b050"/>
                </a:solidFill>
                <a:latin typeface="Book Antiqua"/>
              </a:rPr>
              <a:t> натура обыкновенная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. Ольга любит Ленского потому, что просто хочет любить, чувствует его любовь. В силу своей заурядности она не понимает, какой огонь зажгла в душе поэта. И не удивительно, что, оплакав его гибель, она вскоре выходит замуж за у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:\Е.А.К\В работе-конкурсы+\А.С.Пушкин Евгений Онегин-иллюстрации\Бал.jpg"/>
          <p:cNvPicPr/>
          <p:nvPr/>
        </p:nvPicPr>
        <p:blipFill>
          <a:blip r:embed="rId1"/>
          <a:stretch/>
        </p:blipFill>
        <p:spPr>
          <a:xfrm>
            <a:off x="5143680" y="2643120"/>
            <a:ext cx="2199960" cy="364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:\Е.А.К\В работе-конкурсы+\А.С.Пушкин Евгений Онегин-иллюстрации\Ольга.jpg1.jpg"/>
          <p:cNvPicPr/>
          <p:nvPr/>
        </p:nvPicPr>
        <p:blipFill>
          <a:blip r:embed="rId2"/>
          <a:stretch/>
        </p:blipFill>
        <p:spPr>
          <a:xfrm>
            <a:off x="6643800" y="285840"/>
            <a:ext cx="2219040" cy="3170160"/>
          </a:xfrm>
          <a:prstGeom prst="rect">
            <a:avLst/>
          </a:prstGeom>
          <a:ln w="0">
            <a:noFill/>
          </a:ln>
        </p:spPr>
      </p:pic>
    </p:spTree>
  </p:cSld>
  <p:transition advTm="21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Е.А.К\В работе-конкурсы+\А.С.Пушкин Евгений Онегин-иллюстрации\Москва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0" y="142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«Энциклопедия русской жизни» </a:t>
            </a:r>
            <a:r>
              <a:rPr b="1" i="1" lang="ru-RU" sz="2800" spc="-1" strike="noStrike">
                <a:solidFill>
                  <a:srgbClr val="c00000"/>
                </a:solidFill>
                <a:latin typeface="Book Antiqua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14200" y="12859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 страниц романа мы много узнаём об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эпохе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*о воспитании детей в дворянской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об образовании: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Мы все учились понемногу / Чему-нибудь и как-нибудь…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*о моде в высшей свете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«Острижен по последней моде; / Как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andy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ондонский одет…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*о культуре, репертуаре театров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785880" y="2142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Проблематика рома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643200" y="1071720"/>
            <a:ext cx="550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нализируя ром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. Г. Белинский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казал , что в начале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. образованное дворянство было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ем сословием, «в котором почти исключительно выразился прогресс русского обществ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что Пушкин в «Онегине»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«решился представить нам внутреннюю жизнь этого сословия, а вместе с тем и общество в том виде, в каком оно находилось в избранную эпох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:\Е.А.К\В работе-конкурсы+\А.С.Пушкин Евгений Онегин-иллюстрации\Белинский2.jpg"/>
          <p:cNvPicPr/>
          <p:nvPr/>
        </p:nvPicPr>
        <p:blipFill>
          <a:blip r:embed="rId1"/>
          <a:stretch/>
        </p:blipFill>
        <p:spPr>
          <a:xfrm>
            <a:off x="357120" y="1428840"/>
            <a:ext cx="3102120" cy="3794040"/>
          </a:xfrm>
          <a:prstGeom prst="rect">
            <a:avLst/>
          </a:prstGeom>
          <a:ln w="0">
            <a:noFill/>
          </a:ln>
        </p:spPr>
      </p:pic>
    </p:spTree>
  </p:cSld>
  <p:transition advTm="18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D:\Е.А.К\В работе-конкурсы+\А.С.Пушкин Евгений Онегин-иллюстрации\Петербург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00040" y="0"/>
            <a:ext cx="82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*о высшем свете Петербурга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 «необходимыми глупцами», клеветниками, чопорными «бальными диктаторами». Автор не забывает и о «соли светской злости», о «накрахмаленных нахалах» и о нравах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*о патриархальной Москве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– «ярмарке невест», о «бессвязном пошлом вздоре» её гости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*о жизни провинциальных помещиков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 крепостной деревне, о патриархальном семействе Лари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428760" y="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Особенности и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р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3429000" y="1428840"/>
            <a:ext cx="55008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никальное произведение, не имеющее жанровых аналогов ни в русской, ни в мировой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Это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первый реалистический роман в русской литературе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Явление исключительное по широте охвата русской действительности первых десятилетий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Глубоко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национальный роман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исторической верности и полноте характеров.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D:\Е.А.К\В работе-конкурсы+\А.С.Пушкин Евгений Онегин-иллюстрации\Перо.jpg"/>
          <p:cNvPicPr/>
          <p:nvPr/>
        </p:nvPicPr>
        <p:blipFill>
          <a:blip r:embed="rId1"/>
          <a:stretch/>
        </p:blipFill>
        <p:spPr>
          <a:xfrm>
            <a:off x="428760" y="1357200"/>
            <a:ext cx="2889000" cy="4559400"/>
          </a:xfrm>
          <a:prstGeom prst="rect">
            <a:avLst/>
          </a:prstGeom>
          <a:ln w="0">
            <a:noFill/>
          </a:ln>
        </p:spPr>
      </p:pic>
    </p:spTree>
  </p:cSld>
  <p:transition advTm="18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b39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214200" y="142920"/>
            <a:ext cx="764388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 Antiqua"/>
              </a:rPr>
              <a:t>Использованные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nonegin.narod.ru/dopolneni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http://onegin-rulit.narod.ru/p_oneg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http://il.rsl.ru/j00566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://</a:t>
            </a:r>
            <a:r>
              <a:rPr b="0" lang="en-US" sz="20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pgoryru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livejournal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com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/5437.</a:t>
            </a:r>
            <a:r>
              <a:rPr b="0" lang="en-US" sz="20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html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1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14"/>
              </a:rPr>
              <a:t>http://rusmilestones.ru/theme/show/?id=24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7b615"/>
                </a:solidFill>
                <a:uFillTx/>
                <a:latin typeface="Arial"/>
                <a:hlinkClick r:id="rId15"/>
              </a:rPr>
              <a:t>http://s56.radikal.ru/i154/0908/db/36e359e543ff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liveinternet.ru/users/leykoteya/post108916330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planeta.rambler.ru/users/coudle/56631585.html?parent_id=5667647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ino-teatr.ru/kino/movie/sov/9412/poster/34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blogs.mail.ru/mail/leykoteya/6e51c709f30da33d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slovari.yandex.ru/dict/bse/article/00064/05600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D:\Е.А.К\В работе-конкурсы+\А.С.Пушкин. Евгений Онегин\1-web.jpg"/>
          <p:cNvPicPr/>
          <p:nvPr/>
        </p:nvPicPr>
        <p:blipFill>
          <a:blip r:embed="rId16"/>
          <a:stretch/>
        </p:blipFill>
        <p:spPr>
          <a:xfrm>
            <a:off x="6286680" y="928800"/>
            <a:ext cx="2509560" cy="24667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00080" y="1000080"/>
            <a:ext cx="81439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оман был напи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 Antiqua"/>
              </a:rPr>
              <a:t>в течение 7 лет (1823-1830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832 году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.С.Пушкин пишет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8 гл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замыслу автора, в романе должно было быть 10 глав. В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830 году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Болдине Пушкин пишет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0 главу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(хронику преддекабристской  эпохи). Но автор сжег рукопись этой главы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1833 году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первое полное издание романа Пушкин включает, кроме 8 главы, «Отрывки из путешествия Онег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955160" y="1071720"/>
            <a:ext cx="72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История создания р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e2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Е.А.К\В работе-конкурсы+\1\48765531_Staruyy_par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0" y="64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adcd8"/>
                </a:solidFill>
                <a:latin typeface="Book Antiqua"/>
              </a:rPr>
              <a:t>Жанр произведения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adcd8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cadcd8"/>
                </a:solidFill>
                <a:latin typeface="Book Antiqua"/>
              </a:rPr>
              <a:t>роман в стих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428760" y="235728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ушкин создавал    произведение, когда стихи постепенно утрачивали своё господство, а проза шла к своему торжеству. Автор выбрал промежуточную форму, объединяющую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эпос и лирику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Пушкин писал Петру Вяземскому: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«Я теперь пишу не роман, а роман в стихах – дьявольская разниц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5d7e"/>
                </a:solidFill>
                <a:latin typeface="Book Antiqua"/>
              </a:rPr>
              <a:t>Сюжет и компози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128592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собого внимания заслуживает рассмот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вопроса о композиции ро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Судьба и Пушкин приготовили встречу двух героев: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Евгения Онегин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Татьяны Лари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льзя не заметить, что некоторые эпиз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в романе повторяются дважды, но словно в «зеркальном» отра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С одной стороны следует сюжетная ли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связанная с героем – Онегиным, а с другой стороны – с героиней – Татья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3e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0"/>
            <a:ext cx="91440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 Antiqua"/>
              </a:rPr>
              <a:t>Главные герои романа </a:t>
            </a:r>
            <a:r>
              <a:rPr b="1" lang="ru-RU" sz="4400" spc="-1" strike="noStrike">
                <a:solidFill>
                  <a:srgbClr val="0070c0"/>
                </a:solidFill>
                <a:latin typeface="Book Antiqua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быкновенные люди. Меняются не только собы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жизни героев – меняются их характеры, образ мыслей. Герои не вписываются в схему, они подвластны времени и обстоятельствам. Перед нами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типичные герои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типичных</a:t>
            </a:r>
            <a:r>
              <a:rPr b="1" i="1" lang="ru-RU" sz="2400" spc="-1" strike="noStrike">
                <a:solidFill>
                  <a:srgbClr val="355d7e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обстоятельствах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no Pro Captio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:\Е.А.К\В работе-конкурсы+\А.С.Пушкин Евгений Онегин-иллюстрации\Дом Лариных.jpg"/>
          <p:cNvPicPr/>
          <p:nvPr/>
        </p:nvPicPr>
        <p:blipFill>
          <a:blip r:embed="rId1"/>
          <a:stretch/>
        </p:blipFill>
        <p:spPr>
          <a:xfrm>
            <a:off x="2214720" y="2643120"/>
            <a:ext cx="4822560" cy="3952800"/>
          </a:xfrm>
          <a:prstGeom prst="rect">
            <a:avLst/>
          </a:prstGeom>
          <a:ln w="0">
            <a:noFill/>
          </a:ln>
        </p:spPr>
      </p:pic>
    </p:spTree>
  </p:cSld>
  <p:transition advTm="1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3e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3929040" y="1428840"/>
            <a:ext cx="5072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олодой дворянин, аристократ по происхождению и воспитанию – «забав и роскоши дитя».</a:t>
            </a:r>
            <a:r>
              <a:rPr b="1" i="1" lang="ru-RU" sz="2400" spc="-1" strike="noStrike">
                <a:solidFill>
                  <a:srgbClr val="355d7e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Перед нами типичный представитель своего времени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втор часто сравнивает себя с Онегиным, «добрым приятелем» своим, выражает симпатию, иронизирует над ним, но «всегда…рад заметить разность» между Онегиным и собой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Book Antiqua"/>
              </a:rPr>
              <a:t>Евгений Онег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:\Е.А.К\В работе-конкурсы+\А.С.Пушкин Евгений Онегин-иллюстрации\Пушкин и Онегин.jpg1.jpg"/>
          <p:cNvPicPr/>
          <p:nvPr/>
        </p:nvPicPr>
        <p:blipFill>
          <a:blip r:embed="rId1"/>
          <a:stretch/>
        </p:blipFill>
        <p:spPr>
          <a:xfrm>
            <a:off x="428760" y="1357200"/>
            <a:ext cx="3286080" cy="446724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3e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000680" y="714240"/>
            <a:ext cx="4929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олодой повеса», эгоист и скептик с острым и злым языком. По принятым в свете нормам Онегин «умен и очень ми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удучи человеком умным и критически настроенным, быстро разочаровался в суете светской жизни, в людях, в самом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начале романа это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Book Antiqua"/>
              </a:rPr>
              <a:t>молодой человек с душой старика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, появляющийся в гостиных «угрюмым, том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20595_1218965082_580435_mid.jpeg"/>
          <p:cNvPicPr/>
          <p:nvPr/>
        </p:nvPicPr>
        <p:blipFill>
          <a:blip r:embed="rId1"/>
          <a:stretch/>
        </p:blipFill>
        <p:spPr>
          <a:xfrm>
            <a:off x="428760" y="785880"/>
            <a:ext cx="3571920" cy="4881600"/>
          </a:xfrm>
          <a:prstGeom prst="rect">
            <a:avLst/>
          </a:prstGeom>
          <a:ln w="0">
            <a:noFill/>
          </a:ln>
        </p:spPr>
      </p:pic>
    </p:spTree>
  </p:cSld>
  <p:transition advTm="2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3e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142920" y="14292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наток «науки стр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ежной», он сразу разглядел в Татьяне ее непохожесть на других. Получив её признание в любви, Онегин не воспользовался наивностью девушки, а «явил души прямое благородство» - повел  себя как воспитанный и порядочный человек</a:t>
            </a: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Е.А.К\В работе-конкурсы+\А.С.Пушкин Евгений Онегин-иллюстрации\Онегин и Татьяна.jpg"/>
          <p:cNvPicPr/>
          <p:nvPr/>
        </p:nvPicPr>
        <p:blipFill>
          <a:blip r:embed="rId1"/>
          <a:stretch/>
        </p:blipFill>
        <p:spPr>
          <a:xfrm>
            <a:off x="2071800" y="2500200"/>
            <a:ext cx="4929120" cy="4051440"/>
          </a:xfrm>
          <a:prstGeom prst="rect">
            <a:avLst/>
          </a:prstGeom>
          <a:ln w="0">
            <a:noFill/>
          </a:ln>
        </p:spPr>
      </p:pic>
    </p:spTree>
  </p:cSld>
  <p:transition advTm="1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2:54:23Z</dcterms:created>
  <dc:creator>Zver</dc:creator>
  <dc:description/>
  <dc:language>en-US</dc:language>
  <cp:lastModifiedBy>user</cp:lastModifiedBy>
  <dcterms:modified xsi:type="dcterms:W3CDTF">2018-02-17T05:50:40Z</dcterms:modified>
  <cp:revision>237</cp:revision>
  <dc:subject/>
  <dc:title> А.С. Пушкин</dc:title>
</cp:coreProperties>
</file>