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3.gif" ContentType="image/gif"/>
  <Override PartName="/ppt/media/image36.wmf" ContentType="image/x-wmf"/>
  <Override PartName="/ppt/media/image16.jpeg" ContentType="image/jpeg"/>
  <Override PartName="/ppt/media/image39.wmf" ContentType="image/x-wmf"/>
  <Override PartName="/ppt/media/image30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41.wmf" ContentType="image/x-wmf"/>
  <Override PartName="/ppt/media/image8.png" ContentType="image/png"/>
  <Override PartName="/ppt/media/image12.gif" ContentType="image/gif"/>
  <Override PartName="/ppt/media/image40.jpeg" ContentType="image/jpeg"/>
  <Override PartName="/ppt/media/image28.png" ContentType="image/png"/>
  <Override PartName="/ppt/media/image38.jpeg" ContentType="image/jpeg"/>
  <Override PartName="/ppt/media/image9.jpeg" ContentType="image/jpeg"/>
  <Override PartName="/ppt/media/image42.wmf" ContentType="image/x-wmf"/>
  <Override PartName="/ppt/media/image37.wmf" ContentType="image/x-wmf"/>
  <Override PartName="/ppt/media/image7.wmf" ContentType="image/x-wmf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D7E6-EEA7-44E6-8291-C9A00A4904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651A-5851-432D-9569-858FCEBF6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B959-68A0-43F0-B08D-B39DC415F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5628-F202-44CD-864C-105CFBF87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4EAF-3119-43C1-829A-2A7A78240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772D-78EC-449F-A8C5-DD80AC366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CFC-21A4-49DE-9EAF-7120FA2B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6C0-6C34-4FF4-909E-58AD9C4D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C008C-3697-4885-AA6D-4347EFCF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E305A-76A7-41DB-8776-FF924ECD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851FA-85E0-4867-A914-5DC57BC7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AC4B1-DB7D-47B8-A067-556A9CFB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5D550-4E64-4AB6-9F4D-8FB6758C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ACB0B-C59C-429F-B4C9-80EC8BAC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0AE6F-EB87-4871-922F-3B8F3F4A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F251C-33B7-4100-855D-8CF77BF6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E9B9E-7905-40FB-97C7-9E932912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9AC8D-015A-450E-968C-D4BAF342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E2D-A02A-4056-B435-A41E5886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83E41-C8E7-4D75-BE0E-89A576F8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71C96-D9F9-4E9B-85B2-F1B8B334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27748-0DB7-4F0C-A802-215E4FB2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FC6A5-7BE4-4698-8D3F-2F7C3B8F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A5754-68B7-4B00-95AE-B49D036D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8FAC0-B57C-4F57-865B-7CAFC935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5459C-B820-4460-AEC2-F407C75F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C3EF3-F4A2-4A3E-80E9-201654B2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6814F-0A3B-4A7E-875D-3A457F4C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59E06-0D66-4833-8F91-3D55BB0E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C4B-BFDF-40AB-B01E-8067762B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8AE29-6A89-4989-9525-636D1F7E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DF3AF-F2AA-41A5-BA5C-9CCF67F2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D4636-A00F-4994-8272-C65DD389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D04EA-C151-4B11-9C87-66BD1159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32501-3A2F-4DDC-BDDF-3A0094F9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999EA-46BF-433C-9535-4ABB6909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26EB2-8C06-43FF-8BD3-90FD079D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0488C-AEB2-4656-9633-F7F67DA1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52B83-D55E-430E-8CD3-1CFBF72F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B8C17-1BDE-4634-B2AB-83271D18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7EB1-0048-4842-ABE4-6B76E5CB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A0CC6-6556-43B7-99EA-EDAB0C1D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4FDE5-2F78-4431-AF2B-E845BB66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41FE3-CFC9-4FFD-A0F4-D838D560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1F16-34CC-4DA4-A6B8-19485976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D477-D146-482B-9BA7-F766C38D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E266-528B-4417-B844-1643A67F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523E-1361-4A89-8B15-19A69788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57F9-A991-44F6-82A7-E27B4EED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106A-E840-4391-86D5-4EF3839E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C3A-25FA-4419-9618-D72B29F7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22AE-9E80-40E7-8135-BBA86A15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4932-74AC-4D7A-955E-CF90E00B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FA30-73AF-4BEB-84B9-B59EF948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F739-58B3-4528-8E2B-E6DA2915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2CD4-FCFA-41BA-9041-DFAEDB59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4F95-4121-4A8F-9B2E-EB576EC6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839ED-7DEB-4DB2-9BD2-6E24BDBD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CEBB8-58DB-4522-BDE2-D3282AFA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0D97-E3B6-4971-BA2E-985B6BD1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8FEC-34E1-4C0F-8C53-0076A366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5E6-7AE7-47F9-8FA8-A321D01E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E95E-E0F7-4309-9F67-9DF033AD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B6A0-C42B-40FB-A8D9-4F98B8D3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8A6C-ADC3-4752-ACEE-5F1B7691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A9EE-72EA-451F-8CB0-9E92C3A5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47CB-60BC-4689-B2FF-2DA9FB71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EC2C8-B2F4-4CF1-BFB0-8E6BAA5B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5954-407B-4778-ADA3-40140679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124ED-2D9E-46A0-A811-6F942C51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BFB88-1D93-41A9-B988-B4D335F9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A15E5-E631-4179-814E-8C9289F8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1F7-531A-47CC-84C3-AE8AC975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972FE-32AA-43FB-86D1-77F8DE44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1AC0E-42B7-4BF7-BE2E-4E7250B4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181F-862A-46B4-890C-0DEBF538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D9165-9284-4F8E-8E79-CB8050EE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21B93-106C-4E4B-9649-797DFE75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3924-7354-49AA-8197-3CE26958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DB4A-88B4-4299-B761-BF6DE45A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3EF3-152F-49CD-8830-87123940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0E84E-C0BF-4A78-B897-8A684C04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7BAF1-A1AC-41F4-9566-3CFFB245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D31-D19D-49F7-B370-26443D4F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8AD40-4D93-413D-B895-0D24C482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7012-D63F-4226-A752-D6830B74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AC341-6D9D-4B8D-9E8C-B1EDAC00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72595-F55E-4F7F-8EAB-BAE28AF7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58371-429D-4043-93F9-D3DE09FD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D00A-E7C2-4175-BCCD-6DA30F44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953DE-70B2-48F4-81BD-FF7F1545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49BF2-9B06-4E9D-9362-0D0FF76B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72AB4-E385-4290-88C4-9A934B8A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84C3A-01A8-425C-B0AF-4786A6B8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924-A3E2-46B2-B419-1D76BB14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AC94D-31DC-4582-9562-FA83C5C2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8FFC5-FE39-4576-9B62-D406B67D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D5062-D914-4F7D-960F-B9B6F0F9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BA9E5-947F-4CBA-8174-66ACD782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3B46B-890F-4259-8516-EC6436BE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F2BC7-4985-4E73-9967-7C5FD116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00F44-517D-40AE-A2B5-EB4CEADC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30AE6-CF20-4ABC-B826-A6D69C2D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6C3AF-4EED-4962-936A-3451F303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B1CDB-B189-4DB5-B369-98DD4D16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703-4EC5-4CC0-BBBF-FD7EDE98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80B1F-A28A-4273-A1FF-D59BA081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59C50-4E00-41BD-BA5E-C50E937D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6C56A-FCAF-43D2-801C-FF121160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90590-E931-4E99-A935-2A9FFCE3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D5A5F-1C9B-43E5-A597-BA8B6535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1170F-5F0D-4CD7-9698-20A5A098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71C77-6490-483F-936A-3C834863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49DFF-B524-4F5F-81F7-30FB3EDC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78424-A6AA-4062-B4A0-D428596F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A01FD-7111-4025-9AF8-87ECD66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80D-DD07-44BC-B617-F8C9213A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BD2CD-A8E4-4276-837B-AEF6BD3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DA37F-1680-4837-A4B0-F784D5A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5037D-8A71-47E2-8CA8-42B6981E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DB646-8B18-4719-A84E-8DC426E1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A9E7C-EE6B-43CC-84B8-8882ECD5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81025-4AA2-46C1-B52F-4A024C0D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5BD5E-B70F-4DFB-B90E-A49C987B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46718-8714-4C25-889E-0D008F20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235B5-C940-40EC-9F4C-BFA60FB8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43200-52B2-47C1-A141-8FEF3316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F54-310D-4A4E-A95F-890B900C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FEB73-7A73-4F24-9F4C-77840318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99FF3-9425-4A8D-9858-C3BB4ED1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0B9C9-A695-4B1C-9BE6-2A288071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300D0-5FB0-4460-AF91-4EDE6D14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F04D5-2BE6-4DF9-97C8-5ED92DD5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44E48-76EE-4739-BCF5-B279768B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5F8CE-5B29-4154-8B5F-F40A4DD3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4EA63-ADD0-4B84-9E00-E03F1EF8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936F5-BB5C-44F8-9D51-5DEC7612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04959-1582-482D-8FAF-8FEF3BC0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E928-C3F6-4997-8524-AC58F051805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1D21-6F93-4044-BDAC-9934382BE9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775C-5081-4BCB-85F4-BD2D15E965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E4AB-44BC-4B01-880B-9E4C1C516BE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3D06-69E2-4969-A311-4983EF0DE31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3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A727-5693-4501-B1CE-A35EF2D2D9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7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8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8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B395-BC53-4268-A4FB-8C86B9A8F7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22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DF8A-8341-4538-B523-E3CDA60660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7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81DC-4616-4278-BF8B-AB218E6E74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859C-CF11-41B7-9E71-15237069AB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5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CD93-037B-47B1-AAD7-759509E219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wm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wm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8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wmf"/><Relationship Id="rId3" Type="http://schemas.openxmlformats.org/officeDocument/2006/relationships/image" Target="../media/image40.jpe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2" descr=""/>
          <p:cNvPicPr/>
          <p:nvPr/>
        </p:nvPicPr>
        <p:blipFill>
          <a:blip r:embed="rId2"/>
          <a:stretch/>
        </p:blipFill>
        <p:spPr>
          <a:xfrm>
            <a:off x="-92160" y="3029040"/>
            <a:ext cx="9090000" cy="25606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C:\Users\Светлана Викторовна\AppData\Local\Microsoft\Windows\Temporary Internet Files\Content.IE5\Z83MRHT0\MC900233964[1].wmf"/>
          <p:cNvPicPr/>
          <p:nvPr/>
        </p:nvPicPr>
        <p:blipFill>
          <a:blip r:embed="rId3"/>
          <a:stretch/>
        </p:blipFill>
        <p:spPr>
          <a:xfrm>
            <a:off x="2050920" y="333360"/>
            <a:ext cx="3816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21" name="Picture 1" descr="майя_resize"/>
          <p:cNvPicPr/>
          <p:nvPr/>
        </p:nvPicPr>
        <p:blipFill>
          <a:blip r:embed="rId2"/>
          <a:stretch/>
        </p:blipFill>
        <p:spPr>
          <a:xfrm>
            <a:off x="755640" y="1125360"/>
            <a:ext cx="77835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Сопоставьте картинку и цифру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23" name="Picture 1" descr="майя_resize"/>
          <p:cNvPicPr/>
          <p:nvPr/>
        </p:nvPicPr>
        <p:blipFill>
          <a:blip r:embed="rId2"/>
          <a:stretch/>
        </p:blipFill>
        <p:spPr>
          <a:xfrm>
            <a:off x="1187280" y="765000"/>
            <a:ext cx="6561360" cy="26067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611280" y="3645000"/>
            <a:ext cx="809640" cy="8665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4"/>
          <a:stretch/>
        </p:blipFill>
        <p:spPr>
          <a:xfrm>
            <a:off x="6084720" y="3573360"/>
            <a:ext cx="798840" cy="9352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5"/>
          <a:stretch/>
        </p:blipFill>
        <p:spPr>
          <a:xfrm>
            <a:off x="611280" y="5734080"/>
            <a:ext cx="647640" cy="8380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2556000" y="4653000"/>
            <a:ext cx="785520" cy="936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2627280" y="3573360"/>
            <a:ext cx="682560" cy="7923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8"/>
          <a:stretch/>
        </p:blipFill>
        <p:spPr>
          <a:xfrm>
            <a:off x="2771640" y="5661000"/>
            <a:ext cx="559080" cy="8636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9"/>
          <a:stretch/>
        </p:blipFill>
        <p:spPr>
          <a:xfrm>
            <a:off x="611280" y="4653000"/>
            <a:ext cx="757080" cy="8636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0"/>
          <a:stretch/>
        </p:blipFill>
        <p:spPr>
          <a:xfrm>
            <a:off x="6012000" y="4581360"/>
            <a:ext cx="752400" cy="82872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1"/>
          <a:stretch/>
        </p:blipFill>
        <p:spPr>
          <a:xfrm>
            <a:off x="5940360" y="5661000"/>
            <a:ext cx="957240" cy="10080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2"/>
          <a:stretch/>
        </p:blipFill>
        <p:spPr>
          <a:xfrm>
            <a:off x="8101080" y="4581360"/>
            <a:ext cx="708120" cy="936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3"/>
          <a:stretch/>
        </p:blipFill>
        <p:spPr>
          <a:xfrm>
            <a:off x="8028000" y="3573360"/>
            <a:ext cx="849240" cy="863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4"/>
          <a:stretch/>
        </p:blipFill>
        <p:spPr>
          <a:xfrm>
            <a:off x="8101080" y="5661000"/>
            <a:ext cx="7128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http://www.island-formoza.ru/tech_bred/6/count_aust.gif"/>
          <p:cNvPicPr/>
          <p:nvPr/>
        </p:nvPicPr>
        <p:blipFill>
          <a:blip r:embed="rId2"/>
          <a:stretch/>
        </p:blipFill>
        <p:spPr>
          <a:xfrm>
            <a:off x="179280" y="907920"/>
            <a:ext cx="84362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38" name="Picture 5" descr="J0078711"/>
          <p:cNvPicPr/>
          <p:nvPr/>
        </p:nvPicPr>
        <p:blipFill>
          <a:blip r:embed="rId2"/>
          <a:stretch/>
        </p:blipFill>
        <p:spPr>
          <a:xfrm>
            <a:off x="324000" y="549360"/>
            <a:ext cx="1098360" cy="2663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3" descr="J0076231"/>
          <p:cNvPicPr/>
          <p:nvPr/>
        </p:nvPicPr>
        <p:blipFill>
          <a:blip r:embed="rId3"/>
          <a:stretch/>
        </p:blipFill>
        <p:spPr>
          <a:xfrm>
            <a:off x="1332000" y="1628640"/>
            <a:ext cx="2009520" cy="1762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3" descr="J0076231"/>
          <p:cNvPicPr/>
          <p:nvPr/>
        </p:nvPicPr>
        <p:blipFill>
          <a:blip r:embed="rId4"/>
          <a:stretch/>
        </p:blipFill>
        <p:spPr>
          <a:xfrm>
            <a:off x="3276720" y="1700280"/>
            <a:ext cx="2009520" cy="1762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J0076231"/>
          <p:cNvPicPr/>
          <p:nvPr/>
        </p:nvPicPr>
        <p:blipFill>
          <a:blip r:embed="rId5"/>
          <a:stretch/>
        </p:blipFill>
        <p:spPr>
          <a:xfrm>
            <a:off x="4932360" y="907920"/>
            <a:ext cx="2009880" cy="1762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3" descr="J0076231"/>
          <p:cNvPicPr/>
          <p:nvPr/>
        </p:nvPicPr>
        <p:blipFill>
          <a:blip r:embed="rId6"/>
          <a:stretch/>
        </p:blipFill>
        <p:spPr>
          <a:xfrm>
            <a:off x="6659640" y="404640"/>
            <a:ext cx="2009520" cy="17622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6"/>
          <p:cNvSpPr/>
          <p:nvPr/>
        </p:nvSpPr>
        <p:spPr>
          <a:xfrm>
            <a:off x="468360" y="3573360"/>
            <a:ext cx="82296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а опушке леса я видел  быков. Их было 2 руки и 2 паль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колько быков увидел древний охот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8" descr="PE02108_"/>
          <p:cNvPicPr/>
          <p:nvPr/>
        </p:nvPicPr>
        <p:blipFill>
          <a:blip r:embed="rId7"/>
          <a:stretch/>
        </p:blipFill>
        <p:spPr>
          <a:xfrm>
            <a:off x="611280" y="5373720"/>
            <a:ext cx="1657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9413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На горе виднелись мамонты. Их было одна рука и три пальца. Сколько было мамонтов?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2736720" cy="18255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5364000" y="1844640"/>
            <a:ext cx="2737080" cy="18273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364000" y="0"/>
            <a:ext cx="2737080" cy="18273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2627280" y="1844640"/>
            <a:ext cx="2736720" cy="1825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J0078711"/>
          <p:cNvPicPr/>
          <p:nvPr/>
        </p:nvPicPr>
        <p:blipFill>
          <a:blip r:embed="rId6"/>
          <a:stretch/>
        </p:blipFill>
        <p:spPr>
          <a:xfrm>
            <a:off x="395280" y="47628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149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На лугу паслись овцы. Их было 1 рука и 4 пальца. Сколько было овец?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52" name="Picture 5" descr="J0078711"/>
          <p:cNvPicPr/>
          <p:nvPr/>
        </p:nvPicPr>
        <p:blipFill>
          <a:blip r:embed="rId2"/>
          <a:stretch/>
        </p:blipFill>
        <p:spPr>
          <a:xfrm>
            <a:off x="179280" y="549360"/>
            <a:ext cx="1365480" cy="3311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2468880" cy="18288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1979640" y="1844640"/>
            <a:ext cx="2468520" cy="18288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tretch/>
        </p:blipFill>
        <p:spPr>
          <a:xfrm>
            <a:off x="3635280" y="1628640"/>
            <a:ext cx="2468520" cy="18288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6"/>
          <a:stretch/>
        </p:blipFill>
        <p:spPr>
          <a:xfrm>
            <a:off x="6516720" y="333360"/>
            <a:ext cx="2468520" cy="18288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7"/>
          <a:stretch/>
        </p:blipFill>
        <p:spPr>
          <a:xfrm>
            <a:off x="5219640" y="1989000"/>
            <a:ext cx="2468520" cy="18288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8"/>
          <a:stretch/>
        </p:blipFill>
        <p:spPr>
          <a:xfrm>
            <a:off x="6675480" y="1484280"/>
            <a:ext cx="2468520" cy="18288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9"/>
          <a:stretch/>
        </p:blipFill>
        <p:spPr>
          <a:xfrm>
            <a:off x="3059280" y="333360"/>
            <a:ext cx="2468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1"/>
          <p:cNvSpPr/>
          <p:nvPr/>
        </p:nvSpPr>
        <p:spPr>
          <a:xfrm>
            <a:off x="468360" y="404640"/>
            <a:ext cx="81043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1581f"/>
                </a:solidFill>
                <a:latin typeface="Arial"/>
              </a:rPr>
              <a:t>История цифр не законч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ожет следующую страничку напишите в ней В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" descr="C:\Users\Светлана Викторовна\AppData\Local\Microsoft\Windows\Temporary Internet Files\Content.IE5\PQD2E0S4\MC900410945[1].wmf"/>
          <p:cNvPicPr/>
          <p:nvPr/>
        </p:nvPicPr>
        <p:blipFill>
          <a:blip r:embed="rId2"/>
          <a:stretch/>
        </p:blipFill>
        <p:spPr>
          <a:xfrm>
            <a:off x="2835360" y="3790800"/>
            <a:ext cx="3473280" cy="2873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C:\Users\Светлана Викторовна\AppData\Local\Microsoft\Windows\Temporary Internet Files\Content.IE5\Z83MRHT0\MP900387688[1].jpg"/>
          <p:cNvPicPr/>
          <p:nvPr/>
        </p:nvPicPr>
        <p:blipFill>
          <a:blip r:embed="rId3"/>
          <a:stretch/>
        </p:blipFill>
        <p:spPr>
          <a:xfrm>
            <a:off x="250920" y="5013360"/>
            <a:ext cx="2346120" cy="16732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7" descr="C:\Users\Светлана Викторовна\AppData\Local\Microsoft\Windows\Temporary Internet Files\Content.IE5\63HL7ZCV\MC900332680[1].wmf"/>
          <p:cNvPicPr/>
          <p:nvPr/>
        </p:nvPicPr>
        <p:blipFill>
          <a:blip r:embed="rId4"/>
          <a:stretch/>
        </p:blipFill>
        <p:spPr>
          <a:xfrm>
            <a:off x="6308640" y="3573360"/>
            <a:ext cx="2635200" cy="31021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C:\Users\Светлана Викторовна\AppData\Local\Microsoft\Windows\Temporary Internet Files\Content.IE5\Z83MRHT0\MC900295556[1].wmf"/>
          <p:cNvPicPr/>
          <p:nvPr/>
        </p:nvPicPr>
        <p:blipFill>
          <a:blip r:embed="rId5"/>
          <a:stretch/>
        </p:blipFill>
        <p:spPr>
          <a:xfrm>
            <a:off x="3216240" y="981000"/>
            <a:ext cx="2711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5" descr="14"/>
          <p:cNvPicPr/>
          <p:nvPr/>
        </p:nvPicPr>
        <p:blipFill>
          <a:blip r:embed="rId2"/>
          <a:stretch/>
        </p:blipFill>
        <p:spPr>
          <a:xfrm>
            <a:off x="826920" y="836640"/>
            <a:ext cx="77058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0" descr="http://lib.1september.ru/2004/13/4_1.jpg"/>
          <p:cNvPicPr/>
          <p:nvPr/>
        </p:nvPicPr>
        <p:blipFill>
          <a:blip r:embed="rId2"/>
          <a:stretch/>
        </p:blipFill>
        <p:spPr>
          <a:xfrm>
            <a:off x="3851280" y="2565360"/>
            <a:ext cx="5072040" cy="40147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http://www.home-edu.ru/user/f/00000611/01/modul1/raboti-detei/tv_rab-zanitie-5/ris-5-1.jpg"/>
          <p:cNvPicPr/>
          <p:nvPr/>
        </p:nvPicPr>
        <p:blipFill>
          <a:blip r:embed="rId3"/>
          <a:stretch/>
        </p:blipFill>
        <p:spPr>
          <a:xfrm>
            <a:off x="324000" y="1197000"/>
            <a:ext cx="34480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94" name="Picture 4" descr="soch copy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1700280"/>
            <a:ext cx="56894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96" name="Picture 14" descr="J0076231"/>
          <p:cNvPicPr/>
          <p:nvPr/>
        </p:nvPicPr>
        <p:blipFill>
          <a:blip r:embed="rId2"/>
          <a:stretch/>
        </p:blipFill>
        <p:spPr>
          <a:xfrm>
            <a:off x="468360" y="2133720"/>
            <a:ext cx="2663640" cy="2334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4" descr="J0076231"/>
          <p:cNvPicPr/>
          <p:nvPr/>
        </p:nvPicPr>
        <p:blipFill>
          <a:blip r:embed="rId3"/>
          <a:stretch/>
        </p:blipFill>
        <p:spPr>
          <a:xfrm>
            <a:off x="5651640" y="4005360"/>
            <a:ext cx="2442960" cy="2143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4" descr="J0076231"/>
          <p:cNvPicPr/>
          <p:nvPr/>
        </p:nvPicPr>
        <p:blipFill>
          <a:blip r:embed="rId4"/>
          <a:stretch/>
        </p:blipFill>
        <p:spPr>
          <a:xfrm>
            <a:off x="5651640" y="1700280"/>
            <a:ext cx="25858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Сравните и скажите чего больш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00" name="Текст 7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2016000" cy="1493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J0076231"/>
          <p:cNvPicPr/>
          <p:nvPr/>
        </p:nvPicPr>
        <p:blipFill>
          <a:blip r:embed="rId3"/>
          <a:stretch/>
        </p:blipFill>
        <p:spPr>
          <a:xfrm>
            <a:off x="4067280" y="1052640"/>
            <a:ext cx="2009520" cy="17618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3" descr="J0076231"/>
          <p:cNvPicPr/>
          <p:nvPr/>
        </p:nvPicPr>
        <p:blipFill>
          <a:blip r:embed="rId4"/>
          <a:stretch/>
        </p:blipFill>
        <p:spPr>
          <a:xfrm>
            <a:off x="3924360" y="2205000"/>
            <a:ext cx="2009880" cy="17622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3995640" y="4221000"/>
            <a:ext cx="1727280" cy="15973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468360" y="3860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443640" y="907920"/>
            <a:ext cx="1441440" cy="1439640"/>
            <a:chOff x="6443640" y="907920"/>
            <a:chExt cx="1441440" cy="1439640"/>
          </a:xfrm>
        </p:grpSpPr>
        <p:pic>
          <p:nvPicPr>
            <p:cNvPr id="507" name="Picture 7" descr=""/>
            <p:cNvPicPr/>
            <p:nvPr/>
          </p:nvPicPr>
          <p:blipFill>
            <a:blip r:embed="rId2"/>
            <a:srcRect l="14296" t="0" r="33309" b="76083"/>
            <a:stretch/>
          </p:blipFill>
          <p:spPr>
            <a:xfrm>
              <a:off x="7164360" y="162864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7" descr=""/>
            <p:cNvPicPr/>
            <p:nvPr/>
          </p:nvPicPr>
          <p:blipFill>
            <a:blip r:embed="rId3"/>
            <a:srcRect l="14296" t="0" r="33309" b="76083"/>
            <a:stretch/>
          </p:blipFill>
          <p:spPr>
            <a:xfrm>
              <a:off x="6443640" y="907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7" descr=""/>
            <p:cNvPicPr/>
            <p:nvPr/>
          </p:nvPicPr>
          <p:blipFill>
            <a:blip r:embed="rId4"/>
            <a:srcRect l="14296" t="0" r="33309" b="76083"/>
            <a:stretch/>
          </p:blipFill>
          <p:spPr>
            <a:xfrm>
              <a:off x="7164360" y="907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7" descr=""/>
            <p:cNvPicPr/>
            <p:nvPr/>
          </p:nvPicPr>
          <p:blipFill>
            <a:blip r:embed="rId5"/>
            <a:srcRect l="14296" t="0" r="33309" b="76083"/>
            <a:stretch/>
          </p:blipFill>
          <p:spPr>
            <a:xfrm>
              <a:off x="6443640" y="1628640"/>
              <a:ext cx="720720" cy="71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1" name="" descr=""/>
          <p:cNvPicPr/>
          <p:nvPr/>
        </p:nvPicPr>
        <p:blipFill>
          <a:blip r:embed="rId6"/>
          <a:stretch/>
        </p:blipFill>
        <p:spPr>
          <a:xfrm>
            <a:off x="684360" y="4437000"/>
            <a:ext cx="3292200" cy="17938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7"/>
          <a:stretch/>
        </p:blipFill>
        <p:spPr>
          <a:xfrm>
            <a:off x="4724280" y="3182760"/>
            <a:ext cx="4419720" cy="36752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8"/>
          <a:stretch/>
        </p:blipFill>
        <p:spPr>
          <a:xfrm>
            <a:off x="539640" y="115920"/>
            <a:ext cx="3810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752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3232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1:07:32Z</dcterms:created>
  <dc:creator>Рифат-Галия</dc:creator>
  <dc:description/>
  <cp:keywords/>
  <dc:language>en-US</dc:language>
  <cp:lastModifiedBy>BenQ CUSTOMER</cp:lastModifiedBy>
  <dcterms:modified xsi:type="dcterms:W3CDTF">2013-10-16T15:08:34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