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3.gif" ContentType="image/gif"/>
  <Override PartName="/ppt/media/image36.wmf" ContentType="image/x-wmf"/>
  <Override PartName="/ppt/media/image16.jpeg" ContentType="image/jpeg"/>
  <Override PartName="/ppt/media/image39.wmf" ContentType="image/x-wmf"/>
  <Override PartName="/ppt/media/image30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41.wmf" ContentType="image/x-wmf"/>
  <Override PartName="/ppt/media/image8.png" ContentType="image/png"/>
  <Override PartName="/ppt/media/image12.gif" ContentType="image/gif"/>
  <Override PartName="/ppt/media/image40.jpeg" ContentType="image/jpeg"/>
  <Override PartName="/ppt/media/image28.png" ContentType="image/png"/>
  <Override PartName="/ppt/media/image38.jpeg" ContentType="image/jpeg"/>
  <Override PartName="/ppt/media/image9.jpeg" ContentType="image/jpeg"/>
  <Override PartName="/ppt/media/image42.wmf" ContentType="image/x-wmf"/>
  <Override PartName="/ppt/media/image37.wmf" ContentType="image/x-wmf"/>
  <Override PartName="/ppt/media/image7.wmf" ContentType="image/x-wmf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7791-675E-4192-99E3-0A100EE3B7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A82-832F-41DB-8F2B-D1607B5B6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D27A-8A51-4940-9EC3-7AA03A657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5E7-0830-4AC9-BA16-6C4A9FC69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CED-C1D7-4211-94D0-EF2A54404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D001-6C37-4997-A1A4-877AD557D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DDC-777E-4577-9724-20D0B28E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284-7EAB-44B7-A608-485437D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37B27-1DF6-47CB-864E-7F34399F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6EC19-C39C-42DC-AD06-A64AF83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F2F5A-23AC-4513-BC17-746B2BDE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DCDF3-7710-4040-9339-065AE940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646AB-B628-40B0-AB34-21EC74C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5EE26-555D-4834-A851-7E882D1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DB12E-721F-46E3-81C9-944A964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FF264-46C7-4D43-BAA0-76DF2FB2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09F0-FA3E-4DBF-B72D-4166EB25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02715-C47C-4F3F-85D5-FCA78B2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6BB-DCD0-4742-881C-AAD4E070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8AD6-0DEB-4BFE-80FC-E22C5F7D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57953-4329-411F-A798-51FC5273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DCC49-C982-426C-8284-C6DFBC85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F7094-B6BB-4FCD-BEB4-7CEB6E2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1AD0-683F-4AEE-965D-B599F22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2B410-A245-4212-A80F-4015F32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38469-D6D5-4E2E-BE0D-CF68685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BB29F-7764-424F-8382-BFA19B9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8B19D-70C8-4AC7-9EA8-4B6AD72A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DDE59-D160-46C7-AFEE-109E1827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EB0-21BD-4479-88DB-A89E34FC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428D0-B707-4D3D-A819-641045D5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0153-3D84-4442-85DB-171130F2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A2E90-3BDD-4471-B0C7-DC5898D9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136E-7201-46D9-BAD4-E67B84DF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40DB-EB23-4224-92C0-E0BBA083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F977-1E93-40D0-9A74-788B182C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9ECC1-E5F2-4957-A174-2C7D9E6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34F9-6C6A-4DB6-A510-13E6F3E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C42C1-DEC0-4443-949E-677A3AD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A12E-C351-4168-B903-C97934A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5F4E-DFEA-4993-BA1D-3EAFB9A3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3710-334F-495A-BE90-FEB1105E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5E0E-FE31-42B1-B030-FC5879A9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6D7D8-670E-4AFD-B0A7-2353F29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3C1F-8FE8-4B03-8355-0819451C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B307-BD9C-4D46-915D-4F8ED77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5BD-50BB-450B-A0D1-50611C9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25EC-F9DC-449F-9549-1BDDF30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7536-3334-451E-9CCB-48F39BC9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11E6-C9E6-489B-A961-EB7E033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DE6-345C-4E10-81ED-96025306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0A8-00D0-4231-8C15-2A6E663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6A2A-E714-4019-BE62-A5F970C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2C8-C8B9-4CEA-9E51-C05CD5AF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CED-E571-4300-B81B-718882BC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1C2-4838-4F8C-9F45-1904E776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7AC76-672D-4CD2-924B-7C501A10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8162-D224-4413-BA87-AFBC20A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A2CC-964A-450F-9C12-E97441B1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AE68-89DC-4114-90C3-5CBAC218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DF47-E9AE-4011-B784-F138B244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982-62A8-4748-8E62-598128C6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4836-1C9F-43CC-80B4-6E8DFFF3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4918-9187-4140-8B12-F69B93F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10251-F44D-48B9-85F7-DC9B739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4CB4-7596-48B9-A32C-8703DE75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5636-6711-4CD0-98E5-B1CAEAA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CFA2-8A42-4627-80E3-D9A3F472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9CE0-9991-46DF-88D2-C949EC2B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B378-C485-4663-97D5-FC26589A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8610-AE21-4F08-AA16-E1E8BF1F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001C-FAC6-4808-9EF4-426383A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905-5B8E-4B50-B326-B5F3BF3E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7067-BADE-4984-8B87-E31F601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A70D-09BE-468A-9658-82485F3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2B3A1-2D70-4EC6-A4C3-0E18E8C1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C7BD-9D83-4092-B3E6-3102147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AC77-AF70-4B6E-A61D-84789E5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BF26-CB07-4A88-8BBE-74DFF99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4EC5-01AE-4D49-A0A3-B15222B6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D8BE-9708-4DC0-9156-D24B3308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A3D4-EC13-4C7B-9910-43308CAF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A4A3-B192-441C-804B-15231BCD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465-E501-4D55-9E9C-1C92BA1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EEFB5-16DE-4AF5-A335-648C1D18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32C0-0B75-4050-A7E6-103F8BE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6F8A-AF83-443B-8AD5-113E4F4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61D1-8A13-4D84-B7F3-994377EE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0F5D-EDAE-4BF0-AB3B-E1229BF0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26A8-18ED-4E96-A233-9369E08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BA03-E97B-433D-8F87-F01B38F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0771-1093-4D44-9CC2-B224375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2450-235E-480E-A253-0E49380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77528-CBB8-4031-9540-C132E412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9E2-30AC-4344-B0B5-797EA5D4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6047-B62C-460A-BC6D-CE6DF0BA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D6B0-BE89-4235-BD83-67F6F594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76784-E436-4F5E-A678-FE61359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C10B9-B84A-4FAD-BE7A-4626175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E8F9-94F6-4423-94E0-47DA92A3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05CC-E06C-4302-BC2D-CE11F36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3552-58F8-46AC-9D37-064D2C95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1713-C0F2-4F0D-B113-6F8BE7F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4215-A30D-4605-BDA1-0D08B5A6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64B1-207C-4AB1-9627-8E0B3FE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C09-B602-4364-B22B-8201B29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EDCBB-BE85-4F9E-8A51-707801EF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BBF2-0C2A-4D81-8078-9202CF02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1FB8-21A3-4AD3-B69B-C243C7AF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4C28-7A30-45A6-8FCF-C16169A0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FCDA9-27D1-402E-BEE0-DD03CC2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A00F-2B79-4027-A5F0-8F17688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56B2-9DB2-4C80-9152-F888D1F3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0C1BC-2887-4E73-B426-0C3DD6A6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916E-CA43-42AA-B91C-CF8EEA2C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6F37E-0877-4449-B4F5-6DB6C72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2BF-DE12-45FA-9C43-236265E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3A38-A952-48A9-9292-D4BE9EF6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3C70-3B73-4929-BFB0-FC5BD55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AF39-4737-4032-B3C1-245B5AC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01D6-A15C-4406-A962-1AC2A427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2B72-A51D-4A08-A9F3-23B5C9A0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AF7C6-B0CE-4621-9537-3213224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1FEB-2855-4EF8-808E-E3D22A7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2F238-A507-4F6F-A578-FA515B4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C3235-4BAD-4D3E-8B12-A543356E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7C4A5-11DE-411C-B955-83E100A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7DF-8E11-4617-8868-80FACB9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49B8-0A32-488D-BBC0-053A75B6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0416-B3B8-48A3-BB7F-5B44490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F1DB-CDEC-41F7-8426-9D65D21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470A-82BA-4D41-864D-F6CC8AE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4629-C8C8-4921-97DA-7DFA3836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1FE2-37A8-4D0B-9F7C-FCFA44B4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4C6C-EF04-4ACA-80C1-4923D2FD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EF450-B7FF-4160-9BCA-E029D8B8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A94AD-C511-4626-973B-03BB3516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6046-50E7-4183-B87F-F345C61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CFFE-B965-43C4-AF1E-2A16E6A55C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C38-017C-41D2-B473-A210340C9C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304C-49C5-4841-8E07-2EBF894992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5CB-9962-44FF-9B7E-5A5760B4DC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C2DD-6108-4547-A953-07178A17BAC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3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04E-BDC9-49D5-8BD1-84478C85FF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2DC7-5406-4DEE-A962-91F7A8AFF7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D1C8-6EC9-4923-89F2-BFF2A3E10F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7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150-E2D5-4A1C-A069-1C18E9D52E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C555-EADE-431B-87C7-4D40708B90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9074-D486-4490-90BF-288D04789F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wmf"/><Relationship Id="rId3" Type="http://schemas.openxmlformats.org/officeDocument/2006/relationships/image" Target="../media/image40.jpe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2"/>
          <a:stretch/>
        </p:blipFill>
        <p:spPr>
          <a:xfrm>
            <a:off x="-92160" y="3029040"/>
            <a:ext cx="9090000" cy="2560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C:\Users\Светлана Викторовна\AppData\Local\Microsoft\Windows\Temporary Internet Files\Content.IE5\Z83MRHT0\MC900233964[1].wmf"/>
          <p:cNvPicPr/>
          <p:nvPr/>
        </p:nvPicPr>
        <p:blipFill>
          <a:blip r:embed="rId3"/>
          <a:stretch/>
        </p:blipFill>
        <p:spPr>
          <a:xfrm>
            <a:off x="2050920" y="333360"/>
            <a:ext cx="3816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21" name="Picture 1" descr="майя_resize"/>
          <p:cNvPicPr/>
          <p:nvPr/>
        </p:nvPicPr>
        <p:blipFill>
          <a:blip r:embed="rId2"/>
          <a:stretch/>
        </p:blipFill>
        <p:spPr>
          <a:xfrm>
            <a:off x="755640" y="1125360"/>
            <a:ext cx="7783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опоставьте картинку и цифру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23" name="Picture 1" descr="майя_resize"/>
          <p:cNvPicPr/>
          <p:nvPr/>
        </p:nvPicPr>
        <p:blipFill>
          <a:blip r:embed="rId2"/>
          <a:stretch/>
        </p:blipFill>
        <p:spPr>
          <a:xfrm>
            <a:off x="1187280" y="765000"/>
            <a:ext cx="6561360" cy="26067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809640" cy="8665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6084720" y="3573360"/>
            <a:ext cx="798840" cy="935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>
            <a:off x="611280" y="5734080"/>
            <a:ext cx="647640" cy="838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2556000" y="4653000"/>
            <a:ext cx="785520" cy="93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2627280" y="3573360"/>
            <a:ext cx="682560" cy="7923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>
            <a:off x="2771640" y="5661000"/>
            <a:ext cx="559080" cy="8636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9"/>
          <a:stretch/>
        </p:blipFill>
        <p:spPr>
          <a:xfrm>
            <a:off x="611280" y="4653000"/>
            <a:ext cx="757080" cy="8636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0"/>
          <a:stretch/>
        </p:blipFill>
        <p:spPr>
          <a:xfrm>
            <a:off x="6012000" y="4581360"/>
            <a:ext cx="752400" cy="8287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1"/>
          <a:stretch/>
        </p:blipFill>
        <p:spPr>
          <a:xfrm>
            <a:off x="5940360" y="5661000"/>
            <a:ext cx="957240" cy="1008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2"/>
          <a:stretch/>
        </p:blipFill>
        <p:spPr>
          <a:xfrm>
            <a:off x="8101080" y="4581360"/>
            <a:ext cx="708120" cy="93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3"/>
          <a:stretch/>
        </p:blipFill>
        <p:spPr>
          <a:xfrm>
            <a:off x="8028000" y="3573360"/>
            <a:ext cx="84924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4"/>
          <a:stretch/>
        </p:blipFill>
        <p:spPr>
          <a:xfrm>
            <a:off x="8101080" y="5661000"/>
            <a:ext cx="7128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http://www.island-formoza.ru/tech_bred/6/count_aust.gif"/>
          <p:cNvPicPr/>
          <p:nvPr/>
        </p:nvPicPr>
        <p:blipFill>
          <a:blip r:embed="rId2"/>
          <a:stretch/>
        </p:blipFill>
        <p:spPr>
          <a:xfrm>
            <a:off x="179280" y="907920"/>
            <a:ext cx="84362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38" name="Picture 5" descr="J0078711"/>
          <p:cNvPicPr/>
          <p:nvPr/>
        </p:nvPicPr>
        <p:blipFill>
          <a:blip r:embed="rId2"/>
          <a:stretch/>
        </p:blipFill>
        <p:spPr>
          <a:xfrm>
            <a:off x="324000" y="549360"/>
            <a:ext cx="1098360" cy="266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3" descr="J0076231"/>
          <p:cNvPicPr/>
          <p:nvPr/>
        </p:nvPicPr>
        <p:blipFill>
          <a:blip r:embed="rId3"/>
          <a:stretch/>
        </p:blipFill>
        <p:spPr>
          <a:xfrm>
            <a:off x="1332000" y="1628640"/>
            <a:ext cx="2009520" cy="1762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J0076231"/>
          <p:cNvPicPr/>
          <p:nvPr/>
        </p:nvPicPr>
        <p:blipFill>
          <a:blip r:embed="rId4"/>
          <a:stretch/>
        </p:blipFill>
        <p:spPr>
          <a:xfrm>
            <a:off x="3276720" y="1700280"/>
            <a:ext cx="2009520" cy="1762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J0076231"/>
          <p:cNvPicPr/>
          <p:nvPr/>
        </p:nvPicPr>
        <p:blipFill>
          <a:blip r:embed="rId5"/>
          <a:stretch/>
        </p:blipFill>
        <p:spPr>
          <a:xfrm>
            <a:off x="4932360" y="907920"/>
            <a:ext cx="2009880" cy="17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J0076231"/>
          <p:cNvPicPr/>
          <p:nvPr/>
        </p:nvPicPr>
        <p:blipFill>
          <a:blip r:embed="rId6"/>
          <a:stretch/>
        </p:blipFill>
        <p:spPr>
          <a:xfrm>
            <a:off x="6659640" y="404640"/>
            <a:ext cx="2009520" cy="17622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6"/>
          <p:cNvSpPr/>
          <p:nvPr/>
        </p:nvSpPr>
        <p:spPr>
          <a:xfrm>
            <a:off x="468360" y="3573360"/>
            <a:ext cx="8229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 опушке леса я видел  быков. Их было 2 руки и 2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колько быков увидел древний охо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8" descr="PE02108_"/>
          <p:cNvPicPr/>
          <p:nvPr/>
        </p:nvPicPr>
        <p:blipFill>
          <a:blip r:embed="rId7"/>
          <a:stretch/>
        </p:blipFill>
        <p:spPr>
          <a:xfrm>
            <a:off x="611280" y="5373720"/>
            <a:ext cx="1657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9413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На горе виднелись мамонты. Их было одна рука и три пальца. Сколько было мамонтов?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364000" y="1844640"/>
            <a:ext cx="2737080" cy="18273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364000" y="0"/>
            <a:ext cx="2737080" cy="1827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2627280" y="1844640"/>
            <a:ext cx="2736720" cy="1825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J0078711"/>
          <p:cNvPicPr/>
          <p:nvPr/>
        </p:nvPicPr>
        <p:blipFill>
          <a:blip r:embed="rId6"/>
          <a:stretch/>
        </p:blipFill>
        <p:spPr>
          <a:xfrm>
            <a:off x="395280" y="47628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149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На лугу паслись овцы. Их было 1 рука и 4 пальца. Сколько было овец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52" name="Picture 5" descr="J0078711"/>
          <p:cNvPicPr/>
          <p:nvPr/>
        </p:nvPicPr>
        <p:blipFill>
          <a:blip r:embed="rId2"/>
          <a:stretch/>
        </p:blipFill>
        <p:spPr>
          <a:xfrm>
            <a:off x="179280" y="549360"/>
            <a:ext cx="1365480" cy="3311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2468880" cy="18288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979640" y="184464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3635280" y="162864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6516720" y="33336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5219640" y="198900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6675480" y="1484280"/>
            <a:ext cx="2468520" cy="18288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3059280" y="333360"/>
            <a:ext cx="246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1"/>
          <p:cNvSpPr/>
          <p:nvPr/>
        </p:nvSpPr>
        <p:spPr>
          <a:xfrm>
            <a:off x="468360" y="404640"/>
            <a:ext cx="8104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1581f"/>
                </a:solidFill>
                <a:latin typeface="Arial"/>
              </a:rPr>
              <a:t>История цифр не законч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ожет следующую страничку напишите в ней 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C:\Users\Светлана Викторовна\AppData\Local\Microsoft\Windows\Temporary Internet Files\Content.IE5\PQD2E0S4\MC900410945[1].wmf"/>
          <p:cNvPicPr/>
          <p:nvPr/>
        </p:nvPicPr>
        <p:blipFill>
          <a:blip r:embed="rId2"/>
          <a:stretch/>
        </p:blipFill>
        <p:spPr>
          <a:xfrm>
            <a:off x="2835360" y="3790800"/>
            <a:ext cx="3473280" cy="2873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C:\Users\Светлана Викторовна\AppData\Local\Microsoft\Windows\Temporary Internet Files\Content.IE5\Z83MRHT0\MP900387688[1].jpg"/>
          <p:cNvPicPr/>
          <p:nvPr/>
        </p:nvPicPr>
        <p:blipFill>
          <a:blip r:embed="rId3"/>
          <a:stretch/>
        </p:blipFill>
        <p:spPr>
          <a:xfrm>
            <a:off x="250920" y="5013360"/>
            <a:ext cx="2346120" cy="1673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C:\Users\Светлана Викторовна\AppData\Local\Microsoft\Windows\Temporary Internet Files\Content.IE5\63HL7ZCV\MC900332680[1].wmf"/>
          <p:cNvPicPr/>
          <p:nvPr/>
        </p:nvPicPr>
        <p:blipFill>
          <a:blip r:embed="rId4"/>
          <a:stretch/>
        </p:blipFill>
        <p:spPr>
          <a:xfrm>
            <a:off x="6308640" y="3573360"/>
            <a:ext cx="2635200" cy="31021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C:\Users\Светлана Викторовна\AppData\Local\Microsoft\Windows\Temporary Internet Files\Content.IE5\Z83MRHT0\MC900295556[1].wmf"/>
          <p:cNvPicPr/>
          <p:nvPr/>
        </p:nvPicPr>
        <p:blipFill>
          <a:blip r:embed="rId5"/>
          <a:stretch/>
        </p:blipFill>
        <p:spPr>
          <a:xfrm>
            <a:off x="3216240" y="981000"/>
            <a:ext cx="2711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14"/>
          <p:cNvPicPr/>
          <p:nvPr/>
        </p:nvPicPr>
        <p:blipFill>
          <a:blip r:embed="rId2"/>
          <a:stretch/>
        </p:blipFill>
        <p:spPr>
          <a:xfrm>
            <a:off x="826920" y="836640"/>
            <a:ext cx="77058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0" descr="http://lib.1september.ru/2004/13/4_1.jpg"/>
          <p:cNvPicPr/>
          <p:nvPr/>
        </p:nvPicPr>
        <p:blipFill>
          <a:blip r:embed="rId2"/>
          <a:stretch/>
        </p:blipFill>
        <p:spPr>
          <a:xfrm>
            <a:off x="3851280" y="2565360"/>
            <a:ext cx="5072040" cy="4014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http://www.home-edu.ru/user/f/00000611/01/modul1/raboti-detei/tv_rab-zanitie-5/ris-5-1.jpg"/>
          <p:cNvPicPr/>
          <p:nvPr/>
        </p:nvPicPr>
        <p:blipFill>
          <a:blip r:embed="rId3"/>
          <a:stretch/>
        </p:blipFill>
        <p:spPr>
          <a:xfrm>
            <a:off x="324000" y="1197000"/>
            <a:ext cx="3448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4" name="Picture 4" descr="soch copy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1700280"/>
            <a:ext cx="5689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6" name="Picture 14" descr="J0076231"/>
          <p:cNvPicPr/>
          <p:nvPr/>
        </p:nvPicPr>
        <p:blipFill>
          <a:blip r:embed="rId2"/>
          <a:stretch/>
        </p:blipFill>
        <p:spPr>
          <a:xfrm>
            <a:off x="468360" y="2133720"/>
            <a:ext cx="2663640" cy="2334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4" descr="J0076231"/>
          <p:cNvPicPr/>
          <p:nvPr/>
        </p:nvPicPr>
        <p:blipFill>
          <a:blip r:embed="rId3"/>
          <a:stretch/>
        </p:blipFill>
        <p:spPr>
          <a:xfrm>
            <a:off x="5651640" y="4005360"/>
            <a:ext cx="2442960" cy="2143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4" descr="J0076231"/>
          <p:cNvPicPr/>
          <p:nvPr/>
        </p:nvPicPr>
        <p:blipFill>
          <a:blip r:embed="rId4"/>
          <a:stretch/>
        </p:blipFill>
        <p:spPr>
          <a:xfrm>
            <a:off x="5651640" y="1700280"/>
            <a:ext cx="25858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Сравните и скажите чего больш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00" name="Текст 7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2016000" cy="1493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J0076231"/>
          <p:cNvPicPr/>
          <p:nvPr/>
        </p:nvPicPr>
        <p:blipFill>
          <a:blip r:embed="rId3"/>
          <a:stretch/>
        </p:blipFill>
        <p:spPr>
          <a:xfrm>
            <a:off x="4067280" y="1052640"/>
            <a:ext cx="2009520" cy="17618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J0076231"/>
          <p:cNvPicPr/>
          <p:nvPr/>
        </p:nvPicPr>
        <p:blipFill>
          <a:blip r:embed="rId4"/>
          <a:stretch/>
        </p:blipFill>
        <p:spPr>
          <a:xfrm>
            <a:off x="3924360" y="2205000"/>
            <a:ext cx="2009880" cy="17622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3995640" y="4221000"/>
            <a:ext cx="1727280" cy="15973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468360" y="3860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443640" y="907920"/>
            <a:ext cx="1441440" cy="1439640"/>
            <a:chOff x="6443640" y="907920"/>
            <a:chExt cx="1441440" cy="1439640"/>
          </a:xfrm>
        </p:grpSpPr>
        <p:pic>
          <p:nvPicPr>
            <p:cNvPr id="507" name="Picture 7" descr=""/>
            <p:cNvPicPr/>
            <p:nvPr/>
          </p:nvPicPr>
          <p:blipFill>
            <a:blip r:embed="rId2"/>
            <a:srcRect l="14296" t="0" r="33309" b="76083"/>
            <a:stretch/>
          </p:blipFill>
          <p:spPr>
            <a:xfrm>
              <a:off x="7164360" y="162864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7" descr=""/>
            <p:cNvPicPr/>
            <p:nvPr/>
          </p:nvPicPr>
          <p:blipFill>
            <a:blip r:embed="rId3"/>
            <a:srcRect l="14296" t="0" r="33309" b="76083"/>
            <a:stretch/>
          </p:blipFill>
          <p:spPr>
            <a:xfrm>
              <a:off x="6443640" y="907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7" descr=""/>
            <p:cNvPicPr/>
            <p:nvPr/>
          </p:nvPicPr>
          <p:blipFill>
            <a:blip r:embed="rId4"/>
            <a:srcRect l="14296" t="0" r="33309" b="76083"/>
            <a:stretch/>
          </p:blipFill>
          <p:spPr>
            <a:xfrm>
              <a:off x="7164360" y="907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7" descr=""/>
            <p:cNvPicPr/>
            <p:nvPr/>
          </p:nvPicPr>
          <p:blipFill>
            <a:blip r:embed="rId5"/>
            <a:srcRect l="14296" t="0" r="33309" b="76083"/>
            <a:stretch/>
          </p:blipFill>
          <p:spPr>
            <a:xfrm>
              <a:off x="6443640" y="1628640"/>
              <a:ext cx="720720" cy="71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1" name="" descr=""/>
          <p:cNvPicPr/>
          <p:nvPr/>
        </p:nvPicPr>
        <p:blipFill>
          <a:blip r:embed="rId6"/>
          <a:stretch/>
        </p:blipFill>
        <p:spPr>
          <a:xfrm>
            <a:off x="684360" y="4437000"/>
            <a:ext cx="3292200" cy="17938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4724280" y="3182760"/>
            <a:ext cx="4419720" cy="36752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8"/>
          <a:stretch/>
        </p:blipFill>
        <p:spPr>
          <a:xfrm>
            <a:off x="539640" y="115920"/>
            <a:ext cx="3810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52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3232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1:07:32Z</dcterms:created>
  <dc:creator>Рифат-Галия</dc:creator>
  <dc:description/>
  <cp:keywords/>
  <dc:language>en-US</dc:language>
  <cp:lastModifiedBy>BenQ CUSTOMER</cp:lastModifiedBy>
  <dcterms:modified xsi:type="dcterms:W3CDTF">2013-10-16T15:08:34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