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D6B9-5CC7-48A5-BD54-F7EA67EF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A425-8225-4A40-8B03-6E1D5ABC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4E83E-C3AD-4299-B513-D4143C64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2F8B1-BB5F-439C-8B7F-48EB3EE7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FB9C8-D644-4F5B-812A-FF23B69B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95699-CD00-4800-B522-E83BA1C8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0B3B0-748A-441A-AC77-ACD3E11D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9ACA2-78BC-4894-9E35-E607FF9A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6CDA7-78B2-4E19-8350-3E74DCF5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C2F5C-14CA-4D30-955C-8535E55A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9EBDE-ECD1-4FCF-8B9F-63EC34C7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38F06-F688-4B11-919A-6A6090A4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0529-5E65-46C3-990C-14C455FB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BDB35-90F1-4D41-81DA-6FCE80D3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1284B-C8A9-4DB9-B677-5EA3C90A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3DA4A-82A7-48F8-93A5-6B41A34D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727D0-F37F-4B34-8609-11CC5408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347E9-AA35-48CB-9C60-B00FAB82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58E8A-CFED-4C69-801B-636E6D0B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31751-94B2-444F-8521-B4546521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4A14D-7B46-4687-9587-28CB75BB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F602D-46F4-4D32-BEAE-F4FDD0CA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13E70-CEC2-4361-9440-6A024759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C0C-826E-4925-8434-91263230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0F349-785D-430B-838E-9A67E80B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46896-4067-403D-8A6B-4EAD3299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6FFF2-BB94-4A28-8187-6FCD9431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F0092-97C9-4820-B540-944A0E28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DDF6E-2781-4309-A623-39851FE6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A350E-808A-467D-9C0C-E280EE56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4E21B-B5D7-45BA-97E6-4B00F7C9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4A2CC-48B3-416F-9481-547BCE68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6CB11-1296-4907-8352-4C0F2208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D2F27-2459-4CF7-ABC8-E9DDC7B5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CAF8-E58E-496A-8FB7-95A99AA3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ED08F-F827-41DE-A9A9-FFB2B408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325AB-9EEE-4BAE-9A4F-DB6E75C3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DA6E9-D192-4D16-ABBF-7CD112D8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9A408-E1C7-4340-B9C9-911BBD48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BF7DD-7D2A-4C5D-8E11-DC9A03BE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2CEAC-A8D1-4355-9F57-A5DBC65B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CC44A-3302-4CD4-858E-44975B8E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F429A-5DAF-4879-8CBE-B7C0DB63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0ED14-AEF6-4C7A-A828-24D960BE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667B5-564F-4F45-B7D9-CF19F410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2658-6DC6-46DA-8517-5350E538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8AE96-9499-4FCB-A71E-9272DB8A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F198B-B960-4005-BB28-3240EB8E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043DD-BF4D-41E1-88F4-42E7C7B4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84745-7498-4FFA-B193-96992650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1C473-B2D7-4856-9C9B-1E8E0DE6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A999DA-4169-4AC5-9B39-7931CC42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EEEE08-8D96-44A0-AC9F-B8AC8895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374585-70E2-4C6A-A831-B5AE40B7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1181D-CDE3-46CE-8B95-1BC9C718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70E00-FA16-48F3-A476-93446E33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B319-4293-46CA-ACB8-9D3A7432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CB19C-BD1F-434B-9A08-C88C4AAC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FEB859-82EA-4926-BB50-AD21EE77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3E906F-7F34-4EAE-A2AB-51EE405A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F533AF-F77D-4AED-AFDC-619B8DBC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13120-7ACE-4069-A1C9-9BE978EA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76C98-D75A-4085-933D-4098B90C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2E9CCF-4924-4450-B453-1782B595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6354-64E4-424D-9682-75350D22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6F6C-8175-4AA7-A881-BE14EBC3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7C9E-9C36-46B3-8A77-CCA8F90D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6024-D712-4A5F-BBE9-C804B133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CB6-8BB7-4E1B-A14A-0FB60781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C68F-2172-4D4E-B79E-2E672F82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55B2-03A3-4B73-BEE6-113E7B52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377F-D5DA-4399-89FD-C89D3D88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FB46-C8C3-4933-9DE7-DDF99CA5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E20D-D2D6-423A-BAC8-1E9C5BB9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55370-F293-4DB8-86CB-E58B5A64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EAF36-C5F7-43B3-8AF0-3166F026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83478-F74B-4526-8B5A-1E6B14A7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7ED7F-60D2-4825-8404-63E0E52A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E134A-C546-411F-89BF-9373AFE0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7F48-95CC-42A6-AB09-545F3332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AD83C-5FB5-44FF-92D9-487E6B2C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46938-45E2-4002-9879-5B2AEF6D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07106-AF07-436A-B941-754A585C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6B87F-B428-4CE0-876E-91103D7B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96462-EC70-4A4D-9479-C4BA7604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70590-7274-4C08-9FC3-4ADAE3A5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E8108-FE6A-458E-B971-5854528D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FC178-45DA-4916-939C-E2D85C07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2D2C4-8186-4666-A882-084E1D0E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D68CE-F8C9-433E-9642-F7EF3BC1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6FB-F7B1-4557-957E-84DBCDE5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3FD08-83DD-420F-9C54-D92D98F1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47FB1-A0A3-4C8D-9055-854B47BC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C30BC-38CA-47D9-813F-323F8705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08FE2-D5A6-4769-AB6C-A0697BB3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A662C-6F26-4530-8EE8-3575C0A5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8E4A3-52E5-490A-9986-0B0381A7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F682F-AD03-47FF-A7E1-0546F44F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91A61-B3ED-4063-AE30-545060D0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906AB-623C-4A4D-BF53-A59921ED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4EE2F-73C2-4BCA-B441-B62AC447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C4B4-D58D-4299-AF45-B18DE750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C42BF-A833-4F3E-8EBE-E43E419B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A6009-FB01-45B6-AD14-B9EBCA1A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6F70F-E210-4714-92B6-9150A540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C921E-3DD8-4880-9522-7EEBE608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2A979-7190-4B0F-A7DE-33D16C19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A49F2-0959-4AF2-8123-5D8F17D8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DDABA-D733-47DA-A94A-D8503E1F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F1929-78C0-418C-98CA-F5C073F9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CF526-D93F-4FDD-95E9-75FE3B3A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3B073-E556-432A-8569-FC06CBF3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4AB1-F836-4621-8FE1-82B4A75A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C386F-A98F-488D-8366-BA86E9D7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5E3CF-47DB-4A79-8915-46F1BFD3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835D2-55B2-4A5A-9BA8-3A7FFBC6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57B6C-4B77-4043-8772-CBAE9407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F15E5-9E4E-499A-834D-9838AC7D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E2623-A446-4178-ADEA-7F44E70B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DF59D-4792-4354-A88B-5A8371EF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25576-1009-4E93-A30A-AB3F445A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52C17-AB13-404A-B92D-6EBFB0A3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32337-3F84-4FF7-B538-EFB6ED73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D19-9FB2-49A4-83C6-7F872D5A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BCE68-158F-40AA-8F04-CEE576DF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053FE-7C4B-4A9E-87DB-2D107C3D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EB97E-2639-4076-B1D4-546784D2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1E96F-3E80-468D-BE38-19ED68C2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7FA9B-D638-480F-B1C3-51BBBA0F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6026D-F530-4EE5-8574-3E52337E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2CA1F-EAAE-46AD-BB85-57FF7139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B9A24-6B90-4C48-BC73-27397A24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1ACC0-EFFC-415E-81FC-73A53EB5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35AD4-1DF4-472A-ADF8-C60A7F75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B092-EFEA-4F6D-B934-A0FDDF76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4AAAF-4434-431D-9BBB-054D0D0C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F77D4-2245-4225-8C56-BD92C5C7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28015-CCB4-45E6-A7E5-9AEE2EB8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328F6-8AC8-4E63-BB79-2E8552BF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7A789-59C0-4D72-A272-08862F30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A5DC9-2C57-45C1-9C59-2BEEE584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738F8-5BB2-4D05-AA7C-9F98BF29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553CB-BE64-42D3-B1CD-406F8EEB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4F23A-A644-4272-B125-6AD280A2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499F4-B38A-4FDB-9E5A-C405A0D9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58D0-6C3E-4943-941B-2CFA204F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9600D-BA5C-4B74-95D1-842EC3A7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F51C6-E812-4B3F-B8EC-733BD17B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567B7-2063-48FD-89D1-346742A9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41684-82DB-4A00-8029-06EB53B9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94211-AF59-4416-9764-6A03F645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37B58-E79B-4DFE-81FF-2FE34E84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DCA95-5558-48C0-BD02-A89AACEC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71226-5F87-45A5-8FC5-405B76C4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887E0-C459-482F-A8E6-2F0BB17B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2A63A-077C-45B6-B86E-1C62F9FB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AF66-56A5-482D-B2CA-030178A436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A9BC-8BF8-4BA5-A542-82B4BD2C87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4632-4609-429E-B95C-F893470CAC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C726-3CCC-409D-A56B-CC827B155C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9A95-EE31-438B-8CD8-9139640DD53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A472-DBB8-4182-BD29-215EF095E2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1CF4-5A77-46B1-BB56-88EF48C5D4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C703-C145-4CB2-82AF-7992AA7006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FF5D-AFE7-4A02-A96C-00941157B9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3CC4-B17D-48EB-8D28-8E191A7CE8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D1BD-6508-41D1-93D9-3F396F6796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89E8-ECDD-4D9B-9F80-3A64B7BB5B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2B53-05CF-49CB-A15C-0304C43877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Заголовок 1"/>
          <p:cNvSpPr/>
          <p:nvPr/>
        </p:nvSpPr>
        <p:spPr>
          <a:xfrm>
            <a:off x="250920" y="692280"/>
            <a:ext cx="8569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92d050"/>
                </a:solidFill>
                <a:latin typeface="Calibri"/>
              </a:rPr>
              <a:t>Здравствуйте, ребята!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3" descr="http://poilovo.narod.ru/images/69.png"/>
          <p:cNvPicPr/>
          <p:nvPr/>
        </p:nvPicPr>
        <p:blipFill>
          <a:blip r:embed="rId1"/>
          <a:stretch/>
        </p:blipFill>
        <p:spPr>
          <a:xfrm>
            <a:off x="324000" y="3500280"/>
            <a:ext cx="3409920" cy="3098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331640" y="264600"/>
            <a:ext cx="7561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аучится выполнять проверку       умножения делением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читать равенства, используя математическую терминологию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решать уравнения, решать задачи изученных вид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Заголовок 1"/>
          <p:cNvSpPr/>
          <p:nvPr/>
        </p:nvSpPr>
        <p:spPr>
          <a:xfrm>
            <a:off x="91440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70c0"/>
                </a:solidFill>
                <a:latin typeface="Times New Roman"/>
              </a:rPr>
              <a:t>Алгорит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1"/>
          <p:cNvSpPr/>
          <p:nvPr/>
        </p:nvSpPr>
        <p:spPr>
          <a:xfrm>
            <a:off x="1547640" y="1663560"/>
            <a:ext cx="7166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1. Вспомнить компоненты действия данного урав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2. Определить неизвестный компонен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3. Вспомнить правило нахождения неизвестного компонен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абота в пар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476000" y="1134720"/>
            <a:ext cx="721044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36, 12, 3, Х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2*Х=36     Х=36:12   Х=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*Х=36       Х=36:3     Х=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*12=36     Х=36:12   Х=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*3=36       Х=36:3     Х=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6:Х=12      Х=36:12   Х=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6: Х = 3     Х=36:3     Х=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4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=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6=1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0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=6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13*6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=80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=1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78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=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4:16=4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8:6=1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0:16=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2" descr="http://madeinjune.ru/full.php?cizdr=relaluri/pic1147250.jpg"/>
          <p:cNvPicPr/>
          <p:nvPr/>
        </p:nvPicPr>
        <p:blipFill>
          <a:blip r:embed="rId2"/>
          <a:stretch/>
        </p:blipFill>
        <p:spPr>
          <a:xfrm>
            <a:off x="1376280" y="549360"/>
            <a:ext cx="7564680" cy="575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Отве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76000" y="11970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1 группа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2 группа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3 груп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*9=5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1:Х=9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*Х=57&lt;19*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7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*Х=36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*Х=2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0: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4 &gt;40: Х=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4: Х=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:3=18&lt;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3=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4 группа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5 группа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6 груп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*Х= 49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*9=5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1:Х=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3: Х= 9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*Х=36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*Х=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4:Х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907640" y="249228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.20 №7 и задание под знаком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6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2 феврал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асс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971640" y="620640"/>
            <a:ext cx="84963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2060"/>
                </a:solidFill>
                <a:latin typeface="Times New Roman"/>
              </a:rPr>
              <a:t>   </a:t>
            </a:r>
            <a:br>
              <a:rPr sz="44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Рисунок 1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4572000" cy="3303360"/>
          </a:xfrm>
          <a:prstGeom prst="rect">
            <a:avLst/>
          </a:prstGeom>
          <a:ln w="0">
            <a:noFill/>
          </a:ln>
        </p:spPr>
      </p:pic>
      <p:pic>
        <p:nvPicPr>
          <p:cNvPr id="538" name="Рисунок 2" descr=""/>
          <p:cNvPicPr/>
          <p:nvPr/>
        </p:nvPicPr>
        <p:blipFill>
          <a:blip r:embed="rId2"/>
          <a:srcRect l="0" t="14961" r="0" b="12441"/>
          <a:stretch/>
        </p:blipFill>
        <p:spPr>
          <a:xfrm>
            <a:off x="4356000" y="3492360"/>
            <a:ext cx="4572000" cy="3176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-й вариант – 1 цепочку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-й вариант – 2 цепоч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Объект 3" descr="http://festival.1september.ru/articles/638450/img1.gif"/>
          <p:cNvPicPr/>
          <p:nvPr/>
        </p:nvPicPr>
        <p:blipFill>
          <a:blip r:embed="rId1"/>
          <a:stretch/>
        </p:blipFill>
        <p:spPr>
          <a:xfrm>
            <a:off x="1908000" y="2492280"/>
            <a:ext cx="62643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Провери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2325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1 цепочка – 13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2 цепочка - 4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900000" y="692280"/>
            <a:ext cx="8496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*6=72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Прямоугольник 1"/>
          <p:cNvSpPr/>
          <p:nvPr/>
        </p:nvSpPr>
        <p:spPr>
          <a:xfrm>
            <a:off x="3492360" y="1341360"/>
            <a:ext cx="574920" cy="64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Прямоугольник 2"/>
          <p:cNvSpPr/>
          <p:nvPr/>
        </p:nvSpPr>
        <p:spPr>
          <a:xfrm>
            <a:off x="4079160" y="2470320"/>
            <a:ext cx="234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: 5=1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Прямоугольник 3"/>
          <p:cNvSpPr/>
          <p:nvPr/>
        </p:nvSpPr>
        <p:spPr>
          <a:xfrm>
            <a:off x="3492360" y="2606760"/>
            <a:ext cx="574920" cy="649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Прямоугольник 4"/>
          <p:cNvSpPr/>
          <p:nvPr/>
        </p:nvSpPr>
        <p:spPr>
          <a:xfrm>
            <a:off x="3408120" y="3765600"/>
            <a:ext cx="30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36: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=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Прямоугольник 5"/>
          <p:cNvSpPr/>
          <p:nvPr/>
        </p:nvSpPr>
        <p:spPr>
          <a:xfrm>
            <a:off x="4500720" y="3921120"/>
            <a:ext cx="574560" cy="625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-973080" y="-387360"/>
            <a:ext cx="10009080" cy="36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*6=72                    :5= 15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72:6= 12               15*5= 7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рка:            проверк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12*6= 72               75:5= 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Прямоугольник 1"/>
          <p:cNvSpPr/>
          <p:nvPr/>
        </p:nvSpPr>
        <p:spPr>
          <a:xfrm>
            <a:off x="1547640" y="260280"/>
            <a:ext cx="5032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Прямоугольник 2"/>
          <p:cNvSpPr/>
          <p:nvPr/>
        </p:nvSpPr>
        <p:spPr>
          <a:xfrm>
            <a:off x="6230520" y="487512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Прямоугольник 3"/>
          <p:cNvSpPr/>
          <p:nvPr/>
        </p:nvSpPr>
        <p:spPr>
          <a:xfrm>
            <a:off x="5364000" y="260280"/>
            <a:ext cx="50328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Прямоугольник 4"/>
          <p:cNvSpPr/>
          <p:nvPr/>
        </p:nvSpPr>
        <p:spPr>
          <a:xfrm>
            <a:off x="1406520" y="2997360"/>
            <a:ext cx="2507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36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=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6:12=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верк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6:3= 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Прямоугольник 5"/>
          <p:cNvSpPr/>
          <p:nvPr/>
        </p:nvSpPr>
        <p:spPr>
          <a:xfrm>
            <a:off x="2268360" y="3141720"/>
            <a:ext cx="503280" cy="512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900000" y="692280"/>
            <a:ext cx="8496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х*6 = 72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Прямоугольник 2"/>
          <p:cNvSpPr/>
          <p:nvPr/>
        </p:nvSpPr>
        <p:spPr>
          <a:xfrm>
            <a:off x="3419640" y="2463840"/>
            <a:ext cx="3454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Calibri"/>
              </a:rPr>
              <a:t>: 5 = 15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Прямоугольник 4"/>
          <p:cNvSpPr/>
          <p:nvPr/>
        </p:nvSpPr>
        <p:spPr>
          <a:xfrm>
            <a:off x="3414600" y="3765600"/>
            <a:ext cx="371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Calibri"/>
              </a:rPr>
              <a:t>36: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Calibri"/>
              </a:rPr>
              <a:t> = 1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19280" y="1197000"/>
            <a:ext cx="72007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Тема</a:t>
            </a:r>
            <a:r>
              <a:rPr b="1" i="1" lang="ru-RU" sz="4800" spc="-1" strike="noStrike">
                <a:solidFill>
                  <a:srgbClr val="b00000"/>
                </a:solidFill>
                <a:latin typeface="Times New Roman"/>
              </a:rPr>
              <a:t>: «Решение уравнений на основе связи между компонентами и результатами умножения и деления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Ольга Уржумова</cp:lastModifiedBy>
  <dcterms:modified xsi:type="dcterms:W3CDTF">2019-02-06T12:20:57Z</dcterms:modified>
  <cp:revision>116</cp:revision>
  <dc:subject/>
  <dc:title>Слайд 1</dc:title>
</cp:coreProperties>
</file>