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12193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7073B-5135-4F8D-8B81-EC7E574BC1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3D4EA-08E5-4874-A8C7-D4092B7BAF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BD655-AF94-4617-974A-32A4839903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198CF-B634-441B-9D64-3DC0291D30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E3BA5-A5E9-4A14-B80B-16B5329421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42E6F-397D-435E-A981-D763547862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1B09B-92E1-4BC6-A70E-7CCB5A42CF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56FBC-5AB6-40E4-8097-07B6DED098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18BC8-2913-4EBE-A78B-A4AAC66BEA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2C4C9-1C26-4061-95C7-AAB832074F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B0CE7-58D4-4C95-9D2D-E58FABD058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D1C23-5B3D-4D91-9F58-83D8000030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E5C41-52AE-48E7-88B7-2DF0738B78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DB36F-55A7-42C1-985D-B6083C36C7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5685C-AE56-4335-9B70-B4FFF48C63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E0A18-0F4C-4DAF-8061-408B7D5C2E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D57A5-647B-4ED6-9751-B98236286B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491A5-7013-481F-B40E-C45218AF33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99D99-70E4-4E15-83A6-DEB6AECDA6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232F4-1FB1-49B7-AA2A-0BA4C1DC00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CC023-656B-453C-8CB3-06A5AA8EE1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9F7F5-51BF-4493-9CA7-78C100B1FD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F1553-6B12-408A-BA75-D354C4D121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C5B0F-5DCE-4D1B-8CC7-D1EC090B9F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2092A-71D3-4856-9155-4CC2BA171F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1E7C0-F043-4399-BD68-E48AB2C863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06A94-47F9-4B6F-9A6E-4641D2E222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5221F-C7FE-4287-B3AC-BC5BBE8C22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722D4-80A5-4EE9-B552-85B5B46558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88760" y="2133720"/>
            <a:ext cx="89139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588760" y="4105440"/>
            <a:ext cx="89139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F1D7B-227F-47E9-A12D-63BE3030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88760" y="213372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156440" y="213372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88760" y="410544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7156440" y="410544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E5B99-BED0-4187-825F-5F1E7816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88760" y="2133720"/>
            <a:ext cx="28699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02680" y="2133720"/>
            <a:ext cx="28699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616240" y="2133720"/>
            <a:ext cx="28699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2588760" y="4105440"/>
            <a:ext cx="28699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5602680" y="4105440"/>
            <a:ext cx="28699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8616240" y="4105440"/>
            <a:ext cx="28699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B6E24-459C-4F84-81FA-71658F3E5F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F009F-28A3-4DFF-BBD3-684747EE01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88760" y="2133720"/>
            <a:ext cx="891396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31FC8-C127-40FD-B4EE-F85E6AC0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8760" y="2133720"/>
            <a:ext cx="891396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B2263-B999-46B4-8CB1-8F9E3906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88760" y="2133720"/>
            <a:ext cx="434988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56440" y="2133720"/>
            <a:ext cx="434988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5BD46-F607-46D9-83CA-3FEA07B9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1129D-57AB-4770-801C-166FA040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92360" y="623880"/>
            <a:ext cx="8910720" cy="59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B29ED-35B2-4FE6-91D6-A29EC8733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88760" y="213372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56440" y="2133720"/>
            <a:ext cx="434988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88760" y="410544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7DD2F-1DED-4D86-BB9B-9C33C31C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2588760" y="2133720"/>
            <a:ext cx="891396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C8082-D3E3-4A62-8197-9AE9ECBD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88760" y="2133720"/>
            <a:ext cx="434988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156440" y="213372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156440" y="410544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99C58-4EA0-4D8D-9381-2E926B47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88760" y="213372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56440" y="213372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88760" y="4105440"/>
            <a:ext cx="89139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DF28D-1F90-4D8E-A7FA-C5633B16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88760" y="2133720"/>
            <a:ext cx="89139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88760" y="4105440"/>
            <a:ext cx="89139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37822-7CBC-4BB8-BAB1-9D0C6C54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88760" y="213372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156440" y="213372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588760" y="410544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156440" y="410544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FC222-30F6-4205-A13E-69891C84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88760" y="2133720"/>
            <a:ext cx="28699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602680" y="2133720"/>
            <a:ext cx="28699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616240" y="2133720"/>
            <a:ext cx="28699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588760" y="4105440"/>
            <a:ext cx="28699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5602680" y="4105440"/>
            <a:ext cx="28699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616240" y="4105440"/>
            <a:ext cx="28699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959B7-85BC-4F77-8B4B-43D8463854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588760" y="2133720"/>
            <a:ext cx="891396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88760" y="2133720"/>
            <a:ext cx="891396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88760" y="2133720"/>
            <a:ext cx="434988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7156440" y="2133720"/>
            <a:ext cx="434988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88760" y="2133720"/>
            <a:ext cx="891396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01AFC-2B10-4602-A05A-8C6838C1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592360" y="623880"/>
            <a:ext cx="8910720" cy="59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88760" y="213372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156440" y="2133720"/>
            <a:ext cx="434988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588760" y="410544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88760" y="2133720"/>
            <a:ext cx="434988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56440" y="213372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156440" y="410544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88760" y="213372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156440" y="213372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588760" y="4105440"/>
            <a:ext cx="89139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88760" y="2133720"/>
            <a:ext cx="89139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588760" y="4105440"/>
            <a:ext cx="89139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72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7156440" y="213372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588760" y="410544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7156440" y="410544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88760" y="2133720"/>
            <a:ext cx="28699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602680" y="2133720"/>
            <a:ext cx="28699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616240" y="2133720"/>
            <a:ext cx="28699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588760" y="4105440"/>
            <a:ext cx="28699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5602680" y="4105440"/>
            <a:ext cx="28699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8616240" y="4105440"/>
            <a:ext cx="28699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2026-B5A2-4F74-8758-434F8B7D39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2588760" y="2133720"/>
            <a:ext cx="891396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353C-0FFF-4968-8F26-7900FA3A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88760" y="2133720"/>
            <a:ext cx="891396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D75A-9B76-4C32-BA1A-D776764C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88760" y="2133720"/>
            <a:ext cx="434988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156440" y="2133720"/>
            <a:ext cx="434988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E693B-AF1B-44DC-B2B5-25314B88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88760" y="2133720"/>
            <a:ext cx="434988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156440" y="2133720"/>
            <a:ext cx="434988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C244-6213-429D-8306-CD5A2E41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BBE2-580F-49E7-B7F8-3013C2F2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2592360" y="623880"/>
            <a:ext cx="8910720" cy="59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4E9B-A346-498E-AFEF-0E4817F1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88760" y="213372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7156440" y="2133720"/>
            <a:ext cx="434988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2588760" y="410544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2491-B194-4CC3-B6DC-9CFB1989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88760" y="2133720"/>
            <a:ext cx="434988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7156440" y="213372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156440" y="410544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0E8E-2EBE-48E9-9FE8-38195D8A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88760" y="213372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7156440" y="213372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2588760" y="4105440"/>
            <a:ext cx="89139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0BEA-97C0-4369-B32C-5CEA17C2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588760" y="2133720"/>
            <a:ext cx="89139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588760" y="4105440"/>
            <a:ext cx="89139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FC52-DF87-4D58-8B2F-A2005DD3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72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156440" y="213372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588760" y="410544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7156440" y="410544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8C04-227C-48B6-9223-10A2F1E3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588760" y="2133720"/>
            <a:ext cx="28699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602680" y="2133720"/>
            <a:ext cx="28699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616240" y="2133720"/>
            <a:ext cx="28699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2588760" y="4105440"/>
            <a:ext cx="28699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602680" y="4105440"/>
            <a:ext cx="28699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616240" y="4105440"/>
            <a:ext cx="28699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CD99-32E6-4B40-9529-29ED09CC9B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AEA5F-4B67-49F8-B135-6A5B0EC6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92360" y="623880"/>
            <a:ext cx="8910720" cy="59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142C3-F3DF-46E2-8012-7EE8F898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88760" y="213372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156440" y="2133720"/>
            <a:ext cx="434988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588760" y="410544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F5F51-495C-4E88-BB13-568D170B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88760" y="2133720"/>
            <a:ext cx="434988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156440" y="213372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156440" y="410544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C1564-6D85-4042-91BC-2C0DC5BC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88760" y="213372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156440" y="2133720"/>
            <a:ext cx="43498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588760" y="4105440"/>
            <a:ext cx="89139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DC656-196D-4858-8004-AA716D54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228600"/>
            <a:ext cx="2849400" cy="6637320"/>
            <a:chOff x="0" y="228600"/>
            <a:chExt cx="2849400" cy="6637320"/>
          </a:xfrm>
        </p:grpSpPr>
        <p:sp>
          <p:nvSpPr>
            <p:cNvPr id="1" name="Freeform 2"/>
            <p:cNvSpPr/>
            <p:nvPr/>
          </p:nvSpPr>
          <p:spPr>
            <a:xfrm>
              <a:off x="0" y="2575080"/>
              <a:ext cx="98280" cy="62388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128520" y="3156120"/>
              <a:ext cx="644760" cy="232092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806400" y="5446800"/>
              <a:ext cx="608040" cy="141768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960480" y="6504120"/>
              <a:ext cx="169920" cy="36180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100080" y="3200400"/>
              <a:ext cx="81900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22320" y="228600"/>
              <a:ext cx="104760" cy="292572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77760" y="2944800"/>
              <a:ext cx="76320" cy="4921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770040" y="5478480"/>
              <a:ext cx="188640" cy="102240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774720" y="1398600"/>
              <a:ext cx="2074680" cy="40464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922320" y="6529320"/>
              <a:ext cx="160200" cy="3351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770040" y="5359320"/>
              <a:ext cx="34920" cy="2192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849240" y="6245280"/>
              <a:ext cx="236520" cy="6206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14"/>
          <p:cNvGrpSpPr/>
          <p:nvPr/>
        </p:nvGrpSpPr>
        <p:grpSpPr>
          <a:xfrm>
            <a:off x="27000" y="0"/>
            <a:ext cx="2354400" cy="6851520"/>
            <a:chOff x="27000" y="0"/>
            <a:chExt cx="2354400" cy="6851520"/>
          </a:xfrm>
        </p:grpSpPr>
        <p:sp>
          <p:nvSpPr>
            <p:cNvPr id="14" name="Freeform 15"/>
            <p:cNvSpPr/>
            <p:nvPr/>
          </p:nvSpPr>
          <p:spPr>
            <a:xfrm>
              <a:off x="27000" y="0"/>
              <a:ext cx="492120" cy="43988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550800" y="4316400"/>
              <a:ext cx="420840" cy="157968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1006560" y="5862600"/>
              <a:ext cx="428400" cy="9889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522360" y="4363920"/>
              <a:ext cx="549360" cy="22338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468360" y="1289160"/>
              <a:ext cx="173160" cy="30258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>
              <a:off x="1111320" y="6570720"/>
              <a:ext cx="131760" cy="27936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>
              <a:off x="503280" y="4106880"/>
              <a:ext cx="81000" cy="5094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>
              <a:off x="973080" y="3146400"/>
              <a:ext cx="1408320" cy="27147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>
              <a:off x="1073160" y="6600960"/>
              <a:ext cx="119160" cy="2505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>
              <a:off x="973080" y="5897520"/>
              <a:ext cx="136440" cy="67320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>
              <a:off x="973080" y="5772240"/>
              <a:ext cx="36720" cy="2253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>
              <a:off x="1006560" y="6323040"/>
              <a:ext cx="207720" cy="5284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27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88760" y="2514240"/>
            <a:ext cx="891396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dt" idx="1"/>
          </p:nvPr>
        </p:nvSpPr>
        <p:spPr>
          <a:xfrm>
            <a:off x="10361520" y="6130440"/>
            <a:ext cx="11448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13.6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Text Box 30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Freeform 31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sldNum" idx="2"/>
          </p:nvPr>
        </p:nvSpPr>
        <p:spPr>
          <a:xfrm>
            <a:off x="531360" y="4529160"/>
            <a:ext cx="7779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AF72DFC-FF72-4E9F-A69C-49C669C4AF61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"/>
          <p:cNvGrpSpPr/>
          <p:nvPr/>
        </p:nvGrpSpPr>
        <p:grpSpPr>
          <a:xfrm>
            <a:off x="0" y="228600"/>
            <a:ext cx="2849400" cy="6637320"/>
            <a:chOff x="0" y="228600"/>
            <a:chExt cx="2849400" cy="6637320"/>
          </a:xfrm>
        </p:grpSpPr>
        <p:sp>
          <p:nvSpPr>
            <p:cNvPr id="70" name="Freeform 2"/>
            <p:cNvSpPr/>
            <p:nvPr/>
          </p:nvSpPr>
          <p:spPr>
            <a:xfrm>
              <a:off x="0" y="2575080"/>
              <a:ext cx="98280" cy="62388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"/>
            <p:cNvSpPr/>
            <p:nvPr/>
          </p:nvSpPr>
          <p:spPr>
            <a:xfrm>
              <a:off x="128520" y="3156120"/>
              <a:ext cx="644760" cy="232092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4"/>
            <p:cNvSpPr/>
            <p:nvPr/>
          </p:nvSpPr>
          <p:spPr>
            <a:xfrm>
              <a:off x="806400" y="5446800"/>
              <a:ext cx="608040" cy="141768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5"/>
            <p:cNvSpPr/>
            <p:nvPr/>
          </p:nvSpPr>
          <p:spPr>
            <a:xfrm>
              <a:off x="960480" y="6504120"/>
              <a:ext cx="169920" cy="36180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6"/>
            <p:cNvSpPr/>
            <p:nvPr/>
          </p:nvSpPr>
          <p:spPr>
            <a:xfrm>
              <a:off x="100080" y="3200400"/>
              <a:ext cx="81900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"/>
            <p:cNvSpPr/>
            <p:nvPr/>
          </p:nvSpPr>
          <p:spPr>
            <a:xfrm>
              <a:off x="22320" y="228600"/>
              <a:ext cx="104760" cy="292572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"/>
            <p:cNvSpPr/>
            <p:nvPr/>
          </p:nvSpPr>
          <p:spPr>
            <a:xfrm>
              <a:off x="77760" y="2944800"/>
              <a:ext cx="76320" cy="4921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9"/>
            <p:cNvSpPr/>
            <p:nvPr/>
          </p:nvSpPr>
          <p:spPr>
            <a:xfrm>
              <a:off x="770040" y="5478480"/>
              <a:ext cx="188640" cy="102240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0"/>
            <p:cNvSpPr/>
            <p:nvPr/>
          </p:nvSpPr>
          <p:spPr>
            <a:xfrm>
              <a:off x="774720" y="1398600"/>
              <a:ext cx="2074680" cy="40464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1"/>
            <p:cNvSpPr/>
            <p:nvPr/>
          </p:nvSpPr>
          <p:spPr>
            <a:xfrm>
              <a:off x="922320" y="6529320"/>
              <a:ext cx="160200" cy="3351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2"/>
            <p:cNvSpPr/>
            <p:nvPr/>
          </p:nvSpPr>
          <p:spPr>
            <a:xfrm>
              <a:off x="770040" y="5359320"/>
              <a:ext cx="34920" cy="2192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3"/>
            <p:cNvSpPr/>
            <p:nvPr/>
          </p:nvSpPr>
          <p:spPr>
            <a:xfrm>
              <a:off x="849240" y="6245280"/>
              <a:ext cx="236520" cy="6206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14"/>
          <p:cNvGrpSpPr/>
          <p:nvPr/>
        </p:nvGrpSpPr>
        <p:grpSpPr>
          <a:xfrm>
            <a:off x="27000" y="0"/>
            <a:ext cx="2354400" cy="6851520"/>
            <a:chOff x="27000" y="0"/>
            <a:chExt cx="2354400" cy="6851520"/>
          </a:xfrm>
        </p:grpSpPr>
        <p:sp>
          <p:nvSpPr>
            <p:cNvPr id="83" name="Freeform 15"/>
            <p:cNvSpPr/>
            <p:nvPr/>
          </p:nvSpPr>
          <p:spPr>
            <a:xfrm>
              <a:off x="27000" y="0"/>
              <a:ext cx="492120" cy="43988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6"/>
            <p:cNvSpPr/>
            <p:nvPr/>
          </p:nvSpPr>
          <p:spPr>
            <a:xfrm>
              <a:off x="550800" y="4316400"/>
              <a:ext cx="420840" cy="157968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7"/>
            <p:cNvSpPr/>
            <p:nvPr/>
          </p:nvSpPr>
          <p:spPr>
            <a:xfrm>
              <a:off x="1006560" y="5862600"/>
              <a:ext cx="428400" cy="9889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8"/>
            <p:cNvSpPr/>
            <p:nvPr/>
          </p:nvSpPr>
          <p:spPr>
            <a:xfrm>
              <a:off x="522360" y="4363920"/>
              <a:ext cx="549360" cy="22338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9"/>
            <p:cNvSpPr/>
            <p:nvPr/>
          </p:nvSpPr>
          <p:spPr>
            <a:xfrm>
              <a:off x="468360" y="1289160"/>
              <a:ext cx="173160" cy="30258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0"/>
            <p:cNvSpPr/>
            <p:nvPr/>
          </p:nvSpPr>
          <p:spPr>
            <a:xfrm>
              <a:off x="1111320" y="6570720"/>
              <a:ext cx="131760" cy="27936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1"/>
            <p:cNvSpPr/>
            <p:nvPr/>
          </p:nvSpPr>
          <p:spPr>
            <a:xfrm>
              <a:off x="503280" y="4106880"/>
              <a:ext cx="81000" cy="5094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2"/>
            <p:cNvSpPr/>
            <p:nvPr/>
          </p:nvSpPr>
          <p:spPr>
            <a:xfrm>
              <a:off x="973080" y="3146400"/>
              <a:ext cx="1408320" cy="27147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3"/>
            <p:cNvSpPr/>
            <p:nvPr/>
          </p:nvSpPr>
          <p:spPr>
            <a:xfrm>
              <a:off x="1073160" y="6600960"/>
              <a:ext cx="119160" cy="2505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4"/>
            <p:cNvSpPr/>
            <p:nvPr/>
          </p:nvSpPr>
          <p:spPr>
            <a:xfrm>
              <a:off x="973080" y="5897520"/>
              <a:ext cx="136440" cy="67320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5"/>
            <p:cNvSpPr/>
            <p:nvPr/>
          </p:nvSpPr>
          <p:spPr>
            <a:xfrm>
              <a:off x="973080" y="5772240"/>
              <a:ext cx="36720" cy="2253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6"/>
            <p:cNvSpPr/>
            <p:nvPr/>
          </p:nvSpPr>
          <p:spPr>
            <a:xfrm>
              <a:off x="1006560" y="6323040"/>
              <a:ext cx="207720" cy="5284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27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dt" idx="3"/>
          </p:nvPr>
        </p:nvSpPr>
        <p:spPr>
          <a:xfrm>
            <a:off x="10361520" y="6130440"/>
            <a:ext cx="11448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13.6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0"/>
          <p:cNvSpPr/>
          <p:nvPr/>
        </p:nvSpPr>
        <p:spPr>
          <a:xfrm flipV="1">
            <a:off x="-4320" y="713160"/>
            <a:ext cx="1589040" cy="50652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ldNum" idx="4"/>
          </p:nvPr>
        </p:nvSpPr>
        <p:spPr>
          <a:xfrm>
            <a:off x="531360" y="787320"/>
            <a:ext cx="7779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5243AB0-6137-4197-9A87-A6565655F05C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"/>
          <p:cNvGrpSpPr/>
          <p:nvPr/>
        </p:nvGrpSpPr>
        <p:grpSpPr>
          <a:xfrm>
            <a:off x="0" y="228600"/>
            <a:ext cx="2849400" cy="6637320"/>
            <a:chOff x="0" y="228600"/>
            <a:chExt cx="2849400" cy="6637320"/>
          </a:xfrm>
        </p:grpSpPr>
        <p:sp>
          <p:nvSpPr>
            <p:cNvPr id="139" name="Freeform 2"/>
            <p:cNvSpPr/>
            <p:nvPr/>
          </p:nvSpPr>
          <p:spPr>
            <a:xfrm>
              <a:off x="0" y="2575080"/>
              <a:ext cx="98280" cy="62388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"/>
            <p:cNvSpPr/>
            <p:nvPr/>
          </p:nvSpPr>
          <p:spPr>
            <a:xfrm>
              <a:off x="128520" y="3156120"/>
              <a:ext cx="644760" cy="232092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"/>
            <p:cNvSpPr/>
            <p:nvPr/>
          </p:nvSpPr>
          <p:spPr>
            <a:xfrm>
              <a:off x="806400" y="5446800"/>
              <a:ext cx="608040" cy="141768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5"/>
            <p:cNvSpPr/>
            <p:nvPr/>
          </p:nvSpPr>
          <p:spPr>
            <a:xfrm>
              <a:off x="960480" y="6504120"/>
              <a:ext cx="169920" cy="36180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6"/>
            <p:cNvSpPr/>
            <p:nvPr/>
          </p:nvSpPr>
          <p:spPr>
            <a:xfrm>
              <a:off x="100080" y="3200400"/>
              <a:ext cx="81900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7"/>
            <p:cNvSpPr/>
            <p:nvPr/>
          </p:nvSpPr>
          <p:spPr>
            <a:xfrm>
              <a:off x="22320" y="228600"/>
              <a:ext cx="104760" cy="292572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8"/>
            <p:cNvSpPr/>
            <p:nvPr/>
          </p:nvSpPr>
          <p:spPr>
            <a:xfrm>
              <a:off x="77760" y="2944800"/>
              <a:ext cx="76320" cy="4921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9"/>
            <p:cNvSpPr/>
            <p:nvPr/>
          </p:nvSpPr>
          <p:spPr>
            <a:xfrm>
              <a:off x="770040" y="5478480"/>
              <a:ext cx="188640" cy="102240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"/>
            <p:cNvSpPr/>
            <p:nvPr/>
          </p:nvSpPr>
          <p:spPr>
            <a:xfrm>
              <a:off x="774720" y="1398600"/>
              <a:ext cx="2074680" cy="40464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1"/>
            <p:cNvSpPr/>
            <p:nvPr/>
          </p:nvSpPr>
          <p:spPr>
            <a:xfrm>
              <a:off x="922320" y="6529320"/>
              <a:ext cx="160200" cy="3351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2"/>
            <p:cNvSpPr/>
            <p:nvPr/>
          </p:nvSpPr>
          <p:spPr>
            <a:xfrm>
              <a:off x="770040" y="5359320"/>
              <a:ext cx="34920" cy="2192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"/>
            <p:cNvSpPr/>
            <p:nvPr/>
          </p:nvSpPr>
          <p:spPr>
            <a:xfrm>
              <a:off x="849240" y="6245280"/>
              <a:ext cx="236520" cy="6206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4"/>
          <p:cNvGrpSpPr/>
          <p:nvPr/>
        </p:nvGrpSpPr>
        <p:grpSpPr>
          <a:xfrm>
            <a:off x="27000" y="0"/>
            <a:ext cx="2354400" cy="6851520"/>
            <a:chOff x="27000" y="0"/>
            <a:chExt cx="2354400" cy="6851520"/>
          </a:xfrm>
        </p:grpSpPr>
        <p:sp>
          <p:nvSpPr>
            <p:cNvPr id="152" name="Freeform 15"/>
            <p:cNvSpPr/>
            <p:nvPr/>
          </p:nvSpPr>
          <p:spPr>
            <a:xfrm>
              <a:off x="27000" y="0"/>
              <a:ext cx="492120" cy="43988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6"/>
            <p:cNvSpPr/>
            <p:nvPr/>
          </p:nvSpPr>
          <p:spPr>
            <a:xfrm>
              <a:off x="550800" y="4316400"/>
              <a:ext cx="420840" cy="157968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7"/>
            <p:cNvSpPr/>
            <p:nvPr/>
          </p:nvSpPr>
          <p:spPr>
            <a:xfrm>
              <a:off x="1006560" y="5862600"/>
              <a:ext cx="428400" cy="9889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8"/>
            <p:cNvSpPr/>
            <p:nvPr/>
          </p:nvSpPr>
          <p:spPr>
            <a:xfrm>
              <a:off x="522360" y="4363920"/>
              <a:ext cx="549360" cy="22338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9"/>
            <p:cNvSpPr/>
            <p:nvPr/>
          </p:nvSpPr>
          <p:spPr>
            <a:xfrm>
              <a:off x="468360" y="1289160"/>
              <a:ext cx="173160" cy="30258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0"/>
            <p:cNvSpPr/>
            <p:nvPr/>
          </p:nvSpPr>
          <p:spPr>
            <a:xfrm>
              <a:off x="1111320" y="6570720"/>
              <a:ext cx="131760" cy="27936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1"/>
            <p:cNvSpPr/>
            <p:nvPr/>
          </p:nvSpPr>
          <p:spPr>
            <a:xfrm>
              <a:off x="503280" y="4106880"/>
              <a:ext cx="81000" cy="5094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973080" y="3146400"/>
              <a:ext cx="1408320" cy="27147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3"/>
            <p:cNvSpPr/>
            <p:nvPr/>
          </p:nvSpPr>
          <p:spPr>
            <a:xfrm>
              <a:off x="1073160" y="6600960"/>
              <a:ext cx="119160" cy="2505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4"/>
            <p:cNvSpPr/>
            <p:nvPr/>
          </p:nvSpPr>
          <p:spPr>
            <a:xfrm>
              <a:off x="973080" y="5897520"/>
              <a:ext cx="136440" cy="67320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5"/>
            <p:cNvSpPr/>
            <p:nvPr/>
          </p:nvSpPr>
          <p:spPr>
            <a:xfrm>
              <a:off x="973080" y="5772240"/>
              <a:ext cx="36720" cy="2253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6"/>
            <p:cNvSpPr/>
            <p:nvPr/>
          </p:nvSpPr>
          <p:spPr>
            <a:xfrm>
              <a:off x="1006560" y="6323040"/>
              <a:ext cx="207720" cy="5284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7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1"/>
          <p:cNvGrpSpPr/>
          <p:nvPr/>
        </p:nvGrpSpPr>
        <p:grpSpPr>
          <a:xfrm>
            <a:off x="0" y="228600"/>
            <a:ext cx="2849400" cy="6637320"/>
            <a:chOff x="0" y="228600"/>
            <a:chExt cx="2849400" cy="6637320"/>
          </a:xfrm>
        </p:grpSpPr>
        <p:sp>
          <p:nvSpPr>
            <p:cNvPr id="204" name="Freeform 2"/>
            <p:cNvSpPr/>
            <p:nvPr/>
          </p:nvSpPr>
          <p:spPr>
            <a:xfrm>
              <a:off x="0" y="2575080"/>
              <a:ext cx="98280" cy="62388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"/>
            <p:cNvSpPr/>
            <p:nvPr/>
          </p:nvSpPr>
          <p:spPr>
            <a:xfrm>
              <a:off x="128520" y="3156120"/>
              <a:ext cx="644760" cy="232092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>
              <a:off x="806400" y="5446800"/>
              <a:ext cx="608040" cy="141768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960480" y="6504120"/>
              <a:ext cx="169920" cy="36180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"/>
            <p:cNvSpPr/>
            <p:nvPr/>
          </p:nvSpPr>
          <p:spPr>
            <a:xfrm>
              <a:off x="100080" y="3200400"/>
              <a:ext cx="81900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7"/>
            <p:cNvSpPr/>
            <p:nvPr/>
          </p:nvSpPr>
          <p:spPr>
            <a:xfrm>
              <a:off x="22320" y="228600"/>
              <a:ext cx="104760" cy="292572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"/>
            <p:cNvSpPr/>
            <p:nvPr/>
          </p:nvSpPr>
          <p:spPr>
            <a:xfrm>
              <a:off x="77760" y="2944800"/>
              <a:ext cx="76320" cy="4921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9"/>
            <p:cNvSpPr/>
            <p:nvPr/>
          </p:nvSpPr>
          <p:spPr>
            <a:xfrm>
              <a:off x="770040" y="5478480"/>
              <a:ext cx="188640" cy="102240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"/>
            <p:cNvSpPr/>
            <p:nvPr/>
          </p:nvSpPr>
          <p:spPr>
            <a:xfrm>
              <a:off x="774720" y="1398600"/>
              <a:ext cx="2074680" cy="40464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1"/>
            <p:cNvSpPr/>
            <p:nvPr/>
          </p:nvSpPr>
          <p:spPr>
            <a:xfrm>
              <a:off x="922320" y="6529320"/>
              <a:ext cx="160200" cy="33516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2"/>
            <p:cNvSpPr/>
            <p:nvPr/>
          </p:nvSpPr>
          <p:spPr>
            <a:xfrm>
              <a:off x="770040" y="5359320"/>
              <a:ext cx="34920" cy="21924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3"/>
            <p:cNvSpPr/>
            <p:nvPr/>
          </p:nvSpPr>
          <p:spPr>
            <a:xfrm>
              <a:off x="849240" y="6245280"/>
              <a:ext cx="236520" cy="6206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4"/>
          <p:cNvGrpSpPr/>
          <p:nvPr/>
        </p:nvGrpSpPr>
        <p:grpSpPr>
          <a:xfrm>
            <a:off x="27000" y="0"/>
            <a:ext cx="2354400" cy="6851520"/>
            <a:chOff x="27000" y="0"/>
            <a:chExt cx="2354400" cy="6851520"/>
          </a:xfrm>
        </p:grpSpPr>
        <p:sp>
          <p:nvSpPr>
            <p:cNvPr id="217" name="Freeform 15"/>
            <p:cNvSpPr/>
            <p:nvPr/>
          </p:nvSpPr>
          <p:spPr>
            <a:xfrm>
              <a:off x="27000" y="0"/>
              <a:ext cx="492120" cy="43988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6"/>
            <p:cNvSpPr/>
            <p:nvPr/>
          </p:nvSpPr>
          <p:spPr>
            <a:xfrm>
              <a:off x="550800" y="4316400"/>
              <a:ext cx="420840" cy="157968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7"/>
            <p:cNvSpPr/>
            <p:nvPr/>
          </p:nvSpPr>
          <p:spPr>
            <a:xfrm>
              <a:off x="1006560" y="5862600"/>
              <a:ext cx="428400" cy="9889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8"/>
            <p:cNvSpPr/>
            <p:nvPr/>
          </p:nvSpPr>
          <p:spPr>
            <a:xfrm>
              <a:off x="522360" y="4363920"/>
              <a:ext cx="549360" cy="22338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9"/>
            <p:cNvSpPr/>
            <p:nvPr/>
          </p:nvSpPr>
          <p:spPr>
            <a:xfrm>
              <a:off x="468360" y="1289160"/>
              <a:ext cx="173160" cy="30258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0"/>
            <p:cNvSpPr/>
            <p:nvPr/>
          </p:nvSpPr>
          <p:spPr>
            <a:xfrm>
              <a:off x="1111320" y="6570720"/>
              <a:ext cx="131760" cy="27936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1"/>
            <p:cNvSpPr/>
            <p:nvPr/>
          </p:nvSpPr>
          <p:spPr>
            <a:xfrm>
              <a:off x="503280" y="4106880"/>
              <a:ext cx="81000" cy="5094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"/>
            <p:cNvSpPr/>
            <p:nvPr/>
          </p:nvSpPr>
          <p:spPr>
            <a:xfrm>
              <a:off x="973080" y="3146400"/>
              <a:ext cx="1408320" cy="27147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3"/>
            <p:cNvSpPr/>
            <p:nvPr/>
          </p:nvSpPr>
          <p:spPr>
            <a:xfrm>
              <a:off x="1073160" y="6600960"/>
              <a:ext cx="119160" cy="2505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4"/>
            <p:cNvSpPr/>
            <p:nvPr/>
          </p:nvSpPr>
          <p:spPr>
            <a:xfrm>
              <a:off x="973080" y="5897520"/>
              <a:ext cx="136440" cy="67320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5"/>
            <p:cNvSpPr/>
            <p:nvPr/>
          </p:nvSpPr>
          <p:spPr>
            <a:xfrm>
              <a:off x="973080" y="5772240"/>
              <a:ext cx="36720" cy="2253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6"/>
            <p:cNvSpPr/>
            <p:nvPr/>
          </p:nvSpPr>
          <p:spPr>
            <a:xfrm>
              <a:off x="1006560" y="6323040"/>
              <a:ext cx="207720" cy="52848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Rectangle 27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0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2588760" y="2133720"/>
            <a:ext cx="891396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5"/>
          </p:nvPr>
        </p:nvSpPr>
        <p:spPr>
          <a:xfrm>
            <a:off x="10361520" y="6130440"/>
            <a:ext cx="11448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13.6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1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2"/>
          <p:cNvSpPr/>
          <p:nvPr/>
        </p:nvSpPr>
        <p:spPr>
          <a:xfrm flipV="1">
            <a:off x="-4320" y="713160"/>
            <a:ext cx="1589040" cy="50652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6"/>
          </p:nvPr>
        </p:nvSpPr>
        <p:spPr>
          <a:xfrm>
            <a:off x="531360" y="787320"/>
            <a:ext cx="7779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4D2AA93-D5A2-4EFA-A8C2-EC49038B53E7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83880" y="139320"/>
            <a:ext cx="10520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1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1800" spc="-1" strike="noStrike">
                <a:solidFill>
                  <a:srgbClr val="262626"/>
                </a:solidFill>
                <a:latin typeface="Times New Roman"/>
              </a:rPr>
              <a:t>Государственное бюджетное дошкольное образовательное учреждение детский сад № 11 общеразвивающего вида с приоритетным осуществлением деятельности по физическому развитию детей Невского района Санкт – Петербурга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2400"/>
            </a:br>
            <a:br>
              <a:rPr sz="3200"/>
            </a:br>
            <a:r>
              <a:rPr b="1" lang="ru-RU" sz="1600" spc="-1" strike="noStrike">
                <a:solidFill>
                  <a:srgbClr val="262626"/>
                </a:solidFill>
                <a:latin typeface="Times New Roman"/>
              </a:rPr>
              <a:t>составитель Зам.зав. по УВР ГБДОУ№11</a:t>
            </a:r>
            <a:br>
              <a:rPr sz="1600"/>
            </a:br>
            <a:r>
              <a:rPr b="1" lang="ru-RU" sz="1600" spc="-1" strike="noStrike">
                <a:solidFill>
                  <a:srgbClr val="262626"/>
                </a:solidFill>
                <a:latin typeface="Times New Roman"/>
              </a:rPr>
              <a:t>Кузнецова Л.И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2273040" y="3141720"/>
            <a:ext cx="76388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Times New Roman"/>
              </a:rPr>
              <a:t>«Профессиональный стандарт педагога как основа оценки  педагогической  деятельности и</a:t>
            </a:r>
            <a:br>
              <a:rPr sz="2400"/>
            </a:br>
            <a:r>
              <a:rPr b="1" lang="en-US" sz="2400" spc="-1" strike="noStrike">
                <a:solidFill>
                  <a:srgbClr val="262626"/>
                </a:solidFill>
                <a:latin typeface="Times New Roman"/>
              </a:rPr>
              <a:t>профессионального развития  педагога»</a:t>
            </a: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588760" y="623520"/>
            <a:ext cx="8915400" cy="3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2463840" y="906480"/>
            <a:ext cx="903924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01520" indent="101520">
              <a:lnSpc>
                <a:spcPts val="2373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imes New Roman"/>
              </a:rPr>
              <a:t>Профессиональный стандарт педагога 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101520">
              <a:lnSpc>
                <a:spcPts val="2373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основополагающий документ, содержащий совокупность личностных и профессиональных компетенций учителя, это инструмент повышения качества образования и выхода отечественного образования на международный уров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101520">
              <a:lnSpc>
                <a:spcPts val="2373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101520">
              <a:lnSpc>
                <a:spcPts val="2373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101520">
              <a:lnSpc>
                <a:spcPts val="2373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101520">
              <a:lnSpc>
                <a:spcPts val="2373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 u="sng">
                <a:solidFill>
                  <a:srgbClr val="404040"/>
                </a:solidFill>
                <a:uFillTx/>
                <a:latin typeface="Times New Roman"/>
              </a:rPr>
              <a:t>Выполняет функции, призванные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101520">
              <a:lnSpc>
                <a:spcPts val="2373"/>
              </a:lnSpc>
              <a:buClr>
                <a:srgbClr val="000000"/>
              </a:buClr>
              <a:buFont typeface="Wingdings 3" charset="2"/>
              <a:buChar char="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Преодолеть технократический подход в оценке труда педаг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101520">
              <a:lnSpc>
                <a:spcPts val="2373"/>
              </a:lnSpc>
              <a:buClr>
                <a:srgbClr val="000000"/>
              </a:buClr>
              <a:buFont typeface="Wingdings 3" charset="2"/>
              <a:buChar char="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Обеспечить координированный рост свободы и ответственности педагога за результаты своего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101520">
              <a:lnSpc>
                <a:spcPts val="2373"/>
              </a:lnSpc>
              <a:buClr>
                <a:srgbClr val="000000"/>
              </a:buClr>
              <a:buFont typeface="Wingdings 3" charset="2"/>
              <a:buChar char="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Мотивировать педагога на постоянное повышение квалиф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101520">
              <a:lnSpc>
                <a:spcPts val="2373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2589120" y="2133720"/>
            <a:ext cx="89154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onstantia"/>
              </a:rPr>
              <a:t>Профессиональный стандарт педагога отражает структуру его профессиональной деятельности: обучение, воспитание и развитие ребенка и помогает  педагогу в решении новых, стоящих перед ним проб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Text Box 2"/>
          <p:cNvSpPr/>
          <p:nvPr/>
        </p:nvSpPr>
        <p:spPr>
          <a:xfrm>
            <a:off x="2589120" y="2133720"/>
            <a:ext cx="89154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onstantia"/>
              </a:rPr>
              <a:t>Профессиональный стандарт педагога, который пришел на смену морально устаревшим документам,  призван, прежде всего, раскрепостить педагога, дать новый импульс его развит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2589120" y="2133720"/>
            <a:ext cx="89154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onstantia"/>
              </a:rPr>
              <a:t>Расширяя границы свободы педагога, профессиональный стандарт одновременно </a:t>
            </a:r>
            <a:r>
              <a:rPr b="1" lang="en-US" sz="2800" spc="-1" strike="noStrike">
                <a:solidFill>
                  <a:srgbClr val="404040"/>
                </a:solidFill>
                <a:latin typeface="Constantia"/>
              </a:rPr>
              <a:t>повышает его ответственность за результаты своего труда</a:t>
            </a:r>
            <a:r>
              <a:rPr b="0" lang="en-US" sz="2800" spc="-1" strike="noStrike">
                <a:solidFill>
                  <a:srgbClr val="404040"/>
                </a:solidFill>
                <a:latin typeface="Constantia"/>
              </a:rPr>
              <a:t>, предъявляя требования к его квалификации, предлагая критерии ее оцен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2589120" y="1468440"/>
            <a:ext cx="891540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tantia"/>
              </a:rPr>
              <a:t>Профессиональный стандарт определяет  все виды педагогической деятельности воспитателя  детского сада и раскрывает необходимые педагогические компетенции, способствует   выстраиванию педагогической деятельности воспитателя  в  свете новых требований ФГОС и в логике специфики дошкольного образ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88760" y="623880"/>
            <a:ext cx="89154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Times New Roman"/>
              </a:rPr>
              <a:t>Федеральный закон от 29.12.2012 № 273-ФЗ "Об образовании в Российской Федерации"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Text Box 2"/>
          <p:cNvSpPr/>
          <p:nvPr/>
        </p:nvSpPr>
        <p:spPr>
          <a:xfrm>
            <a:off x="2589120" y="2133720"/>
            <a:ext cx="89154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just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Wingdings 3" charset="2"/>
              <a:buChar char="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imes New Roman"/>
              </a:rPr>
              <a:t>статья 60: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уровень проф. образования и(или) квалификация, указываемые </a:t>
            </a:r>
            <a:r>
              <a:rPr b="1" lang="en-US" sz="2400" spc="-1" strike="noStrike">
                <a:solidFill>
                  <a:srgbClr val="404040"/>
                </a:solidFill>
                <a:latin typeface="Times New Roman"/>
              </a:rPr>
              <a:t>в документах об образовании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и(или) о квалификации, дают их обладателям право </a:t>
            </a:r>
            <a:r>
              <a:rPr b="1" lang="en-US" sz="2400" spc="-1" strike="noStrike">
                <a:solidFill>
                  <a:srgbClr val="404040"/>
                </a:solidFill>
                <a:latin typeface="Times New Roman"/>
              </a:rPr>
              <a:t>заниматься определенной профессиональной деятельностью,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в том числе занимать должности, для которых в установленном законодательством Российской Федерации порядке определены </a:t>
            </a:r>
            <a:r>
              <a:rPr b="1" lang="en-US" sz="2400" spc="-1" strike="noStrike">
                <a:solidFill>
                  <a:srgbClr val="404040"/>
                </a:solidFill>
                <a:latin typeface="Times New Roman"/>
              </a:rPr>
              <a:t>обязательные требования к уровню профессионального образования и (или) квалификации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, если иное не установлено Ф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Times New Roman"/>
              </a:rPr>
              <a:t>Зачем нужен профессиональный стандарт педагога?</a:t>
            </a: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Text Box 2"/>
          <p:cNvSpPr/>
          <p:nvPr/>
        </p:nvSpPr>
        <p:spPr>
          <a:xfrm>
            <a:off x="2136600" y="2133720"/>
            <a:ext cx="9367920" cy="44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Стандарт – инструмент реализации стратегии образования в меняющемся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Стандарт – инструмент повышения качества образования и выхода отечественного образования на международный уров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Стандарт – объективный измеритель квалификации педаг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Стандарт – средство отбора педагогических кадров в учреждения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Стандарт – основа для формирования трудового договора, фиксирующего отношения между работником и работодате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584080" y="126720"/>
            <a:ext cx="878220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Times New Roman"/>
              </a:rPr>
              <a:t>Структура профессиональных стандартов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630440" y="625320"/>
            <a:ext cx="9878760" cy="62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</a:rPr>
              <a:t>1. 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Общие сведения ( наименование видов профессиональной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экономической деятельности, на которые распространяется стандарт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2. Перечень  трудовых функций, входящих в стандарт с указа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соответствующих им уровн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3. Характеристика обобщенных трудовых функций, включающа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возможные наименования должностей, связанных с осуществл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данной фун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требования к образова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требования к наличию опыта практической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особые условия допуска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Для каждой трудовой фун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трудовые действ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необходимые зн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необходимые ум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другие характеристики ( в этом разделе для всех трудовых 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названо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</a:rPr>
              <a:t>«Соблюдение правовых, нравственных и этических нор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imes New Roman"/>
              </a:rPr>
              <a:t>требований </a:t>
            </a:r>
            <a:r>
              <a:rPr b="1" lang="en-US" sz="2000" spc="-1" strike="noStrike" u="sng">
                <a:solidFill>
                  <a:srgbClr val="404040"/>
                </a:solidFill>
                <a:uFillTx/>
                <a:latin typeface="Times New Roman"/>
              </a:rPr>
              <a:t>профессиональной этики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</a:rPr>
              <a:t>»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Times New Roman"/>
              </a:rPr>
              <a:t>Структура профессиональных стандартов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2495520" y="1252440"/>
            <a:ext cx="9009000" cy="46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imes New Roman"/>
              </a:rPr>
              <a:t>Виды профессиональной деятельности, на котор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imes New Roman"/>
              </a:rPr>
              <a:t>распространяется профстандарт педагог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дошкольное образ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начальное обще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основное обще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среднее общее образ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imes New Roman"/>
              </a:rPr>
              <a:t>Цель профессиональной деятельности( в рамк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imes New Roman"/>
              </a:rPr>
              <a:t>регламентируемых стандартом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Организация образовательных услуг по основным общеобразовательным программ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imes New Roman"/>
              </a:rPr>
              <a:t>Возможные наименования должностей, на которые распространяется профессиональный стандарт педагога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</a:rPr>
              <a:t>«Учитель», «Воспитател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1"/>
          <a:stretch/>
        </p:blipFill>
        <p:spPr>
          <a:xfrm>
            <a:off x="1173240" y="0"/>
            <a:ext cx="9120240" cy="461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4" name=""/>
          <p:cNvGraphicFramePr/>
          <p:nvPr/>
        </p:nvGraphicFramePr>
        <p:xfrm>
          <a:off x="1406520" y="4621320"/>
          <a:ext cx="8651880" cy="663480"/>
        </p:xfrm>
        <a:graphic>
          <a:graphicData uri="http://schemas.openxmlformats.org/drawingml/2006/table">
            <a:tbl>
              <a:tblPr/>
              <a:tblGrid>
                <a:gridCol w="925560"/>
                <a:gridCol w="914400"/>
                <a:gridCol w="922320"/>
                <a:gridCol w="922320"/>
                <a:gridCol w="915840"/>
                <a:gridCol w="1113120"/>
                <a:gridCol w="1066680"/>
                <a:gridCol w="904680"/>
                <a:gridCol w="966960"/>
              </a:tblGrid>
              <a:tr h="663480">
                <a:tc>
                  <a:txBody>
                    <a:bodyPr lIns="6120" rIns="6120" tIns="0" bIns="0" anchor="t">
                      <a:noAutofit/>
                    </a:bodyPr>
                    <a:p>
                      <a:pPr marL="190440">
                        <a:lnSpc>
                          <a:spcPts val="3450"/>
                        </a:lnSpc>
                        <a:spcBef>
                          <a:spcPts val="21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Ф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marL="177840">
                        <a:lnSpc>
                          <a:spcPts val="3450"/>
                        </a:lnSpc>
                        <a:spcBef>
                          <a:spcPts val="21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Ф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marL="177840">
                        <a:lnSpc>
                          <a:spcPts val="3450"/>
                        </a:lnSpc>
                        <a:spcBef>
                          <a:spcPts val="21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Ф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marL="177840">
                        <a:lnSpc>
                          <a:spcPts val="3450"/>
                        </a:lnSpc>
                        <a:spcBef>
                          <a:spcPts val="21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Ф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marL="177840">
                        <a:lnSpc>
                          <a:spcPts val="3450"/>
                        </a:lnSpc>
                        <a:spcBef>
                          <a:spcPts val="21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Ф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marL="266760">
                        <a:lnSpc>
                          <a:spcPts val="3450"/>
                        </a:lnSpc>
                        <a:spcBef>
                          <a:spcPts val="21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Ф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marL="266760">
                        <a:lnSpc>
                          <a:spcPts val="3450"/>
                        </a:lnSpc>
                        <a:spcBef>
                          <a:spcPts val="21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Ф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b8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marL="165240">
                        <a:lnSpc>
                          <a:spcPts val="3450"/>
                        </a:lnSpc>
                        <a:spcBef>
                          <a:spcPts val="21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Ф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b8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marL="177840">
                        <a:lnSpc>
                          <a:spcPts val="3450"/>
                        </a:lnSpc>
                        <a:spcBef>
                          <a:spcPts val="21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Ф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b8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1530360" y="5396040"/>
          <a:ext cx="8650440" cy="685800"/>
        </p:xfrm>
        <a:graphic>
          <a:graphicData uri="http://schemas.openxmlformats.org/drawingml/2006/table">
            <a:tbl>
              <a:tblPr/>
              <a:tblGrid>
                <a:gridCol w="8650440"/>
              </a:tblGrid>
              <a:tr h="685800">
                <a:tc>
                  <a:txBody>
                    <a:bodyPr lIns="0" rIns="0" tIns="194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удовая функция (ТФ) - система трудовых действий в рамках ОТ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 </a:t>
                      </a: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e7e7"/>
                    </a:solidFill>
                  </a:tcPr>
                </a:tc>
              </a:tr>
            </a:tbl>
          </a:graphicData>
        </a:graphic>
      </p:graphicFrame>
      <p:sp>
        <p:nvSpPr>
          <p:cNvPr id="326" name="Rectangle 42"/>
          <p:cNvSpPr/>
          <p:nvPr/>
        </p:nvSpPr>
        <p:spPr>
          <a:xfrm>
            <a:off x="7535880" y="50738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3" descr=""/>
          <p:cNvPicPr/>
          <p:nvPr/>
        </p:nvPicPr>
        <p:blipFill>
          <a:blip r:embed="rId2"/>
          <a:stretch/>
        </p:blipFill>
        <p:spPr>
          <a:xfrm>
            <a:off x="1293840" y="6148440"/>
            <a:ext cx="9121680" cy="5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" descr=""/>
          <p:cNvPicPr/>
          <p:nvPr/>
        </p:nvPicPr>
        <p:blipFill>
          <a:blip r:embed="rId1"/>
          <a:stretch/>
        </p:blipFill>
        <p:spPr>
          <a:xfrm>
            <a:off x="473040" y="266760"/>
            <a:ext cx="11155320" cy="64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2584440" y="209520"/>
            <a:ext cx="7632720" cy="596880"/>
          </a:xfrm>
          <a:prstGeom prst="downArrowCallout">
            <a:avLst>
              <a:gd name="adj1" fmla="val 319722"/>
              <a:gd name="adj2" fmla="val 319692"/>
              <a:gd name="adj3" fmla="val 16667"/>
              <a:gd name="adj4" fmla="val 66667"/>
            </a:avLst>
          </a:prstGeom>
          <a:solidFill>
            <a:srgbClr val="a6cdbd"/>
          </a:solidFill>
          <a:ln w="15840">
            <a:solidFill>
              <a:srgbClr val="7a23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фессиональный стандарт педаг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2"/>
          <p:cNvSpPr/>
          <p:nvPr/>
        </p:nvSpPr>
        <p:spPr>
          <a:xfrm>
            <a:off x="5038560" y="2703600"/>
            <a:ext cx="2355840" cy="774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15840">
            <a:solidFill>
              <a:srgbClr val="7a2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общенные трудовые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5118120" y="4273560"/>
            <a:ext cx="2355840" cy="795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5840">
            <a:solidFill>
              <a:srgbClr val="7a2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рудовые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932200" y="895320"/>
            <a:ext cx="1778040" cy="854280"/>
          </a:xfrm>
          <a:prstGeom prst="foldedCorner">
            <a:avLst>
              <a:gd name="adj" fmla="val 12500"/>
            </a:avLst>
          </a:prstGeom>
          <a:solidFill>
            <a:srgbClr val="f9cfc3"/>
          </a:solidFill>
          <a:ln w="15840">
            <a:solidFill>
              <a:srgbClr val="7a2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 образов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5288040" y="1103400"/>
            <a:ext cx="1579320" cy="725400"/>
          </a:xfrm>
          <a:prstGeom prst="foldedCorner">
            <a:avLst>
              <a:gd name="adj" fmla="val 12500"/>
            </a:avLst>
          </a:prstGeom>
          <a:solidFill>
            <a:srgbClr val="f9cfc3"/>
          </a:solidFill>
          <a:ln w="15840">
            <a:solidFill>
              <a:srgbClr val="7a2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 опы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6"/>
          <p:cNvSpPr/>
          <p:nvPr/>
        </p:nvSpPr>
        <p:spPr>
          <a:xfrm>
            <a:off x="7473960" y="919080"/>
            <a:ext cx="2027160" cy="825480"/>
          </a:xfrm>
          <a:prstGeom prst="foldedCorner">
            <a:avLst>
              <a:gd name="adj" fmla="val 12500"/>
            </a:avLst>
          </a:prstGeom>
          <a:solidFill>
            <a:srgbClr val="f9cfc3"/>
          </a:solidFill>
          <a:ln w="15840">
            <a:solidFill>
              <a:srgbClr val="7a2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опуска к раб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1660680" y="5864400"/>
            <a:ext cx="1877760" cy="734760"/>
          </a:xfrm>
          <a:prstGeom prst="roundRect">
            <a:avLst>
              <a:gd name="adj" fmla="val 16667"/>
            </a:avLst>
          </a:prstGeom>
          <a:solidFill>
            <a:srgbClr val="f0b270"/>
          </a:solidFill>
          <a:ln w="15840">
            <a:solidFill>
              <a:srgbClr val="7a2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8"/>
          <p:cNvSpPr/>
          <p:nvPr/>
        </p:nvSpPr>
        <p:spPr>
          <a:xfrm>
            <a:off x="5218200" y="5873760"/>
            <a:ext cx="2155680" cy="725400"/>
          </a:xfrm>
          <a:prstGeom prst="roundRect">
            <a:avLst>
              <a:gd name="adj" fmla="val 16667"/>
            </a:avLst>
          </a:prstGeom>
          <a:solidFill>
            <a:srgbClr val="f0b270"/>
          </a:solidFill>
          <a:ln w="15840">
            <a:solidFill>
              <a:srgbClr val="7a2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м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8766000" y="5834160"/>
            <a:ext cx="2136960" cy="795240"/>
          </a:xfrm>
          <a:prstGeom prst="roundRect">
            <a:avLst>
              <a:gd name="adj" fmla="val 16667"/>
            </a:avLst>
          </a:prstGeom>
          <a:solidFill>
            <a:srgbClr val="f0b270"/>
          </a:solidFill>
          <a:ln w="15840">
            <a:solidFill>
              <a:srgbClr val="7a2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7" name="AutoShape 10"/>
          <p:cNvCxnSpPr/>
          <p:nvPr/>
        </p:nvCxnSpPr>
        <p:spPr>
          <a:xfrm flipH="1" flipV="1" rot="5400000">
            <a:off x="7309800" y="1904400"/>
            <a:ext cx="781920" cy="654840"/>
          </a:xfrm>
          <a:prstGeom prst="bentConnector3">
            <a:avLst>
              <a:gd name="adj1" fmla="val 49976"/>
            </a:avLst>
          </a:prstGeom>
          <a:ln w="2844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338" name="AutoShape 11"/>
          <p:cNvCxnSpPr/>
          <p:nvPr/>
        </p:nvCxnSpPr>
        <p:spPr>
          <a:xfrm flipV="1" rot="16200000">
            <a:off x="5764320" y="2227320"/>
            <a:ext cx="626040" cy="2520"/>
          </a:xfrm>
          <a:prstGeom prst="bentConnector2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339" name="AutoShape 12"/>
          <p:cNvCxnSpPr/>
          <p:nvPr/>
        </p:nvCxnSpPr>
        <p:spPr>
          <a:xfrm rot="10800000">
            <a:off x="3915720" y="1840680"/>
            <a:ext cx="1203840" cy="781920"/>
          </a:xfrm>
          <a:prstGeom prst="bentConnector3">
            <a:avLst>
              <a:gd name="adj1" fmla="val 49955"/>
            </a:avLst>
          </a:prstGeom>
          <a:ln w="2844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340" name="AutoShape 13"/>
          <p:cNvSpPr/>
          <p:nvPr/>
        </p:nvSpPr>
        <p:spPr>
          <a:xfrm>
            <a:off x="6216480" y="3605040"/>
            <a:ext cx="46080" cy="574920"/>
          </a:xfrm>
          <a:prstGeom prst="downArrow">
            <a:avLst>
              <a:gd name="adj1" fmla="val 50000"/>
              <a:gd name="adj2" fmla="val 311914"/>
            </a:avLst>
          </a:prstGeom>
          <a:solidFill>
            <a:srgbClr val="a53010"/>
          </a:solidFill>
          <a:ln w="15840">
            <a:solidFill>
              <a:srgbClr val="7a23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1" name="AutoShape 14"/>
          <p:cNvCxnSpPr/>
          <p:nvPr/>
        </p:nvCxnSpPr>
        <p:spPr>
          <a:xfrm flipV="1" rot="10800000">
            <a:off x="2741040" y="5146200"/>
            <a:ext cx="2378520" cy="6199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342" name="AutoShape 15"/>
          <p:cNvCxnSpPr/>
          <p:nvPr/>
        </p:nvCxnSpPr>
        <p:spPr>
          <a:xfrm rot="5400000">
            <a:off x="5940360" y="5510520"/>
            <a:ext cx="645480" cy="2520"/>
          </a:xfrm>
          <a:prstGeom prst="bentConnector2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343" name="AutoShape 16"/>
          <p:cNvCxnSpPr/>
          <p:nvPr/>
        </p:nvCxnSpPr>
        <p:spPr>
          <a:xfrm>
            <a:off x="7540560" y="5146560"/>
            <a:ext cx="2294640" cy="619920"/>
          </a:xfrm>
          <a:prstGeom prst="bentConnector3">
            <a:avLst>
              <a:gd name="adj1" fmla="val 49992"/>
            </a:avLst>
          </a:prstGeom>
          <a:ln w="28440">
            <a:solidFill>
              <a:srgbClr val="000000"/>
            </a:solidFill>
            <a:round/>
            <a:tailEnd len="med" type="triangle" w="med"/>
          </a:ln>
        </p:spPr>
      </p:cxn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AutoShape 1"/>
          <p:cNvSpPr/>
          <p:nvPr/>
        </p:nvSpPr>
        <p:spPr>
          <a:xfrm>
            <a:off x="3335400" y="160200"/>
            <a:ext cx="5878440" cy="5446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15840">
            <a:solidFill>
              <a:srgbClr val="7a2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общенные трудовые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2021040" y="1349280"/>
            <a:ext cx="3416040" cy="966960"/>
          </a:xfrm>
          <a:prstGeom prst="rect">
            <a:avLst/>
          </a:prstGeom>
          <a:solidFill>
            <a:srgbClr val="ffffff"/>
          </a:solidFill>
          <a:ln w="15840">
            <a:solidFill>
              <a:srgbClr val="7a23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дагогическая деятельность по проектированию и реализации ОП в ОО 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6818400" y="1349280"/>
            <a:ext cx="3779640" cy="966960"/>
          </a:xfrm>
          <a:prstGeom prst="rect">
            <a:avLst/>
          </a:prstGeom>
          <a:solidFill>
            <a:srgbClr val="ffffff"/>
          </a:solidFill>
          <a:ln w="15840">
            <a:solidFill>
              <a:srgbClr val="7a23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дагогическая деятельность по проектированию и реализации ОО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2021040" y="2890800"/>
            <a:ext cx="644400" cy="2351160"/>
          </a:xfrm>
          <a:prstGeom prst="rect">
            <a:avLst/>
          </a:prstGeom>
          <a:solidFill>
            <a:srgbClr val="ffffff"/>
          </a:solidFill>
          <a:ln w="15840">
            <a:solidFill>
              <a:srgbClr val="7a23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щепедагог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ун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3235320" y="2890800"/>
            <a:ext cx="644400" cy="2351160"/>
          </a:xfrm>
          <a:prstGeom prst="rect">
            <a:avLst/>
          </a:prstGeom>
          <a:solidFill>
            <a:srgbClr val="ffffff"/>
          </a:solidFill>
          <a:ln w="15840">
            <a:solidFill>
              <a:srgbClr val="7a23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оспитатель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4449600" y="2890800"/>
            <a:ext cx="582840" cy="2351160"/>
          </a:xfrm>
          <a:prstGeom prst="rect">
            <a:avLst/>
          </a:prstGeom>
          <a:solidFill>
            <a:srgbClr val="ffffff"/>
          </a:solidFill>
          <a:ln w="15840">
            <a:solidFill>
              <a:srgbClr val="7a23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азвивающ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6897600" y="2820960"/>
            <a:ext cx="652680" cy="2421000"/>
          </a:xfrm>
          <a:prstGeom prst="rect">
            <a:avLst/>
          </a:prstGeom>
          <a:solidFill>
            <a:srgbClr val="f9cfc3"/>
          </a:solidFill>
          <a:ln w="15840">
            <a:solidFill>
              <a:srgbClr val="7a23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ошко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7819920" y="2830680"/>
            <a:ext cx="644760" cy="2411280"/>
          </a:xfrm>
          <a:prstGeom prst="rect">
            <a:avLst/>
          </a:prstGeom>
          <a:solidFill>
            <a:srgbClr val="ffffff"/>
          </a:solidFill>
          <a:ln w="15840">
            <a:solidFill>
              <a:srgbClr val="7a23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чально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786880" y="2820960"/>
            <a:ext cx="627120" cy="2421000"/>
          </a:xfrm>
          <a:prstGeom prst="rect">
            <a:avLst/>
          </a:prstGeom>
          <a:solidFill>
            <a:srgbClr val="ffffff"/>
          </a:solidFill>
          <a:ln w="15840">
            <a:solidFill>
              <a:srgbClr val="7a23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редне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0"/>
          <p:cNvSpPr/>
          <p:nvPr/>
        </p:nvSpPr>
        <p:spPr>
          <a:xfrm>
            <a:off x="9813960" y="2820960"/>
            <a:ext cx="592200" cy="2421000"/>
          </a:xfrm>
          <a:prstGeom prst="rect">
            <a:avLst/>
          </a:prstGeom>
          <a:solidFill>
            <a:srgbClr val="ffffff"/>
          </a:solidFill>
          <a:ln w="15840">
            <a:solidFill>
              <a:srgbClr val="7a23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ысш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1"/>
          <p:cNvSpPr/>
          <p:nvPr/>
        </p:nvSpPr>
        <p:spPr>
          <a:xfrm flipH="1" flipV="1" rot="5400000">
            <a:off x="3342240" y="4104720"/>
            <a:ext cx="368280" cy="3012840"/>
          </a:xfrm>
          <a:custGeom>
            <a:avLst/>
            <a:gdLst>
              <a:gd name="textAreaLeft" fmla="*/ 235080 w 368280"/>
              <a:gd name="textAreaRight" fmla="*/ 368280 w 368280"/>
              <a:gd name="textAreaTop" fmla="*/ 363600 h 3012840"/>
              <a:gd name="textAreaBottom" fmla="*/ 2649240 h 301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167"/>
                  <a:pt x="10800" y="8333"/>
                </a:cubicBezTo>
                <a:lnTo>
                  <a:pt x="10800" y="42928"/>
                </a:lnTo>
                <a:cubicBezTo>
                  <a:pt x="10800" y="47095"/>
                  <a:pt x="5400" y="51261"/>
                  <a:pt x="0" y="51261"/>
                </a:cubicBezTo>
                <a:cubicBezTo>
                  <a:pt x="5400" y="51261"/>
                  <a:pt x="10800" y="55428"/>
                  <a:pt x="10800" y="59594"/>
                </a:cubicBezTo>
                <a:lnTo>
                  <a:pt x="10800" y="13267"/>
                </a:lnTo>
                <a:cubicBezTo>
                  <a:pt x="10800" y="1743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2"/>
          <p:cNvSpPr/>
          <p:nvPr/>
        </p:nvSpPr>
        <p:spPr>
          <a:xfrm flipH="1" flipV="1" rot="5400000">
            <a:off x="7042680" y="5284800"/>
            <a:ext cx="368280" cy="652320"/>
          </a:xfrm>
          <a:custGeom>
            <a:avLst/>
            <a:gdLst>
              <a:gd name="textAreaLeft" fmla="*/ 235080 w 368280"/>
              <a:gd name="textAreaRight" fmla="*/ 368280 w 368280"/>
              <a:gd name="textAreaTop" fmla="*/ 78480 h 652320"/>
              <a:gd name="textAreaBottom" fmla="*/ 573840 h 65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167"/>
                  <a:pt x="10800" y="8333"/>
                </a:cubicBezTo>
                <a:lnTo>
                  <a:pt x="10800" y="42928"/>
                </a:lnTo>
                <a:cubicBezTo>
                  <a:pt x="10800" y="47095"/>
                  <a:pt x="5400" y="51261"/>
                  <a:pt x="0" y="51261"/>
                </a:cubicBezTo>
                <a:cubicBezTo>
                  <a:pt x="5400" y="51261"/>
                  <a:pt x="10800" y="55428"/>
                  <a:pt x="10800" y="59594"/>
                </a:cubicBezTo>
                <a:lnTo>
                  <a:pt x="10800" y="13267"/>
                </a:lnTo>
                <a:cubicBezTo>
                  <a:pt x="10800" y="1743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3"/>
          <p:cNvSpPr/>
          <p:nvPr/>
        </p:nvSpPr>
        <p:spPr>
          <a:xfrm>
            <a:off x="2230560" y="6242040"/>
            <a:ext cx="433440" cy="387360"/>
          </a:xfrm>
          <a:prstGeom prst="rect">
            <a:avLst/>
          </a:prstGeom>
          <a:solidFill>
            <a:srgbClr val="ffffff"/>
          </a:solidFill>
          <a:ln w="15840">
            <a:solidFill>
              <a:srgbClr val="7a23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4"/>
          <p:cNvSpPr/>
          <p:nvPr/>
        </p:nvSpPr>
        <p:spPr>
          <a:xfrm>
            <a:off x="3335400" y="6242040"/>
            <a:ext cx="433440" cy="387360"/>
          </a:xfrm>
          <a:prstGeom prst="rect">
            <a:avLst/>
          </a:prstGeom>
          <a:solidFill>
            <a:srgbClr val="ffffff"/>
          </a:solidFill>
          <a:ln w="15840">
            <a:solidFill>
              <a:srgbClr val="7a23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5"/>
          <p:cNvSpPr/>
          <p:nvPr/>
        </p:nvSpPr>
        <p:spPr>
          <a:xfrm>
            <a:off x="4405320" y="6242040"/>
            <a:ext cx="433440" cy="387360"/>
          </a:xfrm>
          <a:prstGeom prst="rect">
            <a:avLst/>
          </a:prstGeom>
          <a:solidFill>
            <a:srgbClr val="ffffff"/>
          </a:solidFill>
          <a:ln w="15840">
            <a:solidFill>
              <a:srgbClr val="7a23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6"/>
          <p:cNvSpPr/>
          <p:nvPr/>
        </p:nvSpPr>
        <p:spPr>
          <a:xfrm>
            <a:off x="6602400" y="6232680"/>
            <a:ext cx="433440" cy="387360"/>
          </a:xfrm>
          <a:prstGeom prst="rect">
            <a:avLst/>
          </a:prstGeom>
          <a:solidFill>
            <a:srgbClr val="ffffff"/>
          </a:solidFill>
          <a:ln w="15840">
            <a:solidFill>
              <a:srgbClr val="7a23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7"/>
          <p:cNvSpPr/>
          <p:nvPr/>
        </p:nvSpPr>
        <p:spPr>
          <a:xfrm>
            <a:off x="7432560" y="6242040"/>
            <a:ext cx="433440" cy="387360"/>
          </a:xfrm>
          <a:prstGeom prst="rect">
            <a:avLst/>
          </a:prstGeom>
          <a:solidFill>
            <a:srgbClr val="ffffff"/>
          </a:solidFill>
          <a:ln w="15840">
            <a:solidFill>
              <a:srgbClr val="7a23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8"/>
          <p:cNvSpPr/>
          <p:nvPr/>
        </p:nvSpPr>
        <p:spPr>
          <a:xfrm>
            <a:off x="8264520" y="6242040"/>
            <a:ext cx="433440" cy="387360"/>
          </a:xfrm>
          <a:prstGeom prst="rect">
            <a:avLst/>
          </a:prstGeom>
          <a:solidFill>
            <a:srgbClr val="ffffff"/>
          </a:solidFill>
          <a:ln w="15840">
            <a:solidFill>
              <a:srgbClr val="7a23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9"/>
          <p:cNvSpPr/>
          <p:nvPr/>
        </p:nvSpPr>
        <p:spPr>
          <a:xfrm>
            <a:off x="6602400" y="6232680"/>
            <a:ext cx="433440" cy="387360"/>
          </a:xfrm>
          <a:prstGeom prst="rect">
            <a:avLst/>
          </a:prstGeom>
          <a:solidFill>
            <a:srgbClr val="ffffff"/>
          </a:solidFill>
          <a:ln w="15840">
            <a:solidFill>
              <a:srgbClr val="7a23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0"/>
          <p:cNvSpPr/>
          <p:nvPr/>
        </p:nvSpPr>
        <p:spPr>
          <a:xfrm>
            <a:off x="7432560" y="6242040"/>
            <a:ext cx="433440" cy="387360"/>
          </a:xfrm>
          <a:prstGeom prst="rect">
            <a:avLst/>
          </a:prstGeom>
          <a:solidFill>
            <a:srgbClr val="ffffff"/>
          </a:solidFill>
          <a:ln w="15840">
            <a:solidFill>
              <a:srgbClr val="7a23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1"/>
          <p:cNvSpPr/>
          <p:nvPr/>
        </p:nvSpPr>
        <p:spPr>
          <a:xfrm>
            <a:off x="8273880" y="6242040"/>
            <a:ext cx="433440" cy="387360"/>
          </a:xfrm>
          <a:prstGeom prst="rect">
            <a:avLst/>
          </a:prstGeom>
          <a:solidFill>
            <a:srgbClr val="ffffff"/>
          </a:solidFill>
          <a:ln w="15840">
            <a:solidFill>
              <a:srgbClr val="7a23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88760" y="623880"/>
            <a:ext cx="8915400" cy="3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2589120" y="1243080"/>
            <a:ext cx="8915400" cy="46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Wingdings 3" charset="2"/>
              <a:buChar char="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</a:rPr>
              <a:t>В ПС определены требования к квалификации, необходимой для выполнения ОТФ, а, следовательно, и ТФ, ее составляющ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</a:rPr>
              <a:t>Требования к квалификации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</a:rPr>
              <a:t>требования к образованию + требования к опыту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0" y="0"/>
          <a:ext cx="12193560" cy="6858000"/>
        </p:xfrm>
        <a:graphic>
          <a:graphicData uri="http://schemas.openxmlformats.org/drawingml/2006/table">
            <a:tbl>
              <a:tblPr/>
              <a:tblGrid>
                <a:gridCol w="4064040"/>
                <a:gridCol w="4065480"/>
                <a:gridCol w="4064040"/>
              </a:tblGrid>
              <a:tr h="4651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ребования к образова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ребования к опыту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словия допуска к работ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639288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шее образование или среднее профессиональное образование в рамках укрупненных групп  направлений подготовки высшего образования и специальностей среднего профессионального образования «Образование и педагогические науки» либо высшее образование или среднее профессиональное образование и дополнительное профессиональное образование по направлению деятельности в образовательной организа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cd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бования к опыту практической работы не предъявляютс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cd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 педагогической деятельности не допускаются лица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шенные права заниматься педагогической деятельностью в соответствии с вступившим в законную силу приговором суда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ющие или имевшие судимость за преступления, состав и виды которых установлены законодательством Российской Федерации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нанные недееспособными в установленном федеральным законом порядке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ющие заболевания, предусмотренные установленным перечне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cd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642760" y="96840"/>
            <a:ext cx="87613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Times New Roman"/>
              </a:rPr>
              <a:t>Общепедагогическая функци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0" y="511200"/>
          <a:ext cx="12193560" cy="7383600"/>
        </p:xfrm>
        <a:graphic>
          <a:graphicData uri="http://schemas.openxmlformats.org/drawingml/2006/table">
            <a:tbl>
              <a:tblPr/>
              <a:tblGrid>
                <a:gridCol w="4064040"/>
                <a:gridCol w="4065480"/>
                <a:gridCol w="4064040"/>
              </a:tblGrid>
              <a:tr h="44136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рудовые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обходимые ум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обходимые зн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6942240">
                <a:tc>
                  <a:txBody>
                    <a:bodyPr lIns="90000" rIns="90000" tIns="57240" bIns="46800" anchor="t">
                      <a:noAutofit/>
                    </a:bodyPr>
                    <a:p>
                      <a:pPr marL="216000" indent="-21600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аботка и реализация программ учебных дисциплин в рамках ОО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уществление проф. деятельности в соответствии с требованиями ФГОС 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ирование и проведение учебных занят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тический анализ эффективности учебных занятий и подходов к обучению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универсальных учебных действи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навыков, связанных с информационно-коммуникационными технологиями (далее - ИК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мотивации к обучени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cdcc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marL="216000" indent="-21600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адеть формами и методами обучения, оценивать знания обучающихся на основе тестирования и других методов контроля в соответствии с реальными учебными возможностями де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абатывать (осваивать) и применять современные психолого-педагогические технологии, основанные на знании законов развития личности и поведения в реальной и виртуальной сред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и апробировать специальные подходы к обучению в целях включения в образовательный процесс всех обучающихся, в том числе с особыми потребностями в образовании: обучающихся, проявивших выдающиеся способности; обучающихся, для которых русский язык не является родным; обучающихся с ограниченными возможностями здоровь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ть ИКТ-компетентност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cdcc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marL="285840" indent="-28440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закономерности возрастного развития, стадии и кризисы развития, социализации лич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440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ти достижения образовательных результатов и способы оценки результатов обучения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440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методики преподавания, виды и приемы современных педагогических технолог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440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ая программа и методика обучения по данному предме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440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ные направления развития образовательной системы РФ, законов и иных нормативных правовых актов, регламентирующих образовательную деятельность в Российской Фед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440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ные документы по вопросам обучения и воспитания детей и молодеж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440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венция о правах реб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440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ое законодатель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cdcc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981080" y="125280"/>
            <a:ext cx="822960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Times New Roman"/>
              </a:rPr>
              <a:t>Воспитательная функция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0" y="596880"/>
          <a:ext cx="12193560" cy="6261120"/>
        </p:xfrm>
        <a:graphic>
          <a:graphicData uri="http://schemas.openxmlformats.org/drawingml/2006/table">
            <a:tbl>
              <a:tblPr/>
              <a:tblGrid>
                <a:gridCol w="4064040"/>
                <a:gridCol w="4065480"/>
                <a:gridCol w="4064040"/>
              </a:tblGrid>
              <a:tr h="41580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рудовые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обходимые ум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обходимые зн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5845320">
                <a:tc>
                  <a:txBody>
                    <a:bodyPr lIns="90000" rIns="90000" tIns="57240" bIns="46800" anchor="t">
                      <a:noAutofit/>
                    </a:bodyPr>
                    <a:p>
                      <a:pPr marL="216000" indent="-21600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улирование поведения обучающихся для обеспечения безопасной образовательной сред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ировани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 реализация воспитательных программ. Реализация воспитательных возможностей различных видов деятельности ребен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дание, поддержание уклада, атмосферы и традиций жизни образовательной организации. Развитие у обучающихся познавательной активности, самостоятельности, инициативы, творческих способ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cdcc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marL="216000" indent="-21600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ить воспитательную деятельность с учетом культурных различий детей, половозрастных и индивидуальных особеннос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держивать в детском коллективе деловую, дружелюбную атмосферу. Защищать достоинство и интересы обучающихся, помогать детям, оказавшимся в конфликтной ситуации и/или неблагоприятных условия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трудничать с другими педагогическими работниками и другими специалистами в решении воспитательных зада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cdcc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законодательства о правах ребенка, законы в сфере образования и ФГО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закономерности возрастного развития, стадии и кризисы развития и социализации лич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методики воспитательной работы, основные принципы деятельностного подхода, виды и приемы современных педагогических технолог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рмативные правовые, руководящие и инструктивные документы, регулирующие экскурсий, поход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cdcc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97080" y="-360"/>
            <a:ext cx="8013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Times New Roman"/>
              </a:rPr>
              <a:t>Развивающая деятельность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0" y="546120"/>
          <a:ext cx="12193560" cy="6310440"/>
        </p:xfrm>
        <a:graphic>
          <a:graphicData uri="http://schemas.openxmlformats.org/drawingml/2006/table">
            <a:tbl>
              <a:tblPr/>
              <a:tblGrid>
                <a:gridCol w="4064040"/>
                <a:gridCol w="4065480"/>
                <a:gridCol w="4064040"/>
              </a:tblGrid>
              <a:tr h="539640">
                <a:tc>
                  <a:txBody>
                    <a:bodyPr lIns="90000" rIns="90000" tIns="6156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Трудовые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tIns="6156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еобходимые ум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tIns="6156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еобходимые зн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5770800">
                <a:tc>
                  <a:txBody>
                    <a:bodyPr lIns="90000" rIns="90000" tIns="57960" bIns="46800" anchor="t">
                      <a:noAutofit/>
                    </a:bodyPr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ыявление в ходе наблюдения поведенческих и личностных проблем обучающихся, связанных с особенностями их развит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именение инструментария и методов диагностики и оценки показателей уровня и динамики развития ребен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заимодействие с другими специалистами в рамках психолого-медико-педагогического консилиу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работка (совместно с другими специалистами) индивидуального развития ребенк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своение и адекватное применение специальных технологий и методов, позволяющих проводить коррекционно-развивающую рабо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cdcc"/>
                    </a:solidFill>
                  </a:tcPr>
                </a:tc>
                <a:tc>
                  <a:txBody>
                    <a:bodyPr lIns="90000" rIns="90000" tIns="57960" bIns="46800" anchor="t">
                      <a:noAutofit/>
                    </a:bodyPr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ладеть профессиональной установкой на оказание помощи любому ребенку вне зависимости от его реальных учебных возможностей, особенностей в поведении, состояния психического и физического здоровь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. Понимать документацию специалист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. Разрабатывать и реализовывать индивидуальные образовательные маршруты, индивидуальные программы развития с учетом личностных и возрастных особенностей обучаю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cdcc"/>
                    </a:solidFill>
                  </a:tcPr>
                </a:tc>
                <a:tc>
                  <a:txBody>
                    <a:bodyPr lIns="90000" rIns="90000" tIns="6156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нать педагогические закономерности организации образовательного процесс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сновные закономерности семейных отношений, позволяющие эффективно работать с родительской общественност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cdcc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4840" y="88920"/>
            <a:ext cx="10902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Times New Roman"/>
              </a:rPr>
              <a:t>Педагогическая деятельность </a:t>
            </a:r>
            <a:br>
              <a:rPr sz="2800"/>
            </a:br>
            <a:r>
              <a:rPr b="1" lang="en-US" sz="2800" spc="-1" strike="noStrike">
                <a:solidFill>
                  <a:srgbClr val="262626"/>
                </a:solidFill>
                <a:latin typeface="Times New Roman"/>
              </a:rPr>
              <a:t>по реализации программ ДО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0" y="1000080"/>
          <a:ext cx="12193560" cy="5857920"/>
        </p:xfrm>
        <a:graphic>
          <a:graphicData uri="http://schemas.openxmlformats.org/drawingml/2006/table">
            <a:tbl>
              <a:tblPr/>
              <a:tblGrid>
                <a:gridCol w="4064040"/>
                <a:gridCol w="4065480"/>
                <a:gridCol w="4064040"/>
              </a:tblGrid>
              <a:tr h="452520">
                <a:tc>
                  <a:txBody>
                    <a:bodyPr lIns="90000" rIns="90000" tIns="6156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Трудовые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tIns="6156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еобходимые зн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tIns="6156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еобходимые ум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5405400">
                <a:tc>
                  <a:txBody>
                    <a:bodyPr lIns="90000" rIns="90000" tIns="57960" bIns="46800" anchor="t">
                      <a:noAutofit/>
                    </a:bodyPr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частие в разработке ОП образовательной организации в соответствии с ФГОС. Участие в создании безопасной и психологически комфортной образовательной среды О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анирование и реализация образовательной работы в группе детей раннего и/или дошкольного возраста в соответствии с ФГОС и ОП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рганизация и проведение педагогического мониторинга освоения детьми образовательной программы и анализ образовательной работы в группе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витие профессионально значимых компетенций, необходимых для решения образовательных задач развития детей дошкольного возраст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cdcc"/>
                    </a:solidFill>
                  </a:tcPr>
                </a:tc>
                <a:tc>
                  <a:txBody>
                    <a:bodyPr lIns="90000" rIns="90000" tIns="59760" bIns="46800" anchor="t">
                      <a:noAutofit/>
                    </a:bodyPr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пецифика дошкольного образования и особенностей организации работы с детьми раннего и дошкольного возра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сновные психологические подходы: культурно-исторический, деятельностный и личностны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щие закономерности развития ребенка в раннем и дошкольном возраст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овременные тенденции развития дошкольного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cdcc"/>
                    </a:solidFill>
                  </a:tcPr>
                </a:tc>
                <a:tc>
                  <a:txBody>
                    <a:bodyPr lIns="90000" rIns="90000" tIns="5976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рганизовывать виды деятельности, осуществляемые в дошкольном возрасте: предметная, познавательно-исследовательская, игра (ролевая, режиссерская, с правилом), продуктивна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ладеть всеми видами развивающих деятельностей дошкольника (игровой, продуктивной, познавательно-исследовательской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ыстраивать партнерское взаимодействие с родителями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ладеть ИКТ-компетентностя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cdcc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55760" y="171000"/>
            <a:ext cx="9048960" cy="3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2255760" y="619200"/>
            <a:ext cx="9404280" cy="60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0152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imes New Roman"/>
              </a:rPr>
              <a:t>Глобализация образования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- процесс все большего приспосо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системы обучения к запросам глобальной рыночной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imes New Roman"/>
              </a:rPr>
              <a:t>Модернизации профессионального образования -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политическая и общенациональная задача, цель которой состоит в создании механизма устойчивого развития системы образования, обеспечивающего формирование целостной естественно - научной картины мира, высокое качество образования, которое соответствует вызовам XXI 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Times New Roman"/>
              </a:rPr>
              <a:t>Профессиональный стандарт педагог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Text Box 2"/>
          <p:cNvSpPr/>
          <p:nvPr/>
        </p:nvSpPr>
        <p:spPr>
          <a:xfrm>
            <a:off x="1573200" y="1558800"/>
            <a:ext cx="9929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Профессиональный стандарт «Педагог (педаг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деятельность в сфере дошкольного, начального обще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основного общего, среднего общего образова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(воспитатель, учитель)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363"/>
              </a:spcBef>
              <a:buClr>
                <a:srgbClr val="e4005c"/>
              </a:buClr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утвержден приказом Министерства труда и соцзащиты Российской Федерации от 18 октября 2013 г. N 544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363"/>
              </a:spcBef>
              <a:buClr>
                <a:srgbClr val="e4005c"/>
              </a:buClr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зарегистрирован Министерством юстиции 6 декабря 201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363"/>
              </a:spcBef>
              <a:buClr>
                <a:srgbClr val="e4005c"/>
              </a:buClr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вводится в массовое применение с 1 сентября 2019 г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363"/>
              </a:spcBef>
              <a:buClr>
                <a:srgbClr val="e4005c"/>
              </a:buClr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но с 2014 г.– режим апроб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Times New Roman"/>
              </a:rPr>
              <a:t>Область применения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2589120" y="2133720"/>
            <a:ext cx="89154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Применяется работодателями при формировании кадровой политики и в управлении персоналом, при организации обучения и аттестации работников, заключении трудовых договоров, разработке должностных инструкций и </a:t>
            </a:r>
            <a:r>
              <a:rPr b="1" lang="en-US" sz="2800" spc="-1" strike="noStrike" u="sng">
                <a:solidFill>
                  <a:srgbClr val="404040"/>
                </a:solidFill>
                <a:uFillTx/>
                <a:latin typeface="Times New Roman"/>
              </a:rPr>
              <a:t>установлении систем оплаты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Times New Roman"/>
              </a:rPr>
              <a:t>Профессиональный стандарт педагог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Text Box 2"/>
          <p:cNvSpPr/>
          <p:nvPr/>
        </p:nvSpPr>
        <p:spPr>
          <a:xfrm>
            <a:off x="1976400" y="1636560"/>
            <a:ext cx="9528120" cy="52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90000"/>
              </a:lnSpc>
              <a:spcBef>
                <a:spcPts val="363"/>
              </a:spcBef>
              <a:buClr>
                <a:srgbClr val="e4005c"/>
              </a:buClr>
              <a:buFont typeface="Wingdings 3" charset="2"/>
              <a:buChar char="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Профессиональный стандарт – </a:t>
            </a:r>
            <a:r>
              <a:rPr b="1" lang="en-US" sz="2400" spc="-1" strike="noStrike">
                <a:solidFill>
                  <a:srgbClr val="404040"/>
                </a:solidFill>
                <a:latin typeface="Times New Roman"/>
              </a:rPr>
              <a:t>документ,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 содержа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характеристику квалификации, необходимой работн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для осуществления определенного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профессиональной деятельности  ( ст.195.1 ТК РФ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363"/>
              </a:spcBef>
              <a:buClr>
                <a:srgbClr val="e4005c"/>
              </a:buClr>
              <a:buFont typeface="Wingdings 3" charset="2"/>
              <a:buChar char="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Содержит перечисление трудовых действий, котор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должен выполн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специалист в рамках своих профессиональных функц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и определяет требования к необходимым для эт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imes New Roman"/>
              </a:rPr>
              <a:t>умениям и знаниям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588760" y="623520"/>
            <a:ext cx="8915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Times New Roman"/>
              </a:rPr>
              <a:t>Трудовой кодекс РФ (в новой редакции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2589120" y="1590840"/>
            <a:ext cx="89154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Wingdings 3" charset="2"/>
              <a:buChar char="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Статья 195.1. Понятия квалификации работника, профессионального стандарта (ПС)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Квалификация работника - уровень знаний, умений, профессиональных навыков и опыта работы работ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Wingdings 3" charset="2"/>
              <a:buChar char="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ПС - характеристика квалификации, необходимой работнику для осуществления определенного вида профессиональной деятельности, в том числе выполнения определенной трудовой функции (ТФ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Wingdings 3" charset="2"/>
              <a:buChar char="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Статья 195.3.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Если настоящим Кодексом, другими ФЗ, иными нормативными правовыми актами РФ установлены требования к квалификации, необходимой работнику для выполнения определенной ТФ, ПС в части указанных требований - обязательны для применения работодателями.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Times New Roman"/>
              </a:rPr>
              <a:t>Федеральный закон от 29.12.2012 № 273-ФЗ "Об образовании в Российской Федерации"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374920" y="1590840"/>
            <a:ext cx="912816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Wingdings 3" charset="2"/>
              <a:buChar char="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imes New Roman"/>
              </a:rPr>
              <a:t>Статья 46. Право на занятие педагогической деятельно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Право на занятие педагогической деятельностью имеют лица, имеющие среднее профессиональное или высшее образование и отвечающие квалификационным требованиям, указанным в квалификационных справочниках, и (или) </a:t>
            </a:r>
            <a:r>
              <a:rPr b="1" lang="en-US" sz="2400" spc="-1" strike="noStrike">
                <a:solidFill>
                  <a:srgbClr val="404040"/>
                </a:solidFill>
                <a:latin typeface="Times New Roman"/>
              </a:rPr>
              <a:t>профессиональным стандартам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Номенклатура должностей педагогических работников организаций, осуществляющих образовательную деятельность, должностей руководителей образовательных организаций утверждается Правительством Российской Феде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88760" y="198360"/>
            <a:ext cx="8915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Times New Roman"/>
              </a:rPr>
              <a:t>ПРИМЕНЕНИЕ ПС по ВЭД «Образование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1558800" y="649440"/>
            <a:ext cx="1055376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imes New Roman"/>
              </a:rPr>
              <a:t>ВЭД – виды экономи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Franklin Gothic Book"/>
              </a:rPr>
              <a:t>Работодатели: </a:t>
            </a:r>
            <a:r>
              <a:rPr b="0" lang="en-US" sz="1800" spc="-1" strike="noStrike">
                <a:solidFill>
                  <a:srgbClr val="404040"/>
                </a:solidFill>
                <a:latin typeface="Franklin Gothic Book"/>
              </a:rPr>
              <a:t>обеспечение соответствия квалификации работников требованиям ПС, подбор и расстановка педагогов и руководителей образовательных организаций, стимулирование качества труда работников (в т.ч. через «эффективный контракт», организация подготовки и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5064120" y="2652840"/>
            <a:ext cx="1776240" cy="869760"/>
          </a:xfrm>
          <a:prstGeom prst="rect">
            <a:avLst/>
          </a:prstGeom>
          <a:solidFill>
            <a:srgbClr val="f5cba0"/>
          </a:solidFill>
          <a:ln w="15840">
            <a:solidFill>
              <a:srgbClr val="7a23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878120" y="2281320"/>
            <a:ext cx="2593800" cy="22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Работники: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определение своего профессионального уровня, планирование повышения квалификации и  карьерного ро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7834320" y="2281320"/>
            <a:ext cx="4038480" cy="20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Органы власти::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формирование и реализация кадровой политики в сфере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Службы по надзору в образовании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: Оценка соответствия педагогов и руководителей требованиям П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371760" y="4354560"/>
            <a:ext cx="60962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Система  непрерывного профессионального образования: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формирование и обновление ФГОС, образовательных программ, оценка соответствия подготовки выпускников  требованиям П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1558800" y="5211720"/>
            <a:ext cx="9853560" cy="1611360"/>
          </a:xfrm>
          <a:prstGeom prst="upArrowCallout">
            <a:avLst>
              <a:gd name="adj1" fmla="val -87020"/>
              <a:gd name="adj2" fmla="val 152876"/>
              <a:gd name="adj3" fmla="val 16667"/>
              <a:gd name="adj4" fmla="val 66660"/>
            </a:avLst>
          </a:prstGeom>
          <a:solidFill>
            <a:srgbClr val="ffff00"/>
          </a:solidFill>
          <a:ln w="15840">
            <a:solidFill>
              <a:srgbClr val="7a23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285840" indent="-2844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К РФ: ст. 195.1 – 195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44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З «Об образовании в РФ»: ст. 11, 46, 51, 52 и 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44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становление Правительства РФ от 27 июня 2016 г. №584 «Об особенностях применения ПС… государственными или муниципальными учреждениями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8"/>
          <p:cNvSpPr/>
          <p:nvPr/>
        </p:nvSpPr>
        <p:spPr>
          <a:xfrm>
            <a:off x="5565600" y="3638520"/>
            <a:ext cx="694080" cy="700200"/>
          </a:xfrm>
          <a:custGeom>
            <a:avLst/>
            <a:gdLst>
              <a:gd name="textAreaLeft" fmla="*/ 121320 w 694080"/>
              <a:gd name="textAreaRight" fmla="*/ 503280 w 694080"/>
              <a:gd name="textAreaTop" fmla="*/ 93600 h 700200"/>
              <a:gd name="textAreaBottom" fmla="*/ 606600 h 7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00"/>
          </a:solidFill>
          <a:ln w="15840">
            <a:solidFill>
              <a:srgbClr val="7a23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9"/>
          <p:cNvSpPr/>
          <p:nvPr/>
        </p:nvSpPr>
        <p:spPr>
          <a:xfrm>
            <a:off x="4070520" y="2517840"/>
            <a:ext cx="979200" cy="490320"/>
          </a:xfrm>
          <a:custGeom>
            <a:avLst/>
            <a:gdLst>
              <a:gd name="textAreaLeft" fmla="*/ 171360 w 979200"/>
              <a:gd name="textAreaRight" fmla="*/ 709920 w 979200"/>
              <a:gd name="textAreaTop" fmla="*/ 65520 h 490320"/>
              <a:gd name="textAreaBottom" fmla="*/ 424800 h 490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15840">
            <a:solidFill>
              <a:srgbClr val="7a23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0"/>
          <p:cNvSpPr/>
          <p:nvPr/>
        </p:nvSpPr>
        <p:spPr>
          <a:xfrm flipH="1">
            <a:off x="6951600" y="2517840"/>
            <a:ext cx="882720" cy="488880"/>
          </a:xfrm>
          <a:custGeom>
            <a:avLst/>
            <a:gdLst>
              <a:gd name="textAreaLeft" fmla="*/ 154800 w 882720"/>
              <a:gd name="textAreaRight" fmla="*/ 640440 w 882720"/>
              <a:gd name="textAreaTop" fmla="*/ 65520 h 488880"/>
              <a:gd name="textAreaBottom" fmla="*/ 423360 h 488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15840">
            <a:solidFill>
              <a:srgbClr val="7a23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1"/>
          <p:cNvSpPr/>
          <p:nvPr/>
        </p:nvSpPr>
        <p:spPr>
          <a:xfrm>
            <a:off x="5643720" y="1957320"/>
            <a:ext cx="615960" cy="558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5840">
            <a:solidFill>
              <a:srgbClr val="7a23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12-11T14:20:15Z</dcterms:modified>
  <cp:revision>1</cp:revision>
  <dc:subject/>
  <dc:title>   Государственное бюджетное дошкольное образовательное учреждение детский сад № 11 общеразвивающего вида с приоритетным осуществлением деятельности по физическому развитию детей Невского района Санкт – Петербурга      составитель Зам.зав. по УВР ГБДОУ№11 Кузнецова Л.И.</dc:title>
</cp:coreProperties>
</file>