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366-57AF-43A7-8D5C-7D95C8C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87B-CA2C-49C5-8EF4-4E38B2B6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8CA-E600-4C44-B51F-529FF4F0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6B1-C790-4381-A522-5C4ECCA5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A6C9-6FF8-4E5F-9801-65191356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CCA0-796D-4BBB-9240-084D263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699-73BC-4B82-A163-B0B080D9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4BE8-0F73-40BC-A43A-A9D4A6CA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919-337F-4DF1-94B1-05D01B2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368B-6658-44E8-8343-776AC66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648C-CE95-46D5-82DE-1DDA0AB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EC8-C2D6-476C-BAEB-EC225959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DDD3-49AA-4A3D-9312-929CF82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19A5-8137-49AD-8A76-E01800A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EA02-4DB1-4AEC-9E95-3317FED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54B4-74CB-4357-AFC9-55A16E2E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B8D5-1F72-448E-80E5-85F41B31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CD6C-AC15-4D6D-9321-1582DF19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EB74-CCAF-4CCC-9C00-2F6D430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AAF8-CAF4-4B3E-87A2-27129C6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7FB3-F614-4853-B806-A821B16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A41E-3E66-40EB-9BE4-47860232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F1D-B4EF-4E51-9CF0-12005F3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0997-EEBD-472F-A3B8-43EA9CBF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EDE0-80E2-4A81-9730-704FDEA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579E-5568-43D4-AB8D-146E2A2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0FFF-7C05-40FA-98F3-9D48B59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AFD8-F2BF-4D04-8F19-19B5365B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B4F6-29BC-4CA3-9CBC-AB79E1F1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E44A-C237-4591-895F-13F15CFF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B89-D4FF-4DE3-B145-FA67A00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068-2128-4CBA-85F6-656B521A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408-529D-4CD5-AD76-8141958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535-800A-4934-8954-96D679F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F99-5335-450F-A238-41DD9AA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EAE-7BFA-4F3A-A27B-8750411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1697-4CB8-4313-ACFB-11FD438762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525-C423-4DEA-85B4-807EF826D9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0E3A-B819-4B6C-9EF5-EBFD5F87C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www.autocentre.ua/truck/04/01/images/10/POGARKI-03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xpetra.ru/uploads/thumbnails/uploads/images-db/415_5436661_460x50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art5.karelia.ru/photo/16/166/42508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0480" y="1152360"/>
            <a:ext cx="852948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Заголовок 1"/>
          <p:cNvGrpSpPr/>
          <p:nvPr/>
        </p:nvGrpSpPr>
        <p:grpSpPr>
          <a:xfrm>
            <a:off x="347760" y="817560"/>
            <a:ext cx="8156520" cy="5479920"/>
            <a:chOff x="347760" y="817560"/>
            <a:chExt cx="8156520" cy="5479920"/>
          </a:xfrm>
        </p:grpSpPr>
        <p:pic>
          <p:nvPicPr>
            <p:cNvPr id="1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47760" y="817560"/>
              <a:ext cx="815652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57200" y="857160"/>
              <a:ext cx="78296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задачи 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ой государственной системы предупреждения и ликвидации чрезвычайных ситуа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оугольник 1"/>
          <p:cNvGrpSpPr/>
          <p:nvPr/>
        </p:nvGrpSpPr>
        <p:grpSpPr>
          <a:xfrm>
            <a:off x="-603360" y="695160"/>
            <a:ext cx="8326440" cy="5303880"/>
            <a:chOff x="-603360" y="695160"/>
            <a:chExt cx="8326440" cy="5303880"/>
          </a:xfrm>
        </p:grpSpPr>
        <p:pic>
          <p:nvPicPr>
            <p:cNvPr id="14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603360" y="695160"/>
              <a:ext cx="832644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00040" y="714240"/>
              <a:ext cx="7143840" cy="41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Предупреждение 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резвычайной ситуаци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квидация 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чрезвычайной ситуаци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38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вычай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86720" cy="1143000"/>
          </a:xfrm>
          <a:prstGeom prst="rect">
            <a:avLst/>
          </a:prstGeom>
          <a:gradFill rotWithShape="0">
            <a:gsLst>
              <a:gs pos="0">
                <a:srgbClr val="c2b595"/>
              </a:gs>
              <a:gs pos="100000">
                <a:srgbClr val="ffeec3"/>
              </a:gs>
            </a:gsLst>
            <a:lin ang="16200000"/>
          </a:gradFill>
          <a:ln w="9360">
            <a:solidFill>
              <a:srgbClr val="faec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чрезвычайной ситу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2" descr=""/>
          <p:cNvPicPr/>
          <p:nvPr/>
        </p:nvPicPr>
        <p:blipFill>
          <a:blip r:embed="rId1"/>
          <a:stretch/>
        </p:blipFill>
        <p:spPr>
          <a:xfrm>
            <a:off x="-487440" y="1749600"/>
            <a:ext cx="9113760" cy="533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резвычай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500960" cy="1538280"/>
          </a:xfrm>
          <a:prstGeom prst="rect">
            <a:avLst/>
          </a:prstGeom>
          <a:noFill/>
          <a:ln w="57240">
            <a:solidFill>
              <a:srgbClr val="ffe37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чрезвычайных ситуац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tangle 3" descr=""/>
          <p:cNvPicPr/>
          <p:nvPr/>
        </p:nvPicPr>
        <p:blipFill>
          <a:blip r:embed="rId1"/>
          <a:stretch/>
        </p:blipFill>
        <p:spPr>
          <a:xfrm>
            <a:off x="-60480" y="2262240"/>
            <a:ext cx="5523120" cy="4290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pozhar2a"/>
          <p:cNvPicPr/>
          <p:nvPr/>
        </p:nvPicPr>
        <p:blipFill>
          <a:blip r:embed="rId2"/>
          <a:stretch/>
        </p:blipFill>
        <p:spPr>
          <a:xfrm>
            <a:off x="5429160" y="2357280"/>
            <a:ext cx="2801880" cy="2928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Заголовок 1"/>
          <p:cNvGrpSpPr/>
          <p:nvPr/>
        </p:nvGrpSpPr>
        <p:grpSpPr>
          <a:xfrm>
            <a:off x="396720" y="676440"/>
            <a:ext cx="7888320" cy="5041800"/>
            <a:chOff x="396720" y="676440"/>
            <a:chExt cx="7888320" cy="5041800"/>
          </a:xfrm>
        </p:grpSpPr>
        <p:pic>
          <p:nvPicPr>
            <p:cNvPr id="1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676440"/>
              <a:ext cx="7888320" cy="50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714240"/>
              <a:ext cx="7758000" cy="49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мероприятия по защите  населения от Ч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3840" y="213840"/>
            <a:ext cx="4357800" cy="6286680"/>
          </a:xfrm>
          <a:prstGeom prst="rect">
            <a:avLst/>
          </a:prstGeom>
          <a:noFill/>
          <a:ln w="9360">
            <a:solidFill>
              <a:srgbClr val="faf2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a6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ониторинг и прогнозирование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е населения об угрозе возникновения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енерная защита населения и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селения к действиям в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 населения из опасных райо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аварийно-спасатель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Картинка 33 из 3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71680"/>
            <a:ext cx="3348360" cy="4786200"/>
          </a:xfrm>
          <a:prstGeom prst="rect">
            <a:avLst/>
          </a:prstGeom>
          <a:ln w="25560">
            <a:solidFill>
              <a:srgbClr val="ffefb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142920" y="773280"/>
            <a:ext cx="77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ная на  наблюдение и предвидение ЧС, составляет общее понятие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ониторинг и прогнозирование  чрезвычайных ситуаций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Содержимое 2"/>
          <p:cNvGrpSpPr/>
          <p:nvPr/>
        </p:nvGrpSpPr>
        <p:grpSpPr>
          <a:xfrm>
            <a:off x="-103320" y="426960"/>
            <a:ext cx="4784760" cy="5772240"/>
            <a:chOff x="-103320" y="426960"/>
            <a:chExt cx="4784760" cy="5772240"/>
          </a:xfrm>
        </p:grpSpPr>
        <p:pic>
          <p:nvPicPr>
            <p:cNvPr id="16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103320" y="426960"/>
              <a:ext cx="4784760" cy="577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42920" y="571680"/>
              <a:ext cx="4329000" cy="55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иторинг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это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блюдение за состоянием окружающей среды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атмосферы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идросферы, биосферы, а также техногенных систем)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целью ее контроля, прогноза и охраны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5" descr="foto2"/>
          <p:cNvPicPr/>
          <p:nvPr/>
        </p:nvPicPr>
        <p:blipFill>
          <a:blip r:embed="rId2"/>
          <a:stretch/>
        </p:blipFill>
        <p:spPr>
          <a:xfrm>
            <a:off x="4500720" y="1357200"/>
            <a:ext cx="369072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-main-pic" descr="Картинка 36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428760"/>
            <a:ext cx="7572240" cy="592920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468360" y="765000"/>
            <a:ext cx="31669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1d1"/>
                </a:solidFill>
                <a:latin typeface="Times New Roman"/>
                <a:ea typeface="Times New Roman"/>
              </a:rPr>
              <a:t>Девиз урока: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1d1"/>
                </a:solidFill>
                <a:latin typeface="Times New Roman"/>
                <a:ea typeface="Times New Roman"/>
              </a:rPr>
              <a:t>Предупреждён – значит вооруже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7786440" cy="4143240"/>
          </a:xfrm>
          <a:prstGeom prst="rect">
            <a:avLst/>
          </a:prstGeom>
          <a:noFill/>
          <a:ln w="76320">
            <a:solidFill>
              <a:srgbClr val="6666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деятельности  РСЧС по мониторингу и прогнозированию  чрезвычайных ситу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хема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780228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428760" y="428760"/>
            <a:ext cx="7715160" cy="5154480"/>
          </a:xfrm>
          <a:prstGeom prst="rect">
            <a:avLst/>
          </a:prstGeom>
          <a:noFill/>
          <a:ln w="25560">
            <a:solidFill>
              <a:srgbClr val="bcb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цели  мониторинга и  прогнозирования Ч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риска и смягчение последствий ЧС природного и техногенного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го проявления источников ЧС (зон потенциальной опас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лаговременное определение параметров источников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лаговременное определение последствий (масштабов) Ч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ведения экспертизы инженерных защитных соору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проведения активных воздействий на источники ЧС, с целью их подавления, локализации и контроля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Прямоугольник 1"/>
          <p:cNvGrpSpPr/>
          <p:nvPr/>
        </p:nvGrpSpPr>
        <p:grpSpPr>
          <a:xfrm>
            <a:off x="122400" y="1182600"/>
            <a:ext cx="7918200" cy="2792520"/>
            <a:chOff x="122400" y="1182600"/>
            <a:chExt cx="7918200" cy="2792520"/>
          </a:xfrm>
        </p:grpSpPr>
        <p:pic>
          <p:nvPicPr>
            <p:cNvPr id="17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2400" y="1182600"/>
              <a:ext cx="791820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28800" y="1428840"/>
              <a:ext cx="6786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ществуе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сколько видов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иторинг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атмосфе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357120" y="1571760"/>
            <a:ext cx="7572600" cy="4530600"/>
          </a:xfrm>
          <a:prstGeom prst="rect">
            <a:avLst/>
          </a:prstGeom>
          <a:noFill/>
          <a:ln w="9360">
            <a:solidFill>
              <a:srgbClr val="fbea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Федеральной службой России по гидрометеорологии и мониторингу окружающей среды (Росгидромет), которая рассредоточена по всей территори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ниторинга Росгидромета в своем распоряжении имеет сеть метеорологических и гидрологических станций, а также наблюдательные посты, гидрометеорологические обсерватории,  авиаметеорологические  и аэрозольные ста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11200_90_1205484942_67175.jpg"/>
          <p:cNvPicPr/>
          <p:nvPr/>
        </p:nvPicPr>
        <p:blipFill>
          <a:blip r:embed="rId1"/>
          <a:stretch/>
        </p:blipFill>
        <p:spPr>
          <a:xfrm>
            <a:off x="428760" y="6429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86720" cy="1143000"/>
          </a:xfrm>
          <a:prstGeom prst="rect">
            <a:avLst/>
          </a:prstGeom>
          <a:noFill/>
          <a:ln w="9360">
            <a:solidFill>
              <a:srgbClr val="faec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геологических проце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2428920"/>
            <a:ext cx="7858080" cy="3165480"/>
          </a:xfrm>
          <a:prstGeom prst="rect">
            <a:avLst/>
          </a:prstGeom>
          <a:noFill/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ся комплексными инженерно-геологическими  и гидрологическими партиями Министерства природ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смические наблюдения осуществляются Федеральной системой сейсмологических наблюдений (ФССН), в которую входят наблюдательные структуры Российской академии наук, Минобороны, Минприрод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object_55_1193218142_67245.jpg"/>
          <p:cNvPicPr/>
          <p:nvPr/>
        </p:nvPicPr>
        <p:blipFill>
          <a:blip r:embed="rId1"/>
          <a:stretch/>
        </p:blipFill>
        <p:spPr>
          <a:xfrm>
            <a:off x="428760" y="428760"/>
            <a:ext cx="7715160" cy="59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11200_58_1205484942_64018.jpg"/>
          <p:cNvPicPr/>
          <p:nvPr/>
        </p:nvPicPr>
        <p:blipFill>
          <a:blip r:embed="rId1"/>
          <a:stretch/>
        </p:blipFill>
        <p:spPr>
          <a:xfrm>
            <a:off x="357120" y="500040"/>
            <a:ext cx="7715160" cy="585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резвычайных ситу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7786440" cy="18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 в мире участилось количество чрезвычайных ситуаций природного и техногенного характер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в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http://img.wood.ru/ru/lonews/1/a/28367.jpg"/>
          <p:cNvPicPr/>
          <p:nvPr/>
        </p:nvPicPr>
        <p:blipFill>
          <a:blip r:embed="rId1"/>
          <a:stretch/>
        </p:blipFill>
        <p:spPr>
          <a:xfrm>
            <a:off x="1571760" y="2500200"/>
            <a:ext cx="6072120" cy="400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758000" cy="1357200"/>
          </a:xfrm>
          <a:prstGeom prst="rect">
            <a:avLst/>
          </a:prstGeom>
          <a:noFill/>
          <a:ln w="25560">
            <a:solidFill>
              <a:srgbClr val="bcb199"/>
            </a:solidFill>
            <a:miter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ЧС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ражение  вероятности  возникновения и развития ЧС на основе анализа причин её возникнов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142920" y="2214720"/>
            <a:ext cx="4214880" cy="3894480"/>
          </a:xfrm>
          <a:prstGeom prst="rect">
            <a:avLst/>
          </a:prstGeom>
          <a:noFill/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– выявление 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я ЧС, возможного места и возможной мощности явления, которое может ее выз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ЧС осуществляется двумя путя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" descr="http://www.gisinfo.ru/images/item/41/image02a.jpg"/>
          <p:cNvPicPr/>
          <p:nvPr/>
        </p:nvPicPr>
        <p:blipFill>
          <a:blip r:embed="rId1"/>
          <a:stretch/>
        </p:blipFill>
        <p:spPr>
          <a:xfrm>
            <a:off x="4643280" y="1643040"/>
            <a:ext cx="3571920" cy="4643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357120" y="1071720"/>
            <a:ext cx="7858080" cy="3445560"/>
          </a:xfrm>
          <a:prstGeom prst="rect">
            <a:avLst/>
          </a:prstGeom>
          <a:noFill/>
          <a:ln w="76320">
            <a:solidFill>
              <a:srgbClr val="9999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– эвристический - через изучение предвестников конкретных опасных природных явлений и анализ информации мониторин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11200_73_1205484942_60158.jpg"/>
          <p:cNvPicPr/>
          <p:nvPr/>
        </p:nvPicPr>
        <p:blipFill>
          <a:blip r:embed="rId1"/>
          <a:stretch/>
        </p:blipFill>
        <p:spPr>
          <a:xfrm>
            <a:off x="428760" y="428760"/>
            <a:ext cx="7643520" cy="59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85840" y="428400"/>
            <a:ext cx="7858080" cy="1143000"/>
          </a:xfrm>
          <a:prstGeom prst="rect">
            <a:avLst/>
          </a:prstGeom>
          <a:noFill/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- (Математический) - через расчеты с использованием статистических данных за несколько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Содержимое 4" descr="http://faculty.ifmo.ru/ikvo/MPES/images/MPES/4.jpg"/>
          <p:cNvPicPr/>
          <p:nvPr/>
        </p:nvPicPr>
        <p:blipFill>
          <a:blip r:embed="rId1"/>
          <a:stretch/>
        </p:blipFill>
        <p:spPr>
          <a:xfrm>
            <a:off x="4286160" y="1857240"/>
            <a:ext cx="3857760" cy="4500720"/>
          </a:xfrm>
          <a:prstGeom prst="rect">
            <a:avLst/>
          </a:prstGeom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i-main-pic" descr="Картинка 3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500040"/>
            <a:ext cx="785628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428760" y="1532880"/>
            <a:ext cx="7643520" cy="3385800"/>
          </a:xfrm>
          <a:prstGeom prst="rect">
            <a:avLst/>
          </a:prstGeom>
          <a:noFill/>
          <a:ln w="9360">
            <a:solidFill>
              <a:srgbClr val="fbeab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четов возможных  последствий чрезвычайных ситуаций мирного и военного времени применяют вероятност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, анализируя основные поражающие  факторы чрезвычайных ситу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642960" y="1222560"/>
            <a:ext cx="7572240" cy="3141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57240">
            <a:solidFill>
              <a:srgbClr val="000000"/>
            </a:solidFill>
            <a:miter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84706"/>
                </a:solidFill>
                <a:latin typeface="Calibri"/>
                <a:ea typeface="Times New Roman"/>
              </a:rPr>
              <a:t>В качестве поражающего фактора при расчёте последствий ЧС принимают фактор, вызывающий основные разрушения и пора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85840" y="1428840"/>
          <a:ext cx="7929360" cy="4941720"/>
        </p:xfrm>
        <a:graphic>
          <a:graphicData uri="http://schemas.openxmlformats.org/drawingml/2006/table">
            <a:tbl>
              <a:tblPr/>
              <a:tblGrid>
                <a:gridCol w="3582720"/>
                <a:gridCol w="4346640"/>
              </a:tblGrid>
              <a:tr h="92844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ажающий ф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тряс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омки зданий и соору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ая ударная вол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е изл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унами; прорыв плот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на цунами; волна проры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ационные ава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ационное за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ава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ные нагр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884706"/>
                      </a:solidFill>
                    </a:lnL>
                    <a:lnR w="5760">
                      <a:solidFill>
                        <a:srgbClr val="884706"/>
                      </a:solidFill>
                    </a:lnR>
                    <a:lnT w="5760">
                      <a:solidFill>
                        <a:srgbClr val="884706"/>
                      </a:solidFill>
                    </a:lnT>
                    <a:lnB w="5760">
                      <a:solidFill>
                        <a:srgbClr val="8847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1"/>
          <p:cNvSpPr/>
          <p:nvPr/>
        </p:nvSpPr>
        <p:spPr>
          <a:xfrm>
            <a:off x="1500120" y="360720"/>
            <a:ext cx="5100840" cy="855000"/>
          </a:xfrm>
          <a:prstGeom prst="rect">
            <a:avLst/>
          </a:prstGeom>
          <a:noFill/>
          <a:ln w="9360">
            <a:solidFill>
              <a:srgbClr val="faec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АЮЩИЕ ФАКТОРЫ И ИХ ОСНОВНЫЕ ПАРАМЕ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3152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акторы, влияющие на последствия чрезвычайных ситуаций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Rectangle 1"/>
          <p:cNvGrpSpPr/>
          <p:nvPr/>
        </p:nvGrpSpPr>
        <p:grpSpPr>
          <a:xfrm>
            <a:off x="133200" y="1695600"/>
            <a:ext cx="8224920" cy="3919320"/>
            <a:chOff x="133200" y="1695600"/>
            <a:chExt cx="8224920" cy="3919320"/>
          </a:xfrm>
        </p:grpSpPr>
        <p:pic>
          <p:nvPicPr>
            <p:cNvPr id="196" name="Rectangle 1" descr=""/>
            <p:cNvPicPr/>
            <p:nvPr/>
          </p:nvPicPr>
          <p:blipFill>
            <a:blip r:embed="rId1"/>
            <a:stretch/>
          </p:blipFill>
          <p:spPr>
            <a:xfrm>
              <a:off x="133200" y="1695600"/>
              <a:ext cx="822492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85840" y="1771560"/>
              <a:ext cx="7929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интенсивность воздействия поражающих факторов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размещение населенного пункта относительно очага воздействия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характеристика грунтов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нструктивные решения и прочностные свойства зданий и сооружени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плотность застройки и расселения людей в пределах населённого пункт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режим нахождения людей в зданиях в течение суток и в зоне риска в течение год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85880"/>
            <a:ext cx="790092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ён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чи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оружен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www.vokrugsveta.ru/photo/thumbnails/1024/5873.jpg"/>
          <p:cNvPicPr/>
          <p:nvPr/>
        </p:nvPicPr>
        <p:blipFill>
          <a:blip r:embed="rId1"/>
          <a:stretch/>
        </p:blipFill>
        <p:spPr>
          <a:xfrm>
            <a:off x="500040" y="428760"/>
            <a:ext cx="775800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28960" y="5929200"/>
            <a:ext cx="2851200" cy="804960"/>
          </a:xfrm>
          <a:prstGeom prst="rect">
            <a:avLst/>
          </a:prstGeom>
          <a:solidFill>
            <a:srgbClr val="fff1d1"/>
          </a:solidFill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http://www.7c.ru/pictdb/pict/8864"/>
          <p:cNvPicPr/>
          <p:nvPr/>
        </p:nvPicPr>
        <p:blipFill>
          <a:blip r:embed="rId2"/>
          <a:stretch/>
        </p:blipFill>
        <p:spPr>
          <a:xfrm>
            <a:off x="857160" y="857160"/>
            <a:ext cx="7224840" cy="5007240"/>
          </a:xfrm>
          <a:prstGeom prst="rect">
            <a:avLst/>
          </a:prstGeom>
          <a:ln w="76320">
            <a:solidFill>
              <a:srgbClr val="ffe37b"/>
            </a:solidFill>
            <a:miter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560" y="5715000"/>
            <a:ext cx="1708200" cy="528480"/>
          </a:xfrm>
          <a:prstGeom prst="rect">
            <a:avLst/>
          </a:prstGeom>
          <a:solidFill>
            <a:srgbClr val="fff1d1"/>
          </a:solidFill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http://www.kp.ru/upimg/5a3e8f353c90697f8fa8aa939d18ebfb3dd46ab0/912555.jpg"/>
          <p:cNvPicPr/>
          <p:nvPr/>
        </p:nvPicPr>
        <p:blipFill>
          <a:blip r:embed="rId2"/>
          <a:stretch/>
        </p:blipFill>
        <p:spPr>
          <a:xfrm>
            <a:off x="857160" y="642960"/>
            <a:ext cx="700092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14800" y="5429160"/>
            <a:ext cx="1565280" cy="633600"/>
          </a:xfrm>
          <a:prstGeom prst="rect">
            <a:avLst/>
          </a:prstGeom>
          <a:solidFill>
            <a:srgbClr val="fff1d1"/>
          </a:solidFill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http://www.mountain.ru/useful/lavin/2002/lavin_guid/102.jpg"/>
          <p:cNvPicPr/>
          <p:nvPr/>
        </p:nvPicPr>
        <p:blipFill>
          <a:blip r:embed="rId1"/>
          <a:stretch/>
        </p:blipFill>
        <p:spPr>
          <a:xfrm>
            <a:off x="785880" y="428760"/>
            <a:ext cx="7000920" cy="4929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57720" y="5643360"/>
            <a:ext cx="1993680" cy="804600"/>
          </a:xfrm>
          <a:prstGeom prst="rect">
            <a:avLst/>
          </a:prstGeom>
          <a:solidFill>
            <a:srgbClr val="fff1d1"/>
          </a:solidFill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нам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http://www.kapitan.ru/novosti/2007-04-20/image001.jpg"/>
          <p:cNvPicPr/>
          <p:nvPr/>
        </p:nvPicPr>
        <p:blipFill>
          <a:blip r:embed="rId1"/>
          <a:srcRect l="9108" t="0" r="9108" b="0"/>
          <a:stretch/>
        </p:blipFill>
        <p:spPr>
          <a:xfrm>
            <a:off x="785880" y="785880"/>
            <a:ext cx="7000920" cy="5072040"/>
          </a:xfrm>
          <a:prstGeom prst="rect">
            <a:avLst/>
          </a:prstGeom>
          <a:ln w="76320">
            <a:solidFill>
              <a:srgbClr val="ffe37b"/>
            </a:solidFill>
            <a:miter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543800" cy="1143000"/>
          </a:xfrm>
          <a:prstGeom prst="rect">
            <a:avLst/>
          </a:prstGeom>
          <a:solidFill>
            <a:srgbClr val="fff1d1"/>
          </a:solidFill>
          <a:ln w="255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РСЧ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 "/>
          <p:cNvPicPr/>
          <p:nvPr/>
        </p:nvPicPr>
        <p:blipFill>
          <a:blip r:embed="rId1"/>
          <a:stretch/>
        </p:blipFill>
        <p:spPr>
          <a:xfrm>
            <a:off x="428760" y="642960"/>
            <a:ext cx="106524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285840" y="1928880"/>
            <a:ext cx="8072280" cy="3601800"/>
          </a:xfrm>
          <a:prstGeom prst="rect">
            <a:avLst/>
          </a:prstGeom>
          <a:noFill/>
          <a:ln w="38160">
            <a:solidFill>
              <a:srgbClr val="ffe3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о создании  РСЧС было принято в апреле 1992г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5г. – организация  была преобразована в Единую государственную систему предупреждения и ликвидации чрезвычай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создало эту систему д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усил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х органов федеральной исполнительной власти субъектов Российской Федерации, городов и районов, а также различных организаций, учреждений и предприятий, их сил и средств по предупреждению и ликвидации чрезвычай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9:51:45Z</dcterms:created>
  <dc:creator>Олег Марчук</dc:creator>
  <dc:description/>
  <dc:language>en-US</dc:language>
  <cp:lastModifiedBy>Светлана</cp:lastModifiedBy>
  <dcterms:modified xsi:type="dcterms:W3CDTF">2019-11-25T13:30:16Z</dcterms:modified>
  <cp:revision>120</cp:revision>
  <dc:subject/>
  <dc:title>Презентация PowerPoint</dc:title>
</cp:coreProperties>
</file>