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84AAD-7440-44CE-B879-BE31A1393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48BE0-21A1-4A38-A707-F8F9739F3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F114A-E862-4807-B463-98853A99A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44E5E-EDFE-40F3-B357-98B5E0873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9DE01-3FDC-40CE-A762-572FFDA4E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B3E74-6A93-43C1-A6A2-E448DC33D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27F12-1F76-4761-A835-CBB099209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A016C-32D2-4F72-A048-F34DBFC81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9510C-984E-4639-94A7-49E6A16E8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93359-0C12-4965-A659-0EB39C868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F8DC9-DE1D-48CD-96EB-BD0948E55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BA9DD-37EE-4FF6-BC2D-11FADECDA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96EB3-5E59-496D-9B57-A735A7EDF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3A82E-7525-44AA-9ADE-F40E4FE2C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32C86-D278-4A16-97C6-C0CBBC053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8BBD4-FCE6-4F07-B9DB-9DD1718C9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572B1-2A8F-4C25-AFEC-D11306339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FB5F7-75D2-47B2-9C49-A23CE5F0A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2592C-5AF3-4878-9DDE-D7AF5BFAF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79645-7F72-4743-B8A5-A74C402CA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D7312-9C36-4A0B-A834-2DC28FE2D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7E51D-8FBE-46AA-814D-4B2F8B280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04989-8986-4A91-8404-5E5CA180F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62AFD-0485-4E90-96B6-18528F511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2E021-66CE-4EFD-B9F2-678E6CB5838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2366C-206D-4DC7-A75A-0409F1166B55}" type="slidenum">
              <a:rPr b="0" lang="ru-RU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28840" y="838080"/>
            <a:ext cx="3429000" cy="19814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100" spc="-1" strike="noStrike">
                <a:solidFill>
                  <a:srgbClr val="ffffcc"/>
                </a:solidFill>
                <a:latin typeface="Arial"/>
              </a:rPr>
              <a:t>НАШЕ ПИТАНИЕ </a:t>
            </a:r>
            <a:endParaRPr b="0" lang="en-US" sz="51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15" name="Picture 5" descr="t4_3835607"/>
          <p:cNvPicPr/>
          <p:nvPr/>
        </p:nvPicPr>
        <p:blipFill>
          <a:blip r:embed="rId1"/>
          <a:stretch/>
        </p:blipFill>
        <p:spPr>
          <a:xfrm>
            <a:off x="838080" y="1143000"/>
            <a:ext cx="343872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61" name="Picture 5" descr="y7n2ajZUHOo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05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" name="Organization Chart 7"/>
          <p:cNvGrpSpPr/>
          <p:nvPr/>
        </p:nvGrpSpPr>
        <p:grpSpPr>
          <a:xfrm>
            <a:off x="0" y="304920"/>
            <a:ext cx="8686440" cy="6017760"/>
            <a:chOff x="0" y="304920"/>
            <a:chExt cx="8686440" cy="6017760"/>
          </a:xfrm>
        </p:grpSpPr>
        <p:cxnSp>
          <p:nvCxnSpPr>
            <p:cNvPr id="117" name="_s1028"/>
            <p:cNvCxnSpPr>
              <a:stCxn id="118" idx="0"/>
              <a:endCxn id="119" idx="2"/>
            </p:cNvCxnSpPr>
            <p:nvPr/>
          </p:nvCxnSpPr>
          <p:spPr>
            <a:xfrm flipV="1" rot="16200000">
              <a:off x="5429880" y="1623960"/>
              <a:ext cx="1204200" cy="3378600"/>
            </a:xfrm>
            <a:prstGeom prst="bentConnector3">
              <a:avLst>
                <a:gd name="adj1" fmla="val 12709"/>
              </a:avLst>
            </a:prstGeom>
            <a:ln w="28440">
              <a:solidFill>
                <a:srgbClr val="eaeaea"/>
              </a:solidFill>
              <a:miter/>
            </a:ln>
          </p:spPr>
        </p:cxnSp>
        <p:cxnSp>
          <p:nvCxnSpPr>
            <p:cNvPr id="120" name="_s1029"/>
            <p:cNvCxnSpPr>
              <a:stCxn id="121" idx="0"/>
              <a:endCxn id="119" idx="2"/>
            </p:cNvCxnSpPr>
            <p:nvPr/>
          </p:nvCxnSpPr>
          <p:spPr>
            <a:xfrm flipV="1" rot="16200000">
              <a:off x="4303800" y="2750040"/>
              <a:ext cx="1204200" cy="1126440"/>
            </a:xfrm>
            <a:prstGeom prst="bentConnector3">
              <a:avLst>
                <a:gd name="adj1" fmla="val 12709"/>
              </a:avLst>
            </a:prstGeom>
            <a:ln w="28440">
              <a:solidFill>
                <a:srgbClr val="eaeaea"/>
              </a:solidFill>
              <a:miter/>
            </a:ln>
          </p:spPr>
        </p:cxnSp>
        <p:cxnSp>
          <p:nvCxnSpPr>
            <p:cNvPr id="122" name="_s1030"/>
            <p:cNvCxnSpPr>
              <a:stCxn id="123" idx="0"/>
              <a:endCxn id="119" idx="2"/>
            </p:cNvCxnSpPr>
            <p:nvPr/>
          </p:nvCxnSpPr>
          <p:spPr>
            <a:xfrm flipH="1" flipV="1" rot="5400000">
              <a:off x="3178080" y="2750040"/>
              <a:ext cx="1204200" cy="1126800"/>
            </a:xfrm>
            <a:prstGeom prst="bentConnector3">
              <a:avLst>
                <a:gd name="adj1" fmla="val 12709"/>
              </a:avLst>
            </a:prstGeom>
            <a:ln w="28440">
              <a:solidFill>
                <a:srgbClr val="eaeaea"/>
              </a:solidFill>
              <a:miter/>
            </a:ln>
          </p:spPr>
        </p:cxnSp>
        <p:cxnSp>
          <p:nvCxnSpPr>
            <p:cNvPr id="124" name="_s1031"/>
            <p:cNvCxnSpPr>
              <a:stCxn id="125" idx="0"/>
              <a:endCxn id="119" idx="2"/>
            </p:cNvCxnSpPr>
            <p:nvPr/>
          </p:nvCxnSpPr>
          <p:spPr>
            <a:xfrm flipH="1" flipV="1" rot="5400000">
              <a:off x="2052360" y="1623960"/>
              <a:ext cx="1204200" cy="3378960"/>
            </a:xfrm>
            <a:prstGeom prst="bentConnector3">
              <a:avLst>
                <a:gd name="adj1" fmla="val 12709"/>
              </a:avLst>
            </a:prstGeom>
            <a:ln w="28440">
              <a:solidFill>
                <a:srgbClr val="eaeaea"/>
              </a:solidFill>
              <a:miter/>
            </a:ln>
          </p:spPr>
        </p:cxnSp>
        <p:sp>
          <p:nvSpPr>
            <p:cNvPr id="119" name="_s1032"/>
            <p:cNvSpPr/>
            <p:nvPr/>
          </p:nvSpPr>
          <p:spPr>
            <a:xfrm>
              <a:off x="3378240" y="304920"/>
              <a:ext cx="1930320" cy="2406960"/>
            </a:xfrm>
            <a:custGeom>
              <a:avLst/>
              <a:gdLst>
                <a:gd name="textAreaLeft" fmla="*/ 93960 w 1930320"/>
                <a:gd name="textAreaRight" fmla="*/ 1836360 w 1930320"/>
                <a:gd name="textAreaTop" fmla="*/ 93960 h 2406960"/>
                <a:gd name="textAreaBottom" fmla="*/ 2313000 h 2406960"/>
              </a:gdLst>
              <a:ahLst/>
              <a:rect l="textAreaLeft" t="textAreaTop" r="textAreaRight" b="textAreaBottom"/>
              <a:pathLst>
                <a:path w="21600" h="26933">
                  <a:moveTo>
                    <a:pt x="3600" y="0"/>
                  </a:moveTo>
                  <a:arcTo wR="3600" hR="3600" stAng="16200000" swAng="-5400000"/>
                  <a:lnTo>
                    <a:pt x="0" y="23333"/>
                  </a:lnTo>
                  <a:arcTo wR="3600" hR="3600" stAng="10800000" swAng="-5400000"/>
                  <a:lnTo>
                    <a:pt x="18000" y="2693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39966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eaeaea"/>
                  </a:solidFill>
                  <a:latin typeface="Verdana"/>
                  <a:ea typeface="Arial"/>
                </a:rPr>
                <a:t>ПИТАТЕЛЬНЫЕ </a:t>
              </a:r>
              <a:endParaRPr b="1" lang="en-US" sz="1600" spc="-1" strike="noStrike">
                <a:solidFill>
                  <a:srgbClr val="eaeaea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eaeaea"/>
                  </a:solidFill>
                  <a:latin typeface="Verdana"/>
                  <a:ea typeface="Arial"/>
                </a:rPr>
                <a:t>ВЕЩЕСТВА</a:t>
              </a:r>
              <a:endParaRPr b="1" lang="en-US" sz="16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5" name="_s1033"/>
            <p:cNvSpPr/>
            <p:nvPr/>
          </p:nvSpPr>
          <p:spPr>
            <a:xfrm>
              <a:off x="0" y="3915720"/>
              <a:ext cx="1930320" cy="2406960"/>
            </a:xfrm>
            <a:custGeom>
              <a:avLst/>
              <a:gdLst>
                <a:gd name="textAreaLeft" fmla="*/ 93960 w 1930320"/>
                <a:gd name="textAreaRight" fmla="*/ 1836360 w 1930320"/>
                <a:gd name="textAreaTop" fmla="*/ 93960 h 2406960"/>
                <a:gd name="textAreaBottom" fmla="*/ 2313000 h 2406960"/>
              </a:gdLst>
              <a:ahLst/>
              <a:rect l="textAreaLeft" t="textAreaTop" r="textAreaRight" b="textAreaBottom"/>
              <a:pathLst>
                <a:path w="21600" h="26933">
                  <a:moveTo>
                    <a:pt x="3600" y="0"/>
                  </a:moveTo>
                  <a:arcTo wR="3600" hR="3600" stAng="16200000" swAng="-5400000"/>
                  <a:lnTo>
                    <a:pt x="0" y="23333"/>
                  </a:lnTo>
                  <a:arcTo wR="3600" hR="3600" stAng="10800000" swAng="-5400000"/>
                  <a:lnTo>
                    <a:pt x="18000" y="2693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39966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eaeaea"/>
                  </a:solidFill>
                  <a:latin typeface="Verdana"/>
                  <a:ea typeface="Arial"/>
                </a:rPr>
                <a:t>БЕЛКИ</a:t>
              </a:r>
              <a:endParaRPr b="1" lang="en-US" sz="16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3" name="_s1034"/>
            <p:cNvSpPr/>
            <p:nvPr/>
          </p:nvSpPr>
          <p:spPr>
            <a:xfrm>
              <a:off x="2251800" y="3915720"/>
              <a:ext cx="1930320" cy="2406960"/>
            </a:xfrm>
            <a:custGeom>
              <a:avLst/>
              <a:gdLst>
                <a:gd name="textAreaLeft" fmla="*/ 93960 w 1930320"/>
                <a:gd name="textAreaRight" fmla="*/ 1836360 w 1930320"/>
                <a:gd name="textAreaTop" fmla="*/ 93960 h 2406960"/>
                <a:gd name="textAreaBottom" fmla="*/ 2313000 h 2406960"/>
              </a:gdLst>
              <a:ahLst/>
              <a:rect l="textAreaLeft" t="textAreaTop" r="textAreaRight" b="textAreaBottom"/>
              <a:pathLst>
                <a:path w="21600" h="26933">
                  <a:moveTo>
                    <a:pt x="3600" y="0"/>
                  </a:moveTo>
                  <a:arcTo wR="3600" hR="3600" stAng="16200000" swAng="-5400000"/>
                  <a:lnTo>
                    <a:pt x="0" y="23333"/>
                  </a:lnTo>
                  <a:arcTo wR="3600" hR="3600" stAng="10800000" swAng="-5400000"/>
                  <a:lnTo>
                    <a:pt x="18000" y="2693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39966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eaeaea"/>
                  </a:solidFill>
                  <a:latin typeface="Verdana"/>
                  <a:ea typeface="Arial"/>
                </a:rPr>
                <a:t>ЖИРЫ</a:t>
              </a:r>
              <a:endParaRPr b="1" lang="en-US" sz="16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1" name="_s1035"/>
            <p:cNvSpPr/>
            <p:nvPr/>
          </p:nvSpPr>
          <p:spPr>
            <a:xfrm>
              <a:off x="4503960" y="3915720"/>
              <a:ext cx="1930320" cy="2406960"/>
            </a:xfrm>
            <a:custGeom>
              <a:avLst/>
              <a:gdLst>
                <a:gd name="textAreaLeft" fmla="*/ 93960 w 1930320"/>
                <a:gd name="textAreaRight" fmla="*/ 1836360 w 1930320"/>
                <a:gd name="textAreaTop" fmla="*/ 93960 h 2406960"/>
                <a:gd name="textAreaBottom" fmla="*/ 2313000 h 2406960"/>
              </a:gdLst>
              <a:ahLst/>
              <a:rect l="textAreaLeft" t="textAreaTop" r="textAreaRight" b="textAreaBottom"/>
              <a:pathLst>
                <a:path w="21600" h="26933">
                  <a:moveTo>
                    <a:pt x="3600" y="0"/>
                  </a:moveTo>
                  <a:arcTo wR="3600" hR="3600" stAng="16200000" swAng="-5400000"/>
                  <a:lnTo>
                    <a:pt x="0" y="23333"/>
                  </a:lnTo>
                  <a:arcTo wR="3600" hR="3600" stAng="10800000" swAng="-5400000"/>
                  <a:lnTo>
                    <a:pt x="18000" y="2693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39966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eaeaea"/>
                  </a:solidFill>
                  <a:latin typeface="Verdana"/>
                  <a:ea typeface="Arial"/>
                </a:rPr>
                <a:t>УГЛЕВОДЫ</a:t>
              </a:r>
              <a:endParaRPr b="1" lang="en-US" sz="16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8" name="_s1036"/>
            <p:cNvSpPr/>
            <p:nvPr/>
          </p:nvSpPr>
          <p:spPr>
            <a:xfrm>
              <a:off x="6756120" y="3915720"/>
              <a:ext cx="1930320" cy="2406960"/>
            </a:xfrm>
            <a:custGeom>
              <a:avLst/>
              <a:gdLst>
                <a:gd name="textAreaLeft" fmla="*/ 93960 w 1930320"/>
                <a:gd name="textAreaRight" fmla="*/ 1836360 w 1930320"/>
                <a:gd name="textAreaTop" fmla="*/ 93960 h 2406960"/>
                <a:gd name="textAreaBottom" fmla="*/ 2313000 h 2406960"/>
              </a:gdLst>
              <a:ahLst/>
              <a:rect l="textAreaLeft" t="textAreaTop" r="textAreaRight" b="textAreaBottom"/>
              <a:pathLst>
                <a:path w="21600" h="26933">
                  <a:moveTo>
                    <a:pt x="3600" y="0"/>
                  </a:moveTo>
                  <a:arcTo wR="3600" hR="3600" stAng="16200000" swAng="-5400000"/>
                  <a:lnTo>
                    <a:pt x="0" y="23333"/>
                  </a:lnTo>
                  <a:arcTo wR="3600" hR="3600" stAng="10800000" swAng="-5400000"/>
                  <a:lnTo>
                    <a:pt x="18000" y="2693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39966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eaeaea"/>
                  </a:solidFill>
                  <a:latin typeface="Verdana"/>
                  <a:ea typeface="Arial"/>
                </a:rPr>
                <a:t>ВИТАМИНЫ</a:t>
              </a:r>
              <a:endParaRPr b="1" lang="en-US" sz="16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БЕЛКИ – НУЖНЫ ДЛЯ РОСТА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8" name="Picture 5" descr="305545"/>
          <p:cNvPicPr/>
          <p:nvPr/>
        </p:nvPicPr>
        <p:blipFill>
          <a:blip r:embed="rId1"/>
          <a:stretch/>
        </p:blipFill>
        <p:spPr>
          <a:xfrm>
            <a:off x="0" y="1219320"/>
            <a:ext cx="2857680" cy="28573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7" descr="1375874011-jaico"/>
          <p:cNvPicPr/>
          <p:nvPr/>
        </p:nvPicPr>
        <p:blipFill>
          <a:blip r:embed="rId2"/>
          <a:stretch/>
        </p:blipFill>
        <p:spPr>
          <a:xfrm>
            <a:off x="380880" y="3733920"/>
            <a:ext cx="2514600" cy="25146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9" descr="i?id=6300649e4763c0817e515048a6478065&amp;n=33&amp;h=190&amp;w=285"/>
          <p:cNvPicPr/>
          <p:nvPr/>
        </p:nvPicPr>
        <p:blipFill>
          <a:blip r:embed="rId3"/>
          <a:stretch/>
        </p:blipFill>
        <p:spPr>
          <a:xfrm>
            <a:off x="2819520" y="1752480"/>
            <a:ext cx="3200400" cy="21337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1" descr="i?id=5b6f3adbc12a3306c91066613d1d0fb2&amp;n=33&amp;h=190&amp;w=285"/>
          <p:cNvPicPr/>
          <p:nvPr/>
        </p:nvPicPr>
        <p:blipFill>
          <a:blip r:embed="rId4"/>
          <a:stretch/>
        </p:blipFill>
        <p:spPr>
          <a:xfrm>
            <a:off x="5715000" y="1371600"/>
            <a:ext cx="3124080" cy="20829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3" descr="i?id=910ee398824b94bd4b54be67d71c117f&amp;n=33&amp;h=190&amp;w=278"/>
          <p:cNvPicPr/>
          <p:nvPr/>
        </p:nvPicPr>
        <p:blipFill>
          <a:blip r:embed="rId5"/>
          <a:stretch/>
        </p:blipFill>
        <p:spPr>
          <a:xfrm>
            <a:off x="5791320" y="3809880"/>
            <a:ext cx="2895480" cy="19796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5" descr="121747"/>
          <p:cNvPicPr/>
          <p:nvPr/>
        </p:nvPicPr>
        <p:blipFill>
          <a:blip r:embed="rId6"/>
          <a:stretch/>
        </p:blipFill>
        <p:spPr>
          <a:xfrm>
            <a:off x="2971800" y="4419720"/>
            <a:ext cx="2971800" cy="22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ЖИРЫ – ОБЕСПЕЧИВАЮТ ОРГАНИЗМ ЭНЕРГИЕЙ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6" name="Picture 5" descr="i?id=d6396021a6a7f3b0b347257f69905dbd&amp;n=33&amp;h=190&amp;w=285"/>
          <p:cNvPicPr/>
          <p:nvPr/>
        </p:nvPicPr>
        <p:blipFill>
          <a:blip r:embed="rId1"/>
          <a:stretch/>
        </p:blipFill>
        <p:spPr>
          <a:xfrm>
            <a:off x="228600" y="1523880"/>
            <a:ext cx="3352680" cy="22352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7" descr="i?id=e50a9a121a6ba5e255aaf0be5951c315&amp;n=33&amp;h=190&amp;w=292"/>
          <p:cNvPicPr/>
          <p:nvPr/>
        </p:nvPicPr>
        <p:blipFill>
          <a:blip r:embed="rId2"/>
          <a:stretch/>
        </p:blipFill>
        <p:spPr>
          <a:xfrm>
            <a:off x="5105520" y="1371600"/>
            <a:ext cx="3657600" cy="23796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9" descr="i?id=11eb0c29e8cbb919f15dbc1e56440582&amp;n=33&amp;h=190&amp;w=333"/>
          <p:cNvPicPr/>
          <p:nvPr/>
        </p:nvPicPr>
        <p:blipFill>
          <a:blip r:embed="rId3"/>
          <a:stretch/>
        </p:blipFill>
        <p:spPr>
          <a:xfrm>
            <a:off x="838080" y="3962520"/>
            <a:ext cx="3886200" cy="22176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1" descr="i?id=5ddf6e98c90fa5cbb62b48b635a3b5dc&amp;n=33&amp;h=190&amp;w=254"/>
          <p:cNvPicPr/>
          <p:nvPr/>
        </p:nvPicPr>
        <p:blipFill>
          <a:blip r:embed="rId4"/>
          <a:stretch/>
        </p:blipFill>
        <p:spPr>
          <a:xfrm>
            <a:off x="5181480" y="4038480"/>
            <a:ext cx="3581640" cy="267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-360" y="304920"/>
            <a:ext cx="899172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УГЛЕВОДЫ – ПОМОГАЮТ ВЫРАБАТЫВАТЬ ЭНЕРГИЮ (САХАР И КРАХМАЛ)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2" name="Picture 5" descr="i?id=ac607b3ca5bfe4dd2a64e96324b93177&amp;n=33&amp;h=190&amp;w=247"/>
          <p:cNvPicPr/>
          <p:nvPr/>
        </p:nvPicPr>
        <p:blipFill>
          <a:blip r:embed="rId1"/>
          <a:stretch/>
        </p:blipFill>
        <p:spPr>
          <a:xfrm>
            <a:off x="0" y="1828800"/>
            <a:ext cx="2895480" cy="22273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7" descr="i?id=ac0e879d48066bcf4df7b0ece382aabf&amp;n=33&amp;h=190&amp;w=226"/>
          <p:cNvPicPr/>
          <p:nvPr/>
        </p:nvPicPr>
        <p:blipFill>
          <a:blip r:embed="rId2"/>
          <a:stretch/>
        </p:blipFill>
        <p:spPr>
          <a:xfrm>
            <a:off x="1981080" y="3657600"/>
            <a:ext cx="2667240" cy="22417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9" descr="i?id=acaa16e271576c501fa1fb5dfec93b0d&amp;n=33&amp;h=190&amp;w=305"/>
          <p:cNvPicPr/>
          <p:nvPr/>
        </p:nvPicPr>
        <p:blipFill>
          <a:blip r:embed="rId3"/>
          <a:stretch/>
        </p:blipFill>
        <p:spPr>
          <a:xfrm>
            <a:off x="4343400" y="2133720"/>
            <a:ext cx="2905200" cy="18097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1" descr="i?id=2c1f6ce1e3bc8ea0ff1bd3c7fff2ab6b&amp;n=33&amp;h=190&amp;w=259"/>
          <p:cNvPicPr/>
          <p:nvPr/>
        </p:nvPicPr>
        <p:blipFill>
          <a:blip r:embed="rId4"/>
          <a:stretch/>
        </p:blipFill>
        <p:spPr>
          <a:xfrm>
            <a:off x="6248520" y="3733920"/>
            <a:ext cx="2466720" cy="18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ВИТАМИНЫ – «НОСИТЕЛИ ЖИЗНИ» (НЕОБХОДИМЫ ДЛЯ СОХРАНЕНИЯ И УКРЕПЛЕНИЯ ЗДОРОВЬЯ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8" name="Picture 5" descr="i?id=4710144b8b880f8a799cbd396334fbdf&amp;n=33&amp;h=190&amp;w=290"/>
          <p:cNvPicPr/>
          <p:nvPr/>
        </p:nvPicPr>
        <p:blipFill>
          <a:blip r:embed="rId1"/>
          <a:stretch/>
        </p:blipFill>
        <p:spPr>
          <a:xfrm>
            <a:off x="228600" y="1676520"/>
            <a:ext cx="4800600" cy="31446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7" descr="i?id=507a4a4ba000484132eb6dcd8189d37a&amp;n=33&amp;h=190&amp;w=219"/>
          <p:cNvPicPr/>
          <p:nvPr/>
        </p:nvPicPr>
        <p:blipFill>
          <a:blip r:embed="rId2"/>
          <a:stretch/>
        </p:blipFill>
        <p:spPr>
          <a:xfrm>
            <a:off x="4724280" y="2971800"/>
            <a:ext cx="373392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52" name="Picture 5" descr="codrdylouk1463228-81"/>
          <p:cNvPicPr/>
          <p:nvPr/>
        </p:nvPicPr>
        <p:blipFill>
          <a:blip r:embed="rId1"/>
          <a:stretch/>
        </p:blipFill>
        <p:spPr>
          <a:xfrm>
            <a:off x="1828800" y="0"/>
            <a:ext cx="5354640" cy="693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55" name="Picture 5" descr="sj-02-393"/>
          <p:cNvPicPr/>
          <p:nvPr/>
        </p:nvPicPr>
        <p:blipFill>
          <a:blip r:embed="rId1"/>
          <a:stretch/>
        </p:blipFill>
        <p:spPr>
          <a:xfrm>
            <a:off x="1219320" y="0"/>
            <a:ext cx="6575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Правильное питание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58" name="Picture 7" descr="x_51634d07"/>
          <p:cNvPicPr/>
          <p:nvPr/>
        </p:nvPicPr>
        <p:blipFill>
          <a:blip r:embed="rId1"/>
          <a:stretch/>
        </p:blipFill>
        <p:spPr>
          <a:xfrm>
            <a:off x="228600" y="1295280"/>
            <a:ext cx="8915400" cy="525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8T15:54:57Z</dcterms:created>
  <dc:creator>Алтынгуль</dc:creator>
  <dc:description/>
  <dc:language>en-US</dc:language>
  <cp:lastModifiedBy>user</cp:lastModifiedBy>
  <dcterms:modified xsi:type="dcterms:W3CDTF">2018-12-11T13:17:35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