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C2D-179F-4BA6-8062-91882185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76F-98A5-4C07-97DF-8D37562C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466-C27D-4A83-B540-1B047952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1D4-C5FC-4289-B26B-77F560C5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CC47-19F8-4C08-9E5C-5D853F4F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D0C-7990-4E85-834A-5F528C55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4B77-AA86-4F6F-86E5-9895AF11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19EE-81C7-402C-9AD0-B6106996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07D1-E9D5-4310-AFA8-C35B3EC7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F615-FBD2-4577-B61D-7C125177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674A-6699-4DB8-9C2C-4823A20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CAD-9490-440E-9AB8-A1B35780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C0E3-05E2-442C-AB45-6F5EC2C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01D7-20CB-46D0-92C6-CF2107F2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CC38-4A5B-4101-849B-536CE8B5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3234-8DEB-46CD-838D-57ACFB20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F8C8-0BC3-4D5E-A216-AA2548F5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91B6C-74CF-45C5-B5F3-4B451B7A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5B86-0C79-427C-A5A7-FF6F5E7B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F0DC-422A-42C0-8934-ACE2A1A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CC2E-F3E5-4290-AC39-1BD3FDD0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A1A1-D192-4F93-97D6-1915566D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89F-FAD0-47FD-BC03-F8F4BFCA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D2FC-6E19-4D08-8250-9FD25ED8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4E39-C06F-4A25-BB3B-320FA7C1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9ADA-FEA9-426D-84EF-7262D0A1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DCE0-8E01-49B9-B300-ED597C9E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0514-F616-456A-80A7-29960F96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3514-57B0-4879-8620-2EBD4F07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9339-41F3-44AB-A3E7-1F1ED2A0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E53-BC19-4086-A8B7-49DB1C9C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908-5691-4ED2-BC6F-390AA7A7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ABE-70A2-4D03-817E-0F18AFE7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A14-0CAD-44C4-8C6D-F0FC9C8B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651-A521-4F69-9283-3DBE0F4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171-3AAD-4F0B-B718-9A4CE3C2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5E12-8CBB-47C5-A13D-11566E4DD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D6AF-8A9A-49D1-B3C4-21BFCA7BE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033A-28AD-4E1D-A36E-4ACF47EDA7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556000" y="4437000"/>
            <a:ext cx="52164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Велуллаева Эльзара Ридва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187280" y="14842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равила дорожного движения для дошколь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857160" y="428760"/>
            <a:ext cx="70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«Богатырь» пгт. Зуя Белогорского района Республики К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ост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5338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.Михалков 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я улиц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на посту в люб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журит ловкий пост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управляет сразу все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перед ним на мост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то на свете так не мож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им движением ру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ановить поток прохож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пустить грузов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486400" y="2205000"/>
            <a:ext cx="3116160" cy="4319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авила дорожного движения в стих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ереходи дорогу правиль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826920" y="2319480"/>
            <a:ext cx="77774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Знаки дорожного движения в загад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ты собрался с друг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оопарк или в ки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ужиться с этим зна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придется все рав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омчит вас быстро, лов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… (Автобусная остановк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111"/>
          <p:cNvPicPr/>
          <p:nvPr/>
        </p:nvPicPr>
        <p:blipFill>
          <a:blip r:embed="rId1"/>
          <a:stretch/>
        </p:blipFill>
        <p:spPr>
          <a:xfrm>
            <a:off x="250920" y="3357720"/>
            <a:ext cx="2108160" cy="295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4284720" y="1628640"/>
            <a:ext cx="4608360" cy="4310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2484360" y="59500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т знак поможет вам узнать где останавливается автобус или троллейб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Улицу можно разделить на проезжую часть и тротуа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2746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отуар – дорога д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бя, твоих любим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ей, лучши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рузей, 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знакомых детей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зрослых, решивш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йтись пешком,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зжая часть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ько д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ансп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" descr="p18_001"/>
          <p:cNvPicPr/>
          <p:nvPr/>
        </p:nvPicPr>
        <p:blipFill>
          <a:blip r:embed="rId1"/>
          <a:stretch/>
        </p:blipFill>
        <p:spPr>
          <a:xfrm>
            <a:off x="3276720" y="162864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Светоф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тофор –самый главный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роге, ему подчиняются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дители, и пешеходы. У него одна нога и три круглых глаза: верх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ый, средний – желтый, 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жний – зеленый. Его мож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идеть на улицах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крестках города, где 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ит и поочереди миг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ими разноцветны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зами. Светофор указывает, кому можно ехать или идти, а кому  надо оставаться на месте. В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ы его слуш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p18_009"/>
          <p:cNvPicPr/>
          <p:nvPr/>
        </p:nvPicPr>
        <p:blipFill>
          <a:blip r:embed="rId1"/>
          <a:stretch/>
        </p:blipFill>
        <p:spPr>
          <a:xfrm>
            <a:off x="4067280" y="134136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3708360" y="4581360"/>
            <a:ext cx="518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тофор для пешеходов. На нем изображено два человечка – красный и зелены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ый человечек нарисован стоящим, а зеленый – идущим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жегся красный человечек, значит стой на месте, дорогу переходить нельзя! Как только загорится зеленый шагающий человечек, можешь смело переходить дорогу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авила дорожного движения в стих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Ирина Г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«Малышкин светофор»</a:t>
            </a:r>
            <a:r>
              <a:rPr b="0" i="1" lang="ru-RU" sz="2800" spc="-1" strike="noStrike">
                <a:solidFill>
                  <a:srgbClr val="0b530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офор нас в гости жд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вещает перех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горелся красный гла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ержать он хочет н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красный — нет пу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ный свет — нельзя ид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тый свет — не очень строг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ди, нам нет пока доро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рко-желтый глаз гори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движение стоит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нец, зеленый гл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крывает путь для н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осатый перех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шеходов юных ждет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0018-025-Pervyj-urok"/>
          <p:cNvPicPr/>
          <p:nvPr/>
        </p:nvPicPr>
        <p:blipFill>
          <a:blip r:embed="rId1"/>
          <a:stretch/>
        </p:blipFill>
        <p:spPr>
          <a:xfrm>
            <a:off x="4284720" y="2565360"/>
            <a:ext cx="4680000" cy="30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ашины с мигал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обрался переходить ул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друг видишь такую картин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ет «скорая помощь»,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ше мигалка, все маш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упают ей дорогу, а пеше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ят на месте и не переходя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ицу, хотя горит зеленый с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, это едет специ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! Ему все уступ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, и водители, и пешеход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у что он спешит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 к тем, кто попал в беду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ашины с мигал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359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ый транспорт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«скорая помощь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ая машина, «служ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ения» и милицей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а. У этих машин е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ой сигнал, котор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сирена,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гающая лампочка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ше – проблесков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ячок синего или крас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а. 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а лампочка включе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и участие – уступ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p18_023"/>
          <p:cNvPicPr/>
          <p:nvPr/>
        </p:nvPicPr>
        <p:blipFill>
          <a:blip r:embed="rId1"/>
          <a:stretch/>
        </p:blipFill>
        <p:spPr>
          <a:xfrm>
            <a:off x="3780000" y="1628640"/>
            <a:ext cx="50655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ы едем на маш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105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 оказался в автомобиле, и сразу превратился в пассажира. Поэтому у тебя появились кое-какие обязан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-первых, обязательно пристегни ремни безопасности в своем автомобильном крес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-вторых, не отвлекай водителя от управления автомобиле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третьих, ни в коем случае не открывай дверцы машины, пока тебе не разрешат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четвертых, никогда не выходи из машины, пока не убедишься, что мимо не едет другая машина, мотоцикл или автобу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p18_046"/>
          <p:cNvPicPr/>
          <p:nvPr/>
        </p:nvPicPr>
        <p:blipFill>
          <a:blip r:embed="rId1"/>
          <a:stretch/>
        </p:blipFill>
        <p:spPr>
          <a:xfrm>
            <a:off x="4211640" y="213372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ажно чтобы родители были примером для детей в соблюдении правил дорожного движени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спешите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одите дорогу размеренным шаг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ходя на проезжую часть дороги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кратите разговарив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ребёнок должен привыкнуть, что при переходе дороги нужно сосредоточи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ереходите дорогу на красный или жёлтый сигнал светофо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одите дорог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ько в местах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значенных дорожным знако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Пешеходный переход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bezkol"/>
          <p:cNvPicPr/>
          <p:nvPr/>
        </p:nvPicPr>
        <p:blipFill>
          <a:blip r:embed="rId1"/>
          <a:stretch/>
        </p:blipFill>
        <p:spPr>
          <a:xfrm>
            <a:off x="324000" y="1557360"/>
            <a:ext cx="599760" cy="704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bezkol"/>
          <p:cNvPicPr/>
          <p:nvPr/>
        </p:nvPicPr>
        <p:blipFill>
          <a:blip r:embed="rId2"/>
          <a:stretch/>
        </p:blipFill>
        <p:spPr>
          <a:xfrm>
            <a:off x="324000" y="2708280"/>
            <a:ext cx="599760" cy="704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bezkol"/>
          <p:cNvPicPr/>
          <p:nvPr/>
        </p:nvPicPr>
        <p:blipFill>
          <a:blip r:embed="rId3"/>
          <a:stretch/>
        </p:blipFill>
        <p:spPr>
          <a:xfrm>
            <a:off x="250920" y="3789360"/>
            <a:ext cx="600120" cy="704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bezkol"/>
          <p:cNvPicPr/>
          <p:nvPr/>
        </p:nvPicPr>
        <p:blipFill>
          <a:blip r:embed="rId4"/>
          <a:stretch/>
        </p:blipFill>
        <p:spPr>
          <a:xfrm>
            <a:off x="250920" y="5013360"/>
            <a:ext cx="6001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6048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7640" y="1341000"/>
            <a:ext cx="62643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 безопасности дорожного движения в современном мире является одной из достаточно важных проблем.  Скорость движения и количество машин на улицах и дорогах нашего города и страны быстро возрастают. Поэтому обеспечение безопасности движения становиться всё более важной  задачей. Особое значение в решении этой проблемы имеет заблаговременная и правильная подготовка самых маленьких наших пешеходов –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раннего детства необходимо прививать основы знаний ПДД. Правильное понимание и соблюдение дорожных знаков, разметки и основных положений Правил дорожного движения позволяют не только быть уверенным в себе пешеходом и водителем, это позволяет принять правильное решение в критической  ситуации на дорог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ажно чтобы родители были примером для детей в соблюдении правил дорожного движени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5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автобуса, троллейбуса, трамвая, такси выходите первым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тивном случае ребёнок может упасть или побежать на проезжую часть доро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влекайте ребёнка к участию в ваших наблюдени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 обстановкой на дороге: показывайте ему те машины, которые готовятся поворачивать, едут с большой скоростью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выходи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 ребёнком из-за машины, кустов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е осмотрев предварительно дороги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это типичная ошибка, и нельзя допускать, чтобы дети её повторя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bezkol"/>
          <p:cNvPicPr/>
          <p:nvPr/>
        </p:nvPicPr>
        <p:blipFill>
          <a:blip r:embed="rId1"/>
          <a:stretch/>
        </p:blipFill>
        <p:spPr>
          <a:xfrm>
            <a:off x="250920" y="1628640"/>
            <a:ext cx="600120" cy="704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bezkol"/>
          <p:cNvPicPr/>
          <p:nvPr/>
        </p:nvPicPr>
        <p:blipFill>
          <a:blip r:embed="rId2"/>
          <a:stretch/>
        </p:blipFill>
        <p:spPr>
          <a:xfrm>
            <a:off x="324000" y="3213000"/>
            <a:ext cx="599760" cy="704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bezkol"/>
          <p:cNvPicPr/>
          <p:nvPr/>
        </p:nvPicPr>
        <p:blipFill>
          <a:blip r:embed="rId3"/>
          <a:stretch/>
        </p:blipFill>
        <p:spPr>
          <a:xfrm>
            <a:off x="468360" y="4941720"/>
            <a:ext cx="6001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ажно чтобы родители были примером для детей в соблюдении правил дорожного движени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вятите отдельную прогулку правилам перехода через дорогу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ьте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вильно ли ваш ребенок их понимает, умеет ли использ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и знания в реальных дорожных ситуациях. Для этого потренируйтесь вместе переходить по пешеходному переходу через проезжую часть с односторонним и двусторонним движением, через регулируемый и нерегулируемый перекрес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 время отпуск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важно, останется ли ваш ребенок в городе или уедет, необходим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спользовать любую возможность напомнить ему о правилах дорожного движения. Не оставляйте детей без присмотра на улице, не разрешайте им играть вблизи проезжей ч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учайте детей с раннего возраста соблюдать правила дорожного движения. И не забывайте, что личный пример - самая доходчивая форма обучения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bezkol"/>
          <p:cNvPicPr/>
          <p:nvPr/>
        </p:nvPicPr>
        <p:blipFill>
          <a:blip r:embed="rId1"/>
          <a:stretch/>
        </p:blipFill>
        <p:spPr>
          <a:xfrm>
            <a:off x="179280" y="1700280"/>
            <a:ext cx="600120" cy="704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bezkol"/>
          <p:cNvPicPr/>
          <p:nvPr/>
        </p:nvPicPr>
        <p:blipFill>
          <a:blip r:embed="rId2"/>
          <a:stretch/>
        </p:blipFill>
        <p:spPr>
          <a:xfrm>
            <a:off x="250920" y="3860640"/>
            <a:ext cx="600120" cy="704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bezkol"/>
          <p:cNvPicPr/>
          <p:nvPr/>
        </p:nvPicPr>
        <p:blipFill>
          <a:blip r:embed="rId3"/>
          <a:stretch/>
        </p:blipFill>
        <p:spPr>
          <a:xfrm>
            <a:off x="395280" y="5300640"/>
            <a:ext cx="6001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03280" y="3284280"/>
            <a:ext cx="728352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2266920"/>
            <a:ext cx="8785440" cy="3843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наки дорожного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Знаки дорожного движения в загадк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1640" y="1628280"/>
            <a:ext cx="4319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й, водитель, осторож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хать быстро невозмож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ют люди все на св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этом месте ходят (Дети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dorozhnye_znaki_21"/>
          <p:cNvPicPr/>
          <p:nvPr/>
        </p:nvPicPr>
        <p:blipFill>
          <a:blip r:embed="rId1"/>
          <a:stretch/>
        </p:blipFill>
        <p:spPr>
          <a:xfrm>
            <a:off x="1187280" y="3840120"/>
            <a:ext cx="2521080" cy="2298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8" descr="dorozhnye_znaki_13"/>
          <p:cNvPicPr/>
          <p:nvPr/>
        </p:nvPicPr>
        <p:blipFill>
          <a:blip r:embed="rId2"/>
          <a:stretch/>
        </p:blipFill>
        <p:spPr>
          <a:xfrm>
            <a:off x="6012000" y="2205000"/>
            <a:ext cx="2519280" cy="2198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9"/>
          <p:cNvSpPr/>
          <p:nvPr/>
        </p:nvSpPr>
        <p:spPr>
          <a:xfrm>
            <a:off x="4643280" y="458784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друг велосипе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чит тебя быстрей рак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гда не нужно еха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м, где знак увидишь это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оезд на велосипеде запреще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наки дорожного движения в загадк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dorozhnye_znaki_6"/>
          <p:cNvPicPr/>
          <p:nvPr/>
        </p:nvPicPr>
        <p:blipFill>
          <a:blip r:embed="rId1"/>
          <a:stretch/>
        </p:blipFill>
        <p:spPr>
          <a:xfrm>
            <a:off x="611280" y="3429000"/>
            <a:ext cx="2430360" cy="25988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95280" y="1700280"/>
            <a:ext cx="43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 знакомые поло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ют дети или взросл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у сторону вед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ешеходный перех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489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ешеходный пер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754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b5305"/>
                </a:solidFill>
                <a:latin typeface="Calibri"/>
              </a:rPr>
              <a:t>Пешеходный пере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обычный переход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нему идет нар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ая размет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еброю» зовется метк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ые полоски ту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улицу веду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b5305"/>
                </a:solidFill>
                <a:latin typeface="Calibri"/>
              </a:rPr>
              <a:t>Знак «Пешеходный пер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на «зебре» пешеход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 на улице най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д ним переход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skazki-0036"/>
          <p:cNvPicPr/>
          <p:nvPr/>
        </p:nvPicPr>
        <p:blipFill>
          <a:blip r:embed="rId1"/>
          <a:stretch/>
        </p:blipFill>
        <p:spPr>
          <a:xfrm>
            <a:off x="4067280" y="2205000"/>
            <a:ext cx="478152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Знаки дорожного движения в загад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dorozhnye_znaki_15"/>
          <p:cNvPicPr/>
          <p:nvPr/>
        </p:nvPicPr>
        <p:blipFill>
          <a:blip r:embed="rId1"/>
          <a:stretch/>
        </p:blipFill>
        <p:spPr>
          <a:xfrm>
            <a:off x="684360" y="1700280"/>
            <a:ext cx="1726920" cy="16984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179280" y="357336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отуара вниз вед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дорогу длинный вхо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ни двери ни ворот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… (Подземный переход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4086360" cy="3876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395280" y="57340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поблизости есть подземный перех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о выходить на проезжую часть нельз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вила перехода перекрес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кресток- самое опас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 для пешеходов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ителей. Там пересек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ицы, едут автомоби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бусы, троллейбусы. 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крестке может бы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офор и регулировщик с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истком и жезлом. Он стоит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е перекрестка, чтоб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его видели и управля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211640" y="1606680"/>
            <a:ext cx="439272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ерекресток с регулировщи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3025800" cy="3805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Жезл регулировщ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однят прямо ввер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движение транспор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и пеше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запрещено! Правая р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Регулировщ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ытянута вперед, а лев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пущена вниз пешеходы мог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ереходить дорог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лько з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спиной регулировщ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" descr="p18_013"/>
          <p:cNvPicPr/>
          <p:nvPr/>
        </p:nvPicPr>
        <p:blipFill>
          <a:blip r:embed="rId1"/>
          <a:stretch/>
        </p:blipFill>
        <p:spPr>
          <a:xfrm>
            <a:off x="3780000" y="206064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179280" y="12682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гулировщик общается с водителями и пешеходами с помощью знаков, которые он показывает своей палочкой. Эти знаки очень простые, давай разберемся с ними вмест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564000" y="558972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Регулировщик стоит прямо и держит палочку вниз или параллельно вытянутым в стороны рукам – можно переходить дорогу только перед регулировщиком или за его сп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</cp:lastModifiedBy>
  <dcterms:modified xsi:type="dcterms:W3CDTF">2019-12-11T10:15:18Z</dcterms:modified>
  <cp:revision>44</cp:revision>
  <dc:subject/>
  <dc:title>Слайд 1</dc:title>
</cp:coreProperties>
</file>