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5DB2-F8CE-4C35-A752-DF5A91F4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BF6-FCCE-4B4C-9819-285210FE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D9B2-7A12-4116-B0E8-53F0BBBE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A8F4-2126-4601-83D4-9FB5AB2A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2FBD-3A8A-4E70-BEC5-C0FDECA5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6139-19F0-4FE6-8043-890E9619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FB03-FC37-4EB6-84AA-56EAF9EB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60F5-B447-4C3A-85AF-BCCE79DC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A082-818B-4DA9-B8B9-CA6ECB47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EB2B-D37D-4BE6-894F-6B70446D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D279-20F4-4FC2-890E-CBCCF832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8D4-2E8C-4935-A308-0B73C7F9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2D8C-A154-49CC-87B5-06C2D9ED6E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gif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s://cloud.mail.ru/public/HA1q/42SfZbQfz" TargetMode="External"/><Relationship Id="rId3" Type="http://schemas.openxmlformats.org/officeDocument/2006/relationships/hyperlink" Target="https://cloud.mail.ru/public/HA1q/42SfZbQfz" TargetMode="External"/><Relationship Id="rId4" Type="http://schemas.openxmlformats.org/officeDocument/2006/relationships/image" Target="../media/image10.png"/><Relationship Id="rId5" Type="http://schemas.openxmlformats.org/officeDocument/2006/relationships/hyperlink" Target="https://cloud.mail.ru/public/2wMi/yFVMfYZ6P" TargetMode="Externa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kids.covenok.ru/26012.htm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кнопочка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 flipH="1" rot="10164600">
            <a:off x="4788000" y="6092640"/>
            <a:ext cx="576000" cy="576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 rot="21019800">
            <a:off x="3080880" y="5529240"/>
            <a:ext cx="4726080" cy="4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готовила : Симакова Ю.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 rot="21015600">
            <a:off x="1141200" y="2338560"/>
            <a:ext cx="6589440" cy="151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lin ang="5982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ртфолио воспитател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ff0000"/>
                  </a:gs>
                </a:gsLst>
                <a:lin ang="5982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7" descr="20df76943c2a"/>
          <p:cNvPicPr/>
          <p:nvPr/>
        </p:nvPicPr>
        <p:blipFill>
          <a:blip r:embed="rId3"/>
          <a:stretch/>
        </p:blipFill>
        <p:spPr>
          <a:xfrm rot="1386600">
            <a:off x="1064880" y="244080"/>
            <a:ext cx="906480" cy="738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20df76943c2a"/>
          <p:cNvPicPr/>
          <p:nvPr/>
        </p:nvPicPr>
        <p:blipFill>
          <a:blip r:embed="rId4"/>
          <a:stretch/>
        </p:blipFill>
        <p:spPr>
          <a:xfrm rot="19021200">
            <a:off x="192240" y="328320"/>
            <a:ext cx="1008000" cy="785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ои увлеч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 rot="3917400">
            <a:off x="-72720" y="1712880"/>
            <a:ext cx="447516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 rot="855600">
            <a:off x="7007040" y="3033720"/>
            <a:ext cx="2054160" cy="36543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"/>
          <p:cNvPicPr/>
          <p:nvPr/>
        </p:nvPicPr>
        <p:blipFill>
          <a:blip r:embed="rId3"/>
          <a:stretch/>
        </p:blipFill>
        <p:spPr>
          <a:xfrm>
            <a:off x="4067280" y="1436760"/>
            <a:ext cx="2809800" cy="396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468360" y="0"/>
            <a:ext cx="804528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2556000" y="551664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Куклы из фоамирана к конкурсу «7-я Формула успе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Объект 3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404200" cy="5832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353440" cy="56052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i="1" lang="ru-RU" sz="3200" spc="-1" strike="noStrike">
                <a:solidFill>
                  <a:srgbClr val="3333ff"/>
                </a:solidFill>
                <a:latin typeface="Arial"/>
              </a:rPr>
              <a:t>Симакова Юлия                                                 Викто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8.07.1989 г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разование: 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высш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                                                                   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педаг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                                                   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ГОУ ВПО Борисоглеб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                                                                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педагогический институт, 20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«Педагогика и методика начального о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сто работы: 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МКДОУ БГО Детский сад № 1 комбинированного в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аж работы: 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а) общий -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                                         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б) в данном ОУ – 6 м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кнопочка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 flipH="1" rot="10776600">
            <a:off x="428472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20df76943c2a"/>
          <p:cNvPicPr/>
          <p:nvPr/>
        </p:nvPicPr>
        <p:blipFill>
          <a:blip r:embed="rId3"/>
          <a:stretch/>
        </p:blipFill>
        <p:spPr>
          <a:xfrm>
            <a:off x="0" y="692280"/>
            <a:ext cx="1008000" cy="10792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"/>
          <p:cNvPicPr/>
          <p:nvPr/>
        </p:nvPicPr>
        <p:blipFill>
          <a:blip r:embed="rId4"/>
          <a:stretch/>
        </p:blipFill>
        <p:spPr>
          <a:xfrm>
            <a:off x="-33480" y="-1440"/>
            <a:ext cx="4389480" cy="3284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0"/>
          <p:cNvSpPr/>
          <p:nvPr/>
        </p:nvSpPr>
        <p:spPr>
          <a:xfrm>
            <a:off x="3851280" y="1006560"/>
            <a:ext cx="5184720" cy="585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16 г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участие в семинаре ФГБОУВО ВГ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Навигатум-игровые методики профориентаци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16 г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участие в семинаре МКДОУБГО Детский сад № 19« Современные ИКТ-технологии в работе воспитател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17 г.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астие в заочном семинаре АНО СПЦД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ZVINU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ИКТ-компетентность педагога и практические вопросы внедрения и эксплуатации информационной системы образовательного учреждения в соответствии    с требованиями ФГОС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- заочное участие в вебинаре   Дошкольное Воспитание «Экспериментирование с неньютоновской жидкостью в условиях детского сада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17 г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участие в семинаре ЗРЦДПВО «Журавлик» «Коррекционно-развивающее сопровождение воспитательного и реабилитационного процессов детей с РАС в группах кратковременного                  пребыва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oud.mail.ru/public/HA1q/42SfZbQf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0560" y="1141200"/>
            <a:ext cx="3598920" cy="5716440"/>
          </a:xfrm>
          <a:prstGeom prst="rect">
            <a:avLst/>
          </a:prstGeom>
          <a:blipFill rotWithShape="0">
            <a:blip r:embed="rId4"/>
            <a:stretch/>
          </a:blip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10 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- ГОУВПО БГПИ «Оператор ЭВ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16 г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ФГБОУВО ВГ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рофессиональная переподготовка педагогической деятельности по реализации дошкольного образова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16 г.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БПОУВО БТПИ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ФГОС ДО-механизм реализации инновационного пространства дошкольной образовательной организац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16 г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ФГБОУВО ВГ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 Методы и приемы оказания первой медицинской помощи пострадавшим на производств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s://cloud.mail.ru/public/2wMi/yFVMfYZ6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71280" y="-51120"/>
            <a:ext cx="6923160" cy="1143000"/>
          </a:xfrm>
          <a:prstGeom prst="rect">
            <a:avLst/>
          </a:prstGeom>
          <a:blipFill rotWithShape="0">
            <a:blip r:embed="rId6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Результаты профессионального        совершенствования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2182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Публикаций в научно-методических и профессиональных издательствах разного уров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ids.covenok.ru/26012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prodlenka.org/metodicheskie-razrabotki/doshkolnoe-obrazovanie/rabota-s-roditeljami/197776-adaptacija-rebenka-v-detskom-sadu-sovety-dlj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нопочка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 flipH="1" rot="10776600">
            <a:off x="4284720" y="628128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2800" spc="-1" strike="noStrike">
                <a:solidFill>
                  <a:srgbClr val="3333ff"/>
                </a:solidFill>
                <a:latin typeface="Arial"/>
              </a:rPr>
              <a:t>Результаты педагог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униципальный уровен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7-я Формула успех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ополимая купин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едеральный уровен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 Я и мамочка моя» (ВЦГМИ  «Идея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Фотоконкурс Мой город» (Академия талант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ишла весна – весна Победы» (ВЦГМИ  «Идея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азноцветный мир детства» (ВЦГМИ «Идея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Букет для мамы» ( в процесс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ждународный уровен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се профессии нужны-все профессии важны» (Академия талант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казка рядышком живет» (Академия талант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ttps://cloud.mail.ru/public/Batq/xz8ehnk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765000"/>
            <a:ext cx="82296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участия педагога в конкурсах, фестивалях, акциях и др. различного уров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едеральный уровен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екоративно-прикладное творчество» (Рассудари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валификационные испытания» (Педтес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ортфолио дошкольника» (Рассудари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едагогические технологии» (Вопроси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стория, организация и содержание деятельности ДОУ» (Вопроси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Фотоконкурс Мой город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s://cloud.mail.ru/public/HCZQ/4mpRNd2W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Обобщенные данные развития воспитанни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орую младшую группу №3  посещает 26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течение 2016 -2017  года  проводилась  диагностика   освоения содержания программы   по  направлениям:  физическое развитие, социально-коммуникативное развитие, познавательное и речевое  развитие,  художественно-эстетическое  развитие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ли сделаны следующие вывод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жительная динамика прослеживается по всем образовательным област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ностика показала, что наибольший процент (92%)  освоения программы  реализован в области «Физическое развитие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ьшая динамика роста  прослеживается  в освоении области «Речевое развитие»   (рост на 26 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же, как и в начале,  наименьший процент освоения программы  виден  в области «Художественно-эстетическое  развитие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 в одной из областей нет 100% освоения программы.    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  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итогам  анализа результатов диагностики  проведен мониторинг по всем показателям освоения программы, который выявил уровень освоения программы каждым ребенком. Качество освоения программы составляет  90 %  (уровень соответствия возрасту и высокий уровень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обытия и мероприятия в групп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://cloud.mail.ru/public/2GFg/8TJYTsB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едметно-развивающая среда в нашей групп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cloud.mail.ru/public/8ciW/3tW1kejQ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08:30:08Z</dcterms:created>
  <dc:creator>Администратор</dc:creator>
  <dc:description/>
  <dc:language>en-US</dc:language>
  <cp:lastModifiedBy>Пользователь Windows</cp:lastModifiedBy>
  <dcterms:modified xsi:type="dcterms:W3CDTF">2019-12-10T21:26:53Z</dcterms:modified>
  <cp:revision>43</cp:revision>
  <dc:subject/>
  <dc:title>Слайд 1</dc:title>
</cp:coreProperties>
</file>