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4.jpeg" ContentType="image/jpeg"/>
  <Override PartName="/ppt/media/image11.png" ContentType="image/png"/>
  <Override PartName="/ppt/media/image7.jpeg" ContentType="image/jpeg"/>
  <Override PartName="/ppt/media/image28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4.jpeg" ContentType="image/jpeg"/>
  <Override PartName="/ppt/media/image25.png" ContentType="image/png"/>
  <Override PartName="/ppt/media/image3.png" ContentType="image/png"/>
  <Override PartName="/ppt/media/image2.jpeg" ContentType="image/jpeg"/>
  <Override PartName="/ppt/media/image27.png" ContentType="image/png"/>
  <Override PartName="/ppt/media/image26.jpeg" ContentType="image/jpeg"/>
  <Override PartName="/ppt/media/image1.png" ContentType="image/png"/>
  <Override PartName="/ppt/media/image23.png" ContentType="image/png"/>
  <Override PartName="/ppt/media/image22.jpeg" ContentType="image/jpeg"/>
  <Override PartName="/ppt/media/image20.jpeg" ContentType="image/jpeg"/>
  <Override PartName="/ppt/media/image19.png" ContentType="image/png"/>
  <Override PartName="/ppt/media/image21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5.png" ContentType="image/png"/>
  <Override PartName="/ppt/media/image24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08DE-122F-4986-9A34-344E7225A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2C77-0DD1-4049-B0D9-CE1F010D9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055A-BA79-4F3E-A21D-EDC2323E3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F108-DB87-4701-9C05-6A2AFA96F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5DCF3-1C93-4F92-BBDB-D20CDE5E4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C1964-7853-40B8-9337-AA1388179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203E3-4CB1-4DDA-B19E-B74530C14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F12F2-188E-4E6D-A66F-74744A5C0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6D887-91E0-494B-860C-976539358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C888E-031F-4FE0-9E79-88637A6F8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D5B3F-ABCE-46AD-A179-523C58BC5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E6B1-E648-442E-9DC0-03FCCE092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B3B23-2EA6-4903-9A73-C46662DC0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70526-3461-425C-9D48-8FB2B43E0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AACA8-34EB-4454-AD2F-D1C149614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0AB12-FE77-4870-B1D4-031809E22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6D874-F8E4-45EB-B7A5-D1DFB8C53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22F4F9-F9EE-4822-A05E-FD8B70F01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9F261F-EA67-4E27-83D9-5364A5796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903652-E7D1-4440-AC17-3C5A02D03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F74FAC-F1AA-4A79-8B9E-5DB6B196A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DBED8D-4EBC-4282-A036-D765F1642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F8DD-FB38-4155-AA15-E4FA89934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C92649-E739-4768-9B51-B388AD4C2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0FD2B0-2D92-4490-8B69-A773C5570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5537A4-3B1C-441D-80D3-A252CCF70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66E382-851C-4866-B3AE-80189CE45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732F33-17B5-45FA-B412-3388E0A74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AC5F43-4CDF-40C0-80F7-34804DEFE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6338B9-968E-48C6-961F-2EBC7F0A0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FCF944-B7A4-4726-B5B8-F1985B60A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7FAE72-BC9B-4F84-AC7A-9FB61CB43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8349C3-9311-4F9D-B380-3720EA661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277B-407A-434D-BCF4-4DF11C491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953D64-FBFD-4783-B8FE-77CE77337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363181-E6EB-4BBB-9D91-3EF71D2F6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075228-2669-4C10-A54E-AAF157012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D3EFB1-1549-4348-BD46-0B4A148A4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A1B894-8E5C-4DCB-A89C-6722574EC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43D5EB-458A-47CA-9744-14A828DCD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183025-68F3-4008-B2BC-1DF35D5DF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A82EC0-3BA7-4671-9C8B-1CE64F60D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C82FA5-8EB9-45F5-928A-18926D3F0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4A6F22-EF90-463C-90FC-A1A4EDDC5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36E1-8C6D-4C89-95DD-1969D48BC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7C26EC-8545-4715-BF9F-257B1E589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4637AA-B846-4454-969A-3EEC75FFE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14A12A-957F-446E-ADC2-13C7A7C50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A856E6-E32A-4EA1-B9D7-1F5965F40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4F3590-DDFD-43A3-B7F7-A270971EE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34CEED-15FC-4CEF-BA04-9B17176A7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A9020B-56E1-441C-9230-223848905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127223-F7A6-4789-992E-612AA051F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539FF1-56D1-4690-92F9-FAD79CF59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379A28-753D-46B5-B808-10D3321FF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1848-DD2D-4ED4-8D9D-9814E81DF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EE6424-37F7-4F2C-99D3-2B1A19EF6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28E3-3B21-4776-B35D-19683C2CC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EDB0-539E-4338-A5A3-4DF9CCA45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AC06-754D-409C-9EAE-F8B477EF1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04005-A3CB-4B92-9F78-3D115A04DACE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5AD9D-2BBB-445E-B2AC-13BCCAF73530}" type="slidenum">
              <a:rPr b="0" lang="ru-RU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BE7AA-22CA-4227-8AF4-2406DD2B97B2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45EAA-7A47-4ADA-82EC-C1667F4A45DD}" type="slidenum">
              <a:rPr b="0" lang="ru-RU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5D526-CA31-477E-BB12-6A83D0A01873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Заголовок 1" descr=""/>
          <p:cNvPicPr/>
          <p:nvPr/>
        </p:nvPicPr>
        <p:blipFill>
          <a:blip r:embed="rId1"/>
          <a:stretch/>
        </p:blipFill>
        <p:spPr>
          <a:xfrm>
            <a:off x="3213000" y="469800"/>
            <a:ext cx="5997600" cy="318132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907920"/>
            <a:ext cx="8229600" cy="541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de6c36"/>
              </a:buClr>
              <a:buSzPct val="73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852f74"/>
                </a:solidFill>
                <a:latin typeface="Times New Roman"/>
                <a:ea typeface="Times New Roman"/>
              </a:rPr>
              <a:t>В финале этого фильма один из героев публично провозгласил «Да здравствует наш суд — самый гуманный суд в мире!» 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Заголовок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pic>
        <p:nvPicPr>
          <p:cNvPr id="243" name="Содержимое 3" descr="i (2).jpg"/>
          <p:cNvPicPr/>
          <p:nvPr/>
        </p:nvPicPr>
        <p:blipFill>
          <a:blip r:embed="rId2"/>
          <a:stretch/>
        </p:blipFill>
        <p:spPr>
          <a:xfrm>
            <a:off x="1403280" y="2205000"/>
            <a:ext cx="626436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48392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de6c36"/>
              </a:buClr>
              <a:buSzPct val="73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852f74"/>
                </a:solidFill>
                <a:latin typeface="Trebuchet MS"/>
              </a:rPr>
              <a:t>Часть одежды вора, имеющая обыкновение поддаваться действию огня. </a:t>
            </a:r>
            <a:endParaRPr b="0" lang="en-US" sz="5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Заголовок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pic>
        <p:nvPicPr>
          <p:cNvPr id="247" name="Содержимое 3" descr="i (3).jpg"/>
          <p:cNvPicPr/>
          <p:nvPr/>
        </p:nvPicPr>
        <p:blipFill>
          <a:blip r:embed="rId2"/>
          <a:stretch/>
        </p:blipFill>
        <p:spPr>
          <a:xfrm>
            <a:off x="1763640" y="2205000"/>
            <a:ext cx="55450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Необходимо вспомнить сказки и посмотреть на них глазами юриста: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Этот герой русской народной сказки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отерял жилище из- за одной коварной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особы, потерпел унижения, и жестокое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обращение пока самозванка не была выставлена из дома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6" descr="winter_hohlovivan01"/>
          <p:cNvPicPr/>
          <p:nvPr/>
        </p:nvPicPr>
        <p:blipFill>
          <a:blip r:embed="rId2"/>
          <a:stretch/>
        </p:blipFill>
        <p:spPr>
          <a:xfrm>
            <a:off x="2465280" y="1747800"/>
            <a:ext cx="32227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В какой сказке и кто воспользовался правом на свободное передвижение и путешествовал на прутике между двумя утками?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Заголовок 1" descr=""/>
          <p:cNvPicPr/>
          <p:nvPr/>
        </p:nvPicPr>
        <p:blipFill>
          <a:blip r:embed="rId1"/>
          <a:stretch/>
        </p:blipFill>
        <p:spPr>
          <a:xfrm>
            <a:off x="244440" y="291960"/>
            <a:ext cx="7461360" cy="117648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6" descr="video_687082_0"/>
          <p:cNvPicPr/>
          <p:nvPr/>
        </p:nvPicPr>
        <p:blipFill>
          <a:blip r:embed="rId2"/>
          <a:stretch/>
        </p:blipFill>
        <p:spPr>
          <a:xfrm>
            <a:off x="49320" y="1773360"/>
            <a:ext cx="783576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В какой сказке «хлебобулочный» герой несколько раз подвергался попыткам посягательства на его жизнь, угрозам быть съеденным? 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9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Заголовок 3" descr=""/>
          <p:cNvPicPr/>
          <p:nvPr/>
        </p:nvPicPr>
        <p:blipFill>
          <a:blip r:embed="rId1"/>
          <a:stretch/>
        </p:blipFill>
        <p:spPr>
          <a:xfrm>
            <a:off x="450720" y="311040"/>
            <a:ext cx="6864480" cy="110988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456840" y="2205000"/>
            <a:ext cx="2530440" cy="36720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коны записаны в Конституции – основном законе государства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4" name="Содержимое 6" descr="i (2).jpg"/>
          <p:cNvPicPr/>
          <p:nvPr/>
        </p:nvPicPr>
        <p:blipFill>
          <a:blip r:embed="rId2"/>
          <a:stretch/>
        </p:blipFill>
        <p:spPr>
          <a:xfrm>
            <a:off x="4859280" y="2133720"/>
            <a:ext cx="223380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Заголовок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6" descr="10"/>
          <p:cNvPicPr/>
          <p:nvPr/>
        </p:nvPicPr>
        <p:blipFill>
          <a:blip r:embed="rId2"/>
          <a:stretch/>
        </p:blipFill>
        <p:spPr>
          <a:xfrm>
            <a:off x="2168640" y="1609560"/>
            <a:ext cx="3816360" cy="48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Назовите сказку, где две невестки царя посягают на имущество третьей, крадут одеяние невесты младшего сына царя и сжигают его? 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6" descr="i"/>
          <p:cNvPicPr/>
          <p:nvPr/>
        </p:nvPicPr>
        <p:blipFill>
          <a:blip r:embed="rId2"/>
          <a:stretch/>
        </p:blipFill>
        <p:spPr>
          <a:xfrm>
            <a:off x="1547640" y="1839960"/>
            <a:ext cx="5256360" cy="45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В какой сказке и кто нарушал право на свободу и свободный труд за вознаграждение, держал кукол в рабстве?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Заголовок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70" name="Picture 5" descr="i (2)"/>
          <p:cNvPicPr/>
          <p:nvPr/>
        </p:nvPicPr>
        <p:blipFill>
          <a:blip r:embed="rId2"/>
          <a:stretch/>
        </p:blipFill>
        <p:spPr>
          <a:xfrm>
            <a:off x="2268360" y="2060640"/>
            <a:ext cx="431964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9200"/>
            <a:ext cx="7570800" cy="484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 этой сказке Пушкина должностное лицо грубо нарушило принцип «от каждого по способности, каждому по труду» и присвоило зарплату труженика. Труженик учинил самосуд, причинив должностному лицу тяжкие телесные повреждения, приведшие к смерти.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Заголовок 1" descr=""/>
          <p:cNvPicPr/>
          <p:nvPr/>
        </p:nvPicPr>
        <p:blipFill>
          <a:blip r:embed="rId1"/>
          <a:stretch/>
        </p:blipFill>
        <p:spPr>
          <a:xfrm>
            <a:off x="450720" y="291960"/>
            <a:ext cx="7255080" cy="117648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6" descr="i (3)"/>
          <p:cNvPicPr/>
          <p:nvPr/>
        </p:nvPicPr>
        <p:blipFill>
          <a:blip r:embed="rId2"/>
          <a:stretch/>
        </p:blipFill>
        <p:spPr>
          <a:xfrm>
            <a:off x="1332000" y="1628640"/>
            <a:ext cx="583236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Спасибо за внимание</a:t>
            </a:r>
            <a:endParaRPr b="0" lang="en-US" sz="5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c6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Заголовок 1" descr=""/>
          <p:cNvPicPr/>
          <p:nvPr/>
        </p:nvPicPr>
        <p:blipFill>
          <a:blip r:embed="rId1"/>
          <a:stretch/>
        </p:blipFill>
        <p:spPr>
          <a:xfrm>
            <a:off x="450720" y="225360"/>
            <a:ext cx="6431040" cy="76212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457200" y="1496880"/>
            <a:ext cx="5897520" cy="6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7" name="Содержимое 5" descr=""/>
          <p:cNvPicPr/>
          <p:nvPr/>
        </p:nvPicPr>
        <p:blipFill>
          <a:blip r:embed="rId2"/>
          <a:stretch/>
        </p:blipFill>
        <p:spPr>
          <a:xfrm>
            <a:off x="450720" y="1523880"/>
            <a:ext cx="7255080" cy="50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Заголовок 1" descr=""/>
          <p:cNvPicPr/>
          <p:nvPr/>
        </p:nvPicPr>
        <p:blipFill>
          <a:blip r:embed="rId1"/>
          <a:stretch/>
        </p:blipFill>
        <p:spPr>
          <a:xfrm>
            <a:off x="3359160" y="530280"/>
            <a:ext cx="5119560" cy="287820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052640"/>
            <a:ext cx="8229600" cy="52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de6c36"/>
              </a:buClr>
              <a:buSzPct val="73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852f74"/>
                </a:solidFill>
                <a:latin typeface="Trebuchet MS"/>
              </a:rPr>
              <a:t>Этим паролем пользовались контрабандисты в фильме Л. Гайдая «Бриллиантовая рука».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1125360"/>
            <a:ext cx="8229600" cy="519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de6c36"/>
              </a:buClr>
              <a:buSzPct val="73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852f74"/>
                </a:solidFill>
                <a:latin typeface="Trebuchet MS"/>
              </a:rPr>
              <a:t>У лесных зайцев нет клыков, а у городских «зайцев» нет именно этого. Чего? </a:t>
            </a:r>
            <a:endParaRPr b="0" lang="en-US" sz="6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125360"/>
            <a:ext cx="8229600" cy="519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de6c36"/>
              </a:buClr>
              <a:buSzPct val="73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852f74"/>
                </a:solidFill>
                <a:latin typeface="Trebuchet MS"/>
              </a:rPr>
              <a:t>У лесных зайцев нет клыков, а у городских «зайцев» нет именно этого. Чего? </a:t>
            </a:r>
            <a:endParaRPr b="0" lang="en-US" sz="6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907920"/>
            <a:ext cx="8229600" cy="541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de6c36"/>
              </a:buClr>
              <a:buSzPct val="73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852f74"/>
                </a:solidFill>
                <a:latin typeface="Times New Roman"/>
                <a:ea typeface="Times New Roman"/>
              </a:rPr>
              <a:t>Эту птицу народная молва частенько обвиняет в воровстве ювелирных изделий</a:t>
            </a:r>
            <a:r>
              <a:rPr b="0" lang="ru-RU" sz="2600" spc="-1" strike="noStrike">
                <a:solidFill>
                  <a:srgbClr val="852f74"/>
                </a:solidFill>
                <a:latin typeface="Trebuchet M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Заголовок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pic>
        <p:nvPicPr>
          <p:cNvPr id="239" name="Содержимое 3" descr="i (1).jpg"/>
          <p:cNvPicPr/>
          <p:nvPr/>
        </p:nvPicPr>
        <p:blipFill>
          <a:blip r:embed="rId2"/>
          <a:stretch/>
        </p:blipFill>
        <p:spPr>
          <a:xfrm>
            <a:off x="1835280" y="2205000"/>
            <a:ext cx="568944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30T04:07:20Z</dcterms:created>
  <dc:creator>Image&amp;Matros™</dc:creator>
  <dc:description/>
  <dc:language>en-US</dc:language>
  <cp:lastModifiedBy>RePack by SPecialiST</cp:lastModifiedBy>
  <dcterms:modified xsi:type="dcterms:W3CDTF">2018-02-07T12:45:39Z</dcterms:modified>
  <cp:revision>11</cp:revision>
  <dc:subject/>
  <dc:title>Познавательная игра «Мои права»</dc:title>
</cp:coreProperties>
</file>