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F25-FBE6-489D-8DC9-E1F7040D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FA88-67D6-43E9-BAE2-7BEE4B62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F579-34CB-48EA-BB21-B5E41CEE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9708-95CD-4DFE-95FE-D94138DF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EF59-29A7-4F42-89C4-17942FAC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CF4F-12F6-4111-A0C2-B4FA35AE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8526-3666-436F-BE46-AD8C0C2D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C878-0C01-4F3B-BB04-A41123ED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D69C-B79B-40E6-92B4-20324ED3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30CB-C247-48D8-8C64-3EE68C53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8D0E-A4A2-41D9-B4B4-9864FCE7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F0E-F8DA-4297-AF71-119CB0B5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A723-74B4-40A8-A30A-72AAFA71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9202-4EA1-4C12-A234-34822724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FBC9-01BD-4981-AB12-770FBEC9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7159-2EAB-4F74-A6FE-BD21B3B2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DDB9-3875-4937-B0D2-1ABD0589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8E30-2EDB-4865-909C-3B7075D9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B458-E642-4F3B-8FE7-D191899E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6C3E-97BB-4FFD-9C65-DCF86273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C7D5-A913-4E3C-8087-23AFEBE0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DC58-A497-4D78-ACCC-64B648FB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C11D-2E67-448A-92C3-D94B2A65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2E5D-813F-4D66-94D3-E099D26E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0268-DEE4-420A-B81B-74D8505AD56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154D-2FD3-414F-8E0F-B863D8E0FDC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48656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900" spc="-1" strike="noStrike">
                <a:solidFill>
                  <a:srgbClr val="ff0000"/>
                </a:solidFill>
                <a:latin typeface="Bradley Hand ITC"/>
              </a:rPr>
              <a:t>Адаптация первоклассников </a:t>
            </a:r>
            <a:br>
              <a:rPr sz="6900"/>
            </a:br>
            <a:r>
              <a:rPr b="0" i="1" lang="ru-RU" sz="6900" spc="-1" strike="noStrike">
                <a:solidFill>
                  <a:srgbClr val="ff0000"/>
                </a:solidFill>
                <a:latin typeface="Bradley Hand ITC"/>
              </a:rPr>
              <a:t>в школе</a:t>
            </a:r>
            <a:endParaRPr b="0" lang="en-US" sz="6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08000" y="4436640"/>
            <a:ext cx="6553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рманжинова А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торая групп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детей имеет более длительный период адаптации, период несоответствия их поведения требованиям школы затягивается. Дети не могут принять новую ситуацию обучения, общения с учителем, деть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кие школьники могут играть на уроках, выяснять отношения с товарищем, они не реагируют на замечания учителя или реагируют слезами, обида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правило, эти дети испытывают трудности и в усвоении учебной программы, лишь к концу первого полугодия реакции этих детей становятся адекватными требованиям школы, учител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ретья групп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дети, у которых социально-психологическая адаптация связана со значительными трудностя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 них отмечаются негативные формы поведения, резкое проявление отрицательных эмоций, они с большим трудом усваивают учебные программы. Именно на таких детей чаще всего жалуются учителя: они "мешают" работать в классе.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Трудности, с которыми сталкиваются учителя и родители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33"/>
                </a:solidFill>
                <a:latin typeface="Arial"/>
              </a:rPr>
              <a:t>Хроническая неуспеш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иод начального обучения происходит изменение в отношении взрослых к детям, к их успехам и неудач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Хорошим" считается ребенок, который успешно учится, много знает, легко решает задачи и справляется с учебными зада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неизбежным в начале обучения трудностям не ожидавшие этого родители относятся отрицат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4"/>
          <p:cNvGrpSpPr/>
          <p:nvPr/>
        </p:nvGrpSpPr>
        <p:grpSpPr>
          <a:xfrm>
            <a:off x="76320" y="720720"/>
            <a:ext cx="9067680" cy="5372280"/>
            <a:chOff x="76320" y="720720"/>
            <a:chExt cx="9067680" cy="5372280"/>
          </a:xfrm>
        </p:grpSpPr>
        <p:sp>
          <p:nvSpPr>
            <p:cNvPr id="112" name="AutoShape 5"/>
            <p:cNvSpPr/>
            <p:nvPr/>
          </p:nvSpPr>
          <p:spPr>
            <a:xfrm>
              <a:off x="76320" y="720720"/>
              <a:ext cx="9067680" cy="537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6"/>
            <p:cNvSpPr/>
            <p:nvPr/>
          </p:nvSpPr>
          <p:spPr>
            <a:xfrm>
              <a:off x="2438640" y="835200"/>
              <a:ext cx="3885120" cy="79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Хроническая неуспеш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7"/>
            <p:cNvSpPr/>
            <p:nvPr/>
          </p:nvSpPr>
          <p:spPr>
            <a:xfrm flipH="1">
              <a:off x="2438640" y="1634760"/>
              <a:ext cx="1294560" cy="9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8"/>
            <p:cNvSpPr/>
            <p:nvPr/>
          </p:nvSpPr>
          <p:spPr>
            <a:xfrm>
              <a:off x="4343040" y="1634760"/>
              <a:ext cx="121752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9"/>
            <p:cNvSpPr/>
            <p:nvPr/>
          </p:nvSpPr>
          <p:spPr>
            <a:xfrm>
              <a:off x="1524240" y="2549880"/>
              <a:ext cx="2210040" cy="57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трах родителей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оязнь школ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0"/>
            <p:cNvSpPr/>
            <p:nvPr/>
          </p:nvSpPr>
          <p:spPr>
            <a:xfrm>
              <a:off x="4572000" y="2549880"/>
              <a:ext cx="2362680" cy="68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авышенные требования и ожидания родителе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т де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1"/>
            <p:cNvSpPr/>
            <p:nvPr/>
          </p:nvSpPr>
          <p:spPr>
            <a:xfrm flipH="1">
              <a:off x="4647600" y="3235320"/>
              <a:ext cx="912960" cy="91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2"/>
            <p:cNvSpPr/>
            <p:nvPr/>
          </p:nvSpPr>
          <p:spPr>
            <a:xfrm>
              <a:off x="6553080" y="32353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3"/>
            <p:cNvSpPr/>
            <p:nvPr/>
          </p:nvSpPr>
          <p:spPr>
            <a:xfrm>
              <a:off x="2743560" y="4149360"/>
              <a:ext cx="2739960" cy="45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лохо учится – «плохой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4"/>
            <p:cNvSpPr/>
            <p:nvPr/>
          </p:nvSpPr>
          <p:spPr>
            <a:xfrm flipH="1">
              <a:off x="4267080" y="4606920"/>
              <a:ext cx="1080" cy="68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5"/>
            <p:cNvSpPr/>
            <p:nvPr/>
          </p:nvSpPr>
          <p:spPr>
            <a:xfrm>
              <a:off x="3048480" y="5293440"/>
              <a:ext cx="2434320" cy="68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Неуверенность, тревожность, неуспе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6"/>
            <p:cNvSpPr/>
            <p:nvPr/>
          </p:nvSpPr>
          <p:spPr>
            <a:xfrm>
              <a:off x="2666880" y="3120840"/>
              <a:ext cx="1143360" cy="1028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6633"/>
                </a:solidFill>
                <a:latin typeface="Arial"/>
              </a:rPr>
              <a:t>2. Уход от деятельности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ребенок сидит на уроке и в то же время как бы отсутствует, не слышит вопросы, не выполняет задания учителя.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6633"/>
                </a:solidFill>
                <a:latin typeface="Arial"/>
              </a:rPr>
              <a:t>3. Негативистская демонстративность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Характерна для детей с высокой потребностью во внимании со стороны окружающих, взрослых. Здесь будут жалобы не на плохую учебу, а на поведение ребенка. Он нарушает общие нормы дисциплины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4.Вербализм (болтливость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ети, развивающиеся по такому типу отличаются высоким уровнем развития речи и задержкой мышл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5. Психофизический инфантилиз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ставание в психическом развитии, которое прослеживается в дошкольных формах поведения, демонстрирует интересы и потребности дошкольник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к оказать ребенку помощь в адаптации к школе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Не показыва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ребенку свою </a:t>
            </a:r>
            <a:r>
              <a:rPr b="0" i="1" lang="ru-RU" sz="3000" spc="-1" strike="noStrike">
                <a:solidFill>
                  <a:srgbClr val="006633"/>
                </a:solidFill>
                <a:latin typeface="Arial"/>
              </a:rPr>
              <a:t>озабоченность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го школьными 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успехами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 Искренне </a:t>
            </a:r>
            <a:r>
              <a:rPr b="0" i="1" lang="ru-RU" sz="3000" spc="-1" strike="noStrike">
                <a:solidFill>
                  <a:srgbClr val="006633"/>
                </a:solidFill>
                <a:latin typeface="Arial"/>
              </a:rPr>
              <a:t>интересоваться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 школьной жизнью ребен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смещать фокус своего внимания с учебы на отношения ребенка с другими детьми, на подготовку и проведение школьных праздников, дежурства, экскурсий и т.п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к оказать ребенку помощь в адаптации к школе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одчеркивать, выделя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ту </a:t>
            </a:r>
            <a:r>
              <a:rPr b="0" i="1" lang="ru-RU" sz="3000" spc="-1" strike="noStrike">
                <a:solidFill>
                  <a:srgbClr val="006633"/>
                </a:solidFill>
                <a:latin typeface="Arial"/>
              </a:rPr>
              <a:t>сферу деятельности, где ребенок больше успеше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помогать тем самым обрести веру в себ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ученик"/>
          <p:cNvPicPr/>
          <p:nvPr/>
        </p:nvPicPr>
        <p:blipFill>
          <a:blip r:embed="rId1"/>
          <a:stretch/>
        </p:blipFill>
        <p:spPr>
          <a:xfrm>
            <a:off x="3780000" y="5157720"/>
            <a:ext cx="618840" cy="1067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6227640" y="4508640"/>
            <a:ext cx="228600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одители должны 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терпеливо ждать успех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т.к. на школьных делах чаще всего и происходит замыкание порочного круга тревожности. Школа должна очень долго оставаться сферой щадящего оцени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олезненность школьной сферы должна быть снижена любыми средствами: снизить ценность школьных отметок, то есть показать ребенку, что 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его любят не за хорошую учебу, а </a:t>
            </a:r>
            <a:r>
              <a:rPr b="0" i="1" lang="ru-RU" sz="2600" spc="-1" strike="noStrike">
                <a:solidFill>
                  <a:srgbClr val="006633"/>
                </a:solidFill>
                <a:latin typeface="Arial"/>
              </a:rPr>
              <a:t>любят, ценят, принимают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6633"/>
                </a:solidFill>
                <a:latin typeface="Arial"/>
              </a:rPr>
              <a:t>вообще 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как собственное дитя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безусловно, не за что - то, а вопреки всем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кот"/>
          <p:cNvPicPr/>
          <p:nvPr/>
        </p:nvPicPr>
        <p:blipFill>
          <a:blip r:embed="rId1"/>
          <a:stretch/>
        </p:blipFill>
        <p:spPr>
          <a:xfrm>
            <a:off x="5435640" y="234936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и в коем случае 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не сравнивать его посредственные результаты с эталон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то есть с требованиями школьной программы, достижениями других, более успешных, учеников. Лучше вообще никогда не сравнивать ребенка с другими деть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Сравнивать ребенка можно только с ним сами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хвалить только за одно: улучшение его собственных результатов. Если во вчерашнем домашнем задании он сделал 3 ошибки, а в сегодняшнем - 2, это нужно отметить как реальный успех, который должен быть оценен родителями искренне и без ирон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рмин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"адаптация"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меет латинское происхождение и обозначает приспособление строения и функций организма, его органов и клеток к условиям сре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i="1" lang="ru-RU" sz="3000" spc="-1" strike="noStrike">
                <a:solidFill>
                  <a:srgbClr val="ff0000"/>
                </a:solidFill>
                <a:latin typeface="Arial"/>
              </a:rPr>
              <a:t>Адаптация к школе - это процесс привыкания к новым школьным условия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который каждый первоклассник переживает и осознает по-своем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" уделять ребенку внимание не только когда он </a:t>
            </a:r>
            <a:r>
              <a:rPr b="0" lang="ru-RU" sz="3000" spc="-1" strike="noStrike" u="sng">
                <a:solidFill>
                  <a:srgbClr val="ff0000"/>
                </a:solidFill>
                <a:uFillTx/>
                <a:latin typeface="Arial"/>
              </a:rPr>
              <a:t>плохой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, а когда он </a:t>
            </a:r>
            <a:r>
              <a:rPr b="0" lang="ru-RU" sz="3000" spc="-1" strike="noStrike" u="sng">
                <a:solidFill>
                  <a:srgbClr val="ff0000"/>
                </a:solidFill>
                <a:uFillTx/>
                <a:latin typeface="Arial"/>
              </a:rPr>
              <a:t>хороший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больше, когда он хороший"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мечать ребенка, когда он незаметен, когда он не выкидывает «фокусов», надеясь привлечь вним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1"/>
          <p:cNvPicPr/>
          <p:nvPr/>
        </p:nvPicPr>
        <p:blipFill>
          <a:blip r:embed="rId1"/>
          <a:stretch/>
        </p:blipFill>
        <p:spPr>
          <a:xfrm>
            <a:off x="3708360" y="260280"/>
            <a:ext cx="10177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бенку надо найти сферу, где он мог бы 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реализовать свою демонстративнос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кружки, танцы, спорт, рисование, изостудии и т.д.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Изображение 166"/>
          <p:cNvPicPr/>
          <p:nvPr/>
        </p:nvPicPr>
        <p:blipFill>
          <a:blip r:embed="rId1"/>
          <a:stretch/>
        </p:blipFill>
        <p:spPr>
          <a:xfrm>
            <a:off x="3492360" y="4149720"/>
            <a:ext cx="18576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Строго выполнять режим дн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71280" y="1052280"/>
            <a:ext cx="7715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 Пробужд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за 1 час до выхода в школ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 Выход в школ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 Возвращение из школ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. Отдых, дневной с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. Игры, помощь по дом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. Спать (не позднее 21 час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очной сон первоклассников должен составлять не менее 9,5 часов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гры на компьютере и просмотр телепередач не более  1 часа  в ден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Желаю здоровь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вам и вашим детям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сердечко"/>
          <p:cNvPicPr/>
          <p:nvPr/>
        </p:nvPicPr>
        <p:blipFill>
          <a:blip r:embed="rId1"/>
          <a:stretch/>
        </p:blipFill>
        <p:spPr>
          <a:xfrm>
            <a:off x="3708360" y="4005360"/>
            <a:ext cx="88416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иод адаптации ребенка к школе дли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2-3 недель до полугод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Изображение 075"/>
          <p:cNvPicPr/>
          <p:nvPr/>
        </p:nvPicPr>
        <p:blipFill>
          <a:blip r:embed="rId1"/>
          <a:stretch/>
        </p:blipFill>
        <p:spPr>
          <a:xfrm>
            <a:off x="3492360" y="4365720"/>
            <a:ext cx="165744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изнаки</a:t>
            </a:r>
            <a:r>
              <a:rPr b="0" lang="ru-RU" sz="3800" spc="-1" strike="noStrike">
                <a:solidFill>
                  <a:srgbClr val="ff0000"/>
                </a:solidFill>
                <a:latin typeface="Garamond"/>
              </a:rPr>
              <a:t> успешной адаптации: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класснику </a:t>
            </a:r>
            <a:r>
              <a:rPr b="1" lang="ru-RU" sz="2000" spc="-1" strike="noStrike">
                <a:solidFill>
                  <a:srgbClr val="006633"/>
                </a:solidFill>
                <a:latin typeface="Arial"/>
              </a:rPr>
              <a:t>в школе нрави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н идет туда с удовольствием, охотно рассказывает о своих успехах и неудачах, он понимает, что главная цель его пребывания в школе - уч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классник </a:t>
            </a:r>
            <a:r>
              <a:rPr b="1" lang="ru-RU" sz="2000" spc="-1" strike="noStrike">
                <a:solidFill>
                  <a:srgbClr val="006633"/>
                </a:solidFill>
                <a:latin typeface="Arial"/>
              </a:rPr>
              <a:t>не слишком уста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он активен, жизнерадостен, любопытен, редко простужается, хорошо спит, почти никогда не жалуется на боль в животе, голове, гор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классник достаточно </a:t>
            </a:r>
            <a:r>
              <a:rPr b="1" lang="ru-RU" sz="2000" spc="-1" strike="noStrike">
                <a:solidFill>
                  <a:srgbClr val="006633"/>
                </a:solidFill>
                <a:latin typeface="Arial"/>
              </a:rPr>
              <a:t>самостоятелен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ез проблем переодевается на физкультуру, уверенно ориентируется в школьном здании, при необходимости сумеет обратиться за помощью к кому-нибудь из взросл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него</a:t>
            </a:r>
            <a:r>
              <a:rPr b="1" lang="ru-RU" sz="2000" spc="-1" strike="noStrike">
                <a:solidFill>
                  <a:srgbClr val="006633"/>
                </a:solidFill>
                <a:latin typeface="Arial"/>
              </a:rPr>
              <a:t> появились друзья-однокласс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 вы знаете их и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му </a:t>
            </a:r>
            <a:r>
              <a:rPr b="1" lang="ru-RU" sz="2000" spc="-1" strike="noStrike">
                <a:solidFill>
                  <a:srgbClr val="006633"/>
                </a:solidFill>
                <a:latin typeface="Arial"/>
              </a:rPr>
              <a:t>нравится его учительниц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большинство учителей, ведущих дополнительные предметы  в класс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: "А может быть, лучше вернуться в детский сад?" он решительно отвечает: "Нет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д, отделяющий шестилетнего ребенка от семилетнего, очень важен для психического развития, потому что в течение этого периода у ребенка формируется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 произвольная регуляция своего поведения, ориентация на социальные нормы и треб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едущие виды  деятельности детей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,5 - 4 года - "Я сам" - игра с предметами (кубики, мячики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-6 лет - "Я - пилот" - ролевая игр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6-7 лет – социальная роль - </a:t>
            </a:r>
            <a:r>
              <a:rPr b="0" lang="ru-RU" sz="3000" spc="-1" strike="noStrike" u="sng">
                <a:solidFill>
                  <a:srgbClr val="ff0000"/>
                </a:solidFill>
                <a:uFillTx/>
                <a:latin typeface="Arial"/>
              </a:rPr>
              <a:t>"Я - ученик, я - школьник"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0000"/>
                </a:solidFill>
                <a:uFillTx/>
                <a:latin typeface="Arial"/>
              </a:rPr>
              <a:t>Ведущая психическая деятельность - учебная деятельнос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"адаптационная болезнь", "школьный шок", "школьный стресс"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ответ на новые повышенные требования к организму первоклассника в первые недели и месяцы обучения могут появиться жалобы детей на усталость, головные боли, возникнуть раздражительность, плаксивость, нарушение с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нижаются аппетит детей и масса те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рудности психологического характера:  чувство страха, отрицательное отношение к учебе, учителю, неправильное представление о своих способностях и возможностя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Личностная, или социальная, адаптация связана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с желанием и умением ребенка принять новую роль –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роль школьника</a:t>
            </a: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 и достигается целым рядом условий.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 Развитие у детей </a:t>
            </a: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умения слушать, реагировать на действия учителя, планировать свою работу, анализировать полученный результат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 Развитие </a:t>
            </a: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умения налаживать контакт с другими деть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выстраивать отношения со взрослыми, быть общительным и интересным для окружающих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 Формирование </a:t>
            </a: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умения правильно оценивать свои действия и действия одноклассников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пользоваться простейшими критериями оценки и самооцен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Garamond"/>
              </a:rPr>
              <a:t>По степени адаптированности детей можно условно разделить на три группы.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ервая групп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детей адаптируется в течение первых двух месяцев обучения. Эти дети относительно быстро вливаются в коллектив, осваиваются в школе, приобретают новых друзей. У них почти всегда хорошее настроение, они спокойны, доброжелательны, добросовестны и без видимого напряжения выполняют все требования учител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ногда у них все же отмечаются сложности либо в контактах с детьми, либо в отношениях с учителем, так как им еще трудно выполнять все требования правил повед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о к концу октября трудности этих детей, как правило, преодолеваются, ребенок полностью осваивается и с новым статусом ученика, и с новыми требованиями, и с новым режимо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10:33:39Z</dcterms:created>
  <dc:creator>admin</dc:creator>
  <dc:description/>
  <dc:language>en-US</dc:language>
  <cp:lastModifiedBy>Санёк</cp:lastModifiedBy>
  <dcterms:modified xsi:type="dcterms:W3CDTF">2019-12-11T19:33:03Z</dcterms:modified>
  <cp:revision>18</cp:revision>
  <dc:subject/>
  <dc:title>Адаптация первоклассников в школе</dc:title>
</cp:coreProperties>
</file>