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2.png" ContentType="image/png"/>
  <Override PartName="/ppt/media/image34.jpeg" ContentType="image/jpeg"/>
  <Override PartName="/ppt/media/image43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45.jpeg" ContentType="image/jpeg"/>
  <Override PartName="/ppt/media/image46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11.png" ContentType="image/png"/>
  <Override PartName="/ppt/media/image6.jpeg" ContentType="image/jpeg"/>
  <Override PartName="/ppt/media/image25.png" ContentType="image/png"/>
  <Override PartName="/ppt/media/image4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35B-3F2A-49C7-B02E-D611FF917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DA9-6D1E-4263-B4D9-710215B444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8EF5-BF7A-4245-84ED-9F3DA64C6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191B-65D2-424F-8941-57593F11C4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405-67E3-4C94-A0D4-2034BE24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432-4FE0-485B-BE22-816A731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9B7-F83C-4E0D-8AAB-26B4FCBC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924-782D-4700-8A4A-5AB6B1A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85E-2506-4FCB-9A60-F7151EFD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1AD-86DF-45AF-A805-2E3858F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5D96-49E1-4E0E-A4F9-191D18C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6461-636C-46DE-A4CA-A9DE46E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AC26-2BAB-4EBD-9FA6-DE7933C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9F8-0522-4F4F-A8D0-4C8130D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2A44-6BCD-4AF0-83A9-374807B5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A9B-447D-426C-A278-B7039CF0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00B-0D65-481C-BAF3-5D706E0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6A8C-B42D-431A-8DF7-60AAE6F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BA8-DDDE-4F20-9717-4F83BA2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15E1-F99E-4B1C-88E5-939F706A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88B-08BC-472D-BE89-3778523A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A21-19EE-4321-99F9-73582E9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B3C-576F-48E7-8EB5-BB7A95E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B03-1867-4292-B2C5-F6690C8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A6B-1A88-4F73-9FC3-DD1C407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D7E-9634-4365-8272-7D662476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9B7-1270-4774-AFBB-9EE52CC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86D-ABCD-41E5-97EF-876243E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666-8AC0-4B66-A081-B18D70D82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F39-8B34-4998-9535-1EF3CA132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403280" y="105264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0" y="2060640"/>
            <a:ext cx="946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Радиоактивность и радиционно опасные объек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56000" y="465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Урок ОБЖ 8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32523"/>
                </a:solidFill>
                <a:latin typeface="Calibri"/>
              </a:rPr>
              <a:t>Источники ради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Admin\Рабочий стол\Откр урок АЭС\лрез\radiation.jp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79280" y="182520"/>
            <a:ext cx="5616720" cy="398880"/>
          </a:xfrm>
          <a:prstGeom prst="rect">
            <a:avLst/>
          </a:prstGeom>
          <a:solidFill>
            <a:srgbClr val="08121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ad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ad1c"/>
                </a:solidFill>
                <a:latin typeface="Times New Roman"/>
                <a:ea typeface="Times New Roman"/>
              </a:rPr>
              <a:t>Аварии на радиационно опасных объ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196920" y="728640"/>
            <a:ext cx="561636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ационно опасный 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179280" y="2674800"/>
            <a:ext cx="2051280" cy="322560"/>
          </a:xfrm>
          <a:prstGeom prst="rect">
            <a:avLst/>
          </a:prstGeom>
          <a:solidFill>
            <a:srgbClr val="e6b9b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2340000" y="2674800"/>
            <a:ext cx="1655640" cy="322560"/>
          </a:xfrm>
          <a:prstGeom prst="rect">
            <a:avLst/>
          </a:prstGeom>
          <a:solidFill>
            <a:srgbClr val="e6b9b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4157640" y="2674800"/>
            <a:ext cx="1638360" cy="322560"/>
          </a:xfrm>
          <a:prstGeom prst="rect">
            <a:avLst/>
          </a:prstGeom>
          <a:solidFill>
            <a:srgbClr val="e6b9b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Выноска со стрелкой вправо 8" descr=""/>
          <p:cNvPicPr/>
          <p:nvPr/>
        </p:nvPicPr>
        <p:blipFill>
          <a:blip r:embed="rId1"/>
          <a:stretch/>
        </p:blipFill>
        <p:spPr>
          <a:xfrm>
            <a:off x="176040" y="1030320"/>
            <a:ext cx="5670720" cy="5605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5916600" y="2290680"/>
            <a:ext cx="3067200" cy="706680"/>
          </a:xfrm>
          <a:prstGeom prst="rect">
            <a:avLst/>
          </a:prstGeom>
          <a:solidFill>
            <a:srgbClr val="b7dee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ацион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212760" y="3056040"/>
            <a:ext cx="8804160" cy="733320"/>
          </a:xfrm>
          <a:prstGeom prst="rect">
            <a:avLst/>
          </a:prstGeom>
          <a:solidFill>
            <a:srgbClr val="e6b9b8"/>
          </a:solidFill>
          <a:ln w="381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аварии на котором или при разрушении которого может произойти облучение ионизирующим излучением или радиоактивное загрязнение люде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179280" y="3789360"/>
            <a:ext cx="4321440" cy="666720"/>
          </a:xfrm>
          <a:prstGeom prst="rect">
            <a:avLst/>
          </a:prstGeom>
          <a:solidFill>
            <a:srgbClr val="e6b9b8"/>
          </a:solidFill>
          <a:ln w="381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льскохозяйственных животных и раст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4716360" y="3789360"/>
            <a:ext cx="4300560" cy="674640"/>
          </a:xfrm>
          <a:prstGeom prst="rect">
            <a:avLst/>
          </a:prstGeom>
          <a:solidFill>
            <a:srgbClr val="e6b9b8"/>
          </a:solidFill>
          <a:ln w="381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также  окружающей природ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916600" y="219240"/>
            <a:ext cx="3016440" cy="197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196920" y="1606680"/>
            <a:ext cx="2047680" cy="106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4"/>
          <a:stretch/>
        </p:blipFill>
        <p:spPr>
          <a:xfrm>
            <a:off x="4157640" y="1574640"/>
            <a:ext cx="1670040" cy="111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5"/>
          <a:stretch/>
        </p:blipFill>
        <p:spPr>
          <a:xfrm>
            <a:off x="2368440" y="1606680"/>
            <a:ext cx="1627200" cy="111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6"/>
          <a:stretch/>
        </p:blipFill>
        <p:spPr>
          <a:xfrm>
            <a:off x="212760" y="4557600"/>
            <a:ext cx="3184560" cy="2111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7"/>
          <a:stretch/>
        </p:blipFill>
        <p:spPr>
          <a:xfrm>
            <a:off x="3807000" y="4557600"/>
            <a:ext cx="1385640" cy="208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8"/>
          <a:stretch/>
        </p:blipFill>
        <p:spPr>
          <a:xfrm>
            <a:off x="5364000" y="4557600"/>
            <a:ext cx="34020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2"/>
          <p:cNvSpPr/>
          <p:nvPr/>
        </p:nvSpPr>
        <p:spPr>
          <a:xfrm>
            <a:off x="3419640" y="6184800"/>
            <a:ext cx="52005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79280" y="182520"/>
            <a:ext cx="5616720" cy="398880"/>
          </a:xfrm>
          <a:prstGeom prst="rect">
            <a:avLst/>
          </a:prstGeom>
          <a:solidFill>
            <a:srgbClr val="08121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ad1c"/>
                </a:solidFill>
                <a:latin typeface="Times New Roman"/>
                <a:ea typeface="Times New Roman"/>
              </a:rPr>
              <a:t>К числу таких объектов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805120" cy="1656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318960" y="2421000"/>
            <a:ext cx="2810160" cy="81900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А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3395520" y="2448000"/>
            <a:ext cx="2605320" cy="79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предприятия по переработке или изготовлению ядерного топл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6234120" y="765000"/>
            <a:ext cx="2392200" cy="1656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7"/>
          <p:cNvSpPr/>
          <p:nvPr/>
        </p:nvSpPr>
        <p:spPr>
          <a:xfrm>
            <a:off x="6234120" y="2421000"/>
            <a:ext cx="2370240" cy="81900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научно-исследовательские и проект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358920" y="5772240"/>
            <a:ext cx="2770200" cy="60948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предприятия по захоронению радиоактивных отхо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351000" y="3797280"/>
            <a:ext cx="2778120" cy="197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5"/>
          <a:stretch/>
        </p:blipFill>
        <p:spPr>
          <a:xfrm>
            <a:off x="3479760" y="3797280"/>
            <a:ext cx="2630520" cy="19749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3479760" y="5772240"/>
            <a:ext cx="2630520" cy="60948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ядерные энергетические установки на транспо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6"/>
          <a:stretch/>
        </p:blipFill>
        <p:spPr>
          <a:xfrm>
            <a:off x="6234120" y="3797280"/>
            <a:ext cx="2619360" cy="197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4"/>
          <p:cNvSpPr/>
          <p:nvPr/>
        </p:nvSpPr>
        <p:spPr>
          <a:xfrm>
            <a:off x="6227640" y="5734080"/>
            <a:ext cx="2592360" cy="64764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воору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332000" y="203040"/>
            <a:ext cx="5904000" cy="444600"/>
          </a:xfrm>
          <a:prstGeom prst="rect">
            <a:avLst/>
          </a:prstGeom>
          <a:solidFill>
            <a:srgbClr val="08121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диационные аварии подразделяются на 3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468360" y="1268280"/>
            <a:ext cx="23032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ок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4"/>
          <p:cNvSpPr/>
          <p:nvPr/>
        </p:nvSpPr>
        <p:spPr>
          <a:xfrm>
            <a:off x="3132000" y="1268280"/>
            <a:ext cx="23036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ст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6084720" y="1268280"/>
            <a:ext cx="23036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0" y="1916280"/>
            <a:ext cx="2843280" cy="494172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рушение в работе РОО (радиационно опасного объекта), при котором не произошел выход радиоактивных продуктов или ионизирующих излучений за предусмотренные границы оборудования, технологических систем, зданий и сооружений в количествах, превышающих установленные для нормальной эксплуатации предприятия 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132000" y="1916280"/>
            <a:ext cx="2735280" cy="494172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рушение в работе РОО, при котором произошел выход радиоактивных продуктов в пределах санитарно-защитной зоны и в количествах, превышающих установленные для данного пред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6062760" y="1916280"/>
            <a:ext cx="3081240" cy="4941720"/>
          </a:xfrm>
          <a:prstGeom prst="rect">
            <a:avLst/>
          </a:pr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рушение в работе РОО, при котором произошел выход радиоактивных продуктов за границу санитарно-защитной зоны и в количествах, приводящих к радиоактивному загрязнению прилегающей территории и возможному облучению проживающего на ней населения выше установленн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10"/>
          <p:cNvCxnSpPr>
            <a:stCxn id="141" idx="2"/>
            <a:endCxn id="142" idx="0"/>
          </p:cNvCxnSpPr>
          <p:nvPr/>
        </p:nvCxnSpPr>
        <p:spPr>
          <a:xfrm flipH="1">
            <a:off x="1618920" y="649080"/>
            <a:ext cx="2666160" cy="6195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49" name="Прямая со стрелкой 12"/>
          <p:cNvCxnSpPr>
            <a:stCxn id="141" idx="2"/>
            <a:endCxn id="143" idx="0"/>
          </p:cNvCxnSpPr>
          <p:nvPr/>
        </p:nvCxnSpPr>
        <p:spPr>
          <a:xfrm>
            <a:off x="4284360" y="649080"/>
            <a:ext cx="1080" cy="6195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50" name="Прямая со стрелкой 14"/>
          <p:cNvCxnSpPr>
            <a:stCxn id="141" idx="2"/>
            <a:endCxn id="144" idx="0"/>
          </p:cNvCxnSpPr>
          <p:nvPr/>
        </p:nvCxnSpPr>
        <p:spPr>
          <a:xfrm>
            <a:off x="4284720" y="649080"/>
            <a:ext cx="2952000" cy="61956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диация в медиц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Documents and Settings\Admin\Рабочий стол\Откр урок АЭС\лрез\pic27080251.jpg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684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диация используется в медицине в диагностических целях и для лечения. Одним из самых распространенных медицинских приборов является рентгеновский аппарат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диация в сельском хозяйст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Documents and Settings\Admin\Рабочий стол\Откр урок АЭС\лрез\1gm099_350a.jpg"/>
          <p:cNvPicPr/>
          <p:nvPr/>
        </p:nvPicPr>
        <p:blipFill>
          <a:blip r:embed="rId1"/>
          <a:stretch/>
        </p:blipFill>
        <p:spPr>
          <a:xfrm>
            <a:off x="642960" y="2071800"/>
            <a:ext cx="403848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я в области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иационной гене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иационной селек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али около сотни новых разновидностей  высокоурожайных культурных растений,  устойчивых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Мировыми лидерами в производстве ядерной электроэнергии являю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560" y="1557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1.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Ш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(836,63 млрд кВт·ч/год)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.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Франция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(439,73 млрд кВт·ч/год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Япония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(263,83 млрд кВт·ч/год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4.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Россия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(160,04 млрд кВт·ч/год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5.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Корея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(142,94 млрд кВт·ч/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6.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Германия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(140,53 млрд кВт·ч/год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6e0ec"/>
                </a:solidFill>
                <a:latin typeface="Calibri"/>
              </a:rPr>
              <a:t>АЭС Росс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C:\Documents and Settings\Неизвестный\Application Data\Microsoft\Media Catalog\АЭС 9.jpg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0" y="83664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32523"/>
                </a:solidFill>
                <a:latin typeface="Calibri"/>
              </a:rPr>
              <a:t>Ленинградская А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тастрофа в Японии 11.03.2011г. на «Фукусима1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Рабочий стол\Откр урок АЭС\лрез\964e2251558184332302aa29c725c0e9fokussssss.jpg"/>
          <p:cNvPicPr/>
          <p:nvPr/>
        </p:nvPicPr>
        <p:blipFill>
          <a:blip r:embed="rId1"/>
          <a:stretch/>
        </p:blipFill>
        <p:spPr>
          <a:xfrm>
            <a:off x="0" y="3176640"/>
            <a:ext cx="4497480" cy="298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Admin\Рабочий стол\Откр урок АЭС\лрез\185805823.jpg"/>
          <p:cNvPicPr/>
          <p:nvPr/>
        </p:nvPicPr>
        <p:blipFill>
          <a:blip r:embed="rId2"/>
          <a:stretch/>
        </p:blipFill>
        <p:spPr>
          <a:xfrm>
            <a:off x="4645080" y="3292560"/>
            <a:ext cx="449892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85840" y="-118080"/>
            <a:ext cx="864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ыми большими и мощными реакторами на нашей планете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кусима I и Фукусима II в Япони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4643280" y="1628640"/>
            <a:ext cx="41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ой разрушения АЭС послужили землятресение и цунами, обрушившиеся на Япо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0" y="247032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диац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Радиация в малых дозах может  встречать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в продуктах пит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в строительных материал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на деньг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в драгоценных и полудрагоценных камнях и минерала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в пластиковых изделия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dce6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e6f2"/>
                </a:solidFill>
                <a:latin typeface="Calibri"/>
              </a:rPr>
              <a:t>в красках, эмалях и люминесцентных покрыти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ce6f2"/>
                </a:solidFill>
                <a:latin typeface="Calibri"/>
              </a:rPr>
              <a:t>Зарождение жизни на Земле и ее последующая эволюция протекали в условиях постоянного воздействия ради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4" descr="q236976_215928_granite"/>
          <p:cNvPicPr/>
          <p:nvPr/>
        </p:nvPicPr>
        <p:blipFill>
          <a:blip r:embed="rId2"/>
          <a:stretch/>
        </p:blipFill>
        <p:spPr>
          <a:xfrm>
            <a:off x="611280" y="98100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2464"/>
          <p:cNvPicPr/>
          <p:nvPr/>
        </p:nvPicPr>
        <p:blipFill>
          <a:blip r:embed="rId3"/>
          <a:stretch/>
        </p:blipFill>
        <p:spPr>
          <a:xfrm>
            <a:off x="4932360" y="981000"/>
            <a:ext cx="33829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электроста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\Рабочий стол\Откр урок АЭС\лрез\104628729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167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427280" y="1125360"/>
            <a:ext cx="425916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Казалось бы, АЭС очень выгодные станции! Но вся беда в том, что в случае аварии их  радиоактивное топливо попадает в окружающую среду, вызывая смертельно опасную для человека лучевую болезнь и заражая местность на 300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раженную территорию обносят колючей проволокой, она становится непригодной для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428760" y="3786120"/>
            <a:ext cx="435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АЭС оказались небезопас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До Чернобыльской аварии самой тяжелой в ядерной энергетике считалась авария 1979 года  на американской АЭС Тримайл –Айленд близ г.Гаррисберга (штат Пельсинв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MG_3102"/>
          <p:cNvPicPr/>
          <p:nvPr/>
        </p:nvPicPr>
        <p:blipFill>
          <a:blip r:embed="rId2"/>
          <a:stretch/>
        </p:blipFill>
        <p:spPr>
          <a:xfrm>
            <a:off x="5429160" y="4500720"/>
            <a:ext cx="300060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Последствия Чернобыл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Admin\Рабочий стол\Откр урок АЭС\лрез\0_390d3_f6cb987_L.jpg"/>
          <p:cNvPicPr/>
          <p:nvPr/>
        </p:nvPicPr>
        <p:blipFill>
          <a:blip r:embed="rId1"/>
          <a:stretch/>
        </p:blipFill>
        <p:spPr>
          <a:xfrm>
            <a:off x="428760" y="2143080"/>
            <a:ext cx="4038480" cy="354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Documents and Settings\Admin\Рабочий стол\Откр урок АЭС\лрез\60462_0.jpg"/>
          <p:cNvPicPr/>
          <p:nvPr/>
        </p:nvPicPr>
        <p:blipFill>
          <a:blip r:embed="rId2"/>
          <a:stretch/>
        </p:blipFill>
        <p:spPr>
          <a:xfrm>
            <a:off x="4648320" y="2205000"/>
            <a:ext cx="4038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Горький след» Чернобыля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Documents and Settings\Admin\Рабочий стол\Откр урок АЭС\лрез\0000bkr3.jpg"/>
          <p:cNvPicPr/>
          <p:nvPr/>
        </p:nvPicPr>
        <p:blipFill>
          <a:blip r:embed="rId1"/>
          <a:stretch/>
        </p:blipFill>
        <p:spPr>
          <a:xfrm>
            <a:off x="285840" y="2643120"/>
            <a:ext cx="4038480" cy="3800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64832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Выпадение радиоактивных продуктов произошло во многих районах западной части Европейской территории СССР, на Кольском полуострове, на Кавк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Радиоактивные дожди выпали в Австрии, Германии, Италии, Норвегии, Швеции, Польше, Румынии и Финлянд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5000 случаев рака щитовидной железы у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j0293828"/>
          <p:cNvPicPr/>
          <p:nvPr/>
        </p:nvPicPr>
        <p:blipFill>
          <a:blip r:embed="rId2"/>
          <a:stretch/>
        </p:blipFill>
        <p:spPr>
          <a:xfrm>
            <a:off x="1500120" y="1643040"/>
            <a:ext cx="34560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Последствия воздействия ради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евая боле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тические му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ажения органов з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ажения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коренное старение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шение психического и умственного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ковые заболе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Admin\Рабочий стол\Откр урок АЭС\лрез\noid-2.jpg"/>
          <p:cNvPicPr/>
          <p:nvPr/>
        </p:nvPicPr>
        <p:blipFill>
          <a:blip r:embed="rId2"/>
          <a:stretch/>
        </p:blipFill>
        <p:spPr>
          <a:xfrm>
            <a:off x="5270400" y="1268280"/>
            <a:ext cx="32054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утешительный прогно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год 8 млн чел погибает от рака. К 2030г смертность увеличится на 4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точниками радиоактивного заражения могут стать и продукты питания и вода и возду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Admin\Рабочий стол\Откр урок АЭС\лрез\1234_1303393587.gif.jpg"/>
          <p:cNvPicPr/>
          <p:nvPr/>
        </p:nvPicPr>
        <p:blipFill>
          <a:blip r:embed="rId1"/>
          <a:stretch/>
        </p:blipFill>
        <p:spPr>
          <a:xfrm>
            <a:off x="457200" y="29224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Admin\Рабочий стол\Откр урок АЭС\лрез\prndr6911-1.jpg"/>
          <p:cNvPicPr/>
          <p:nvPr/>
        </p:nvPicPr>
        <p:blipFill>
          <a:blip r:embed="rId2"/>
          <a:stretch/>
        </p:blipFill>
        <p:spPr>
          <a:xfrm>
            <a:off x="4761000" y="30081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-217440"/>
          <a:ext cx="9036000" cy="7075440"/>
        </p:xfrm>
        <a:graphic>
          <a:graphicData uri="http://schemas.openxmlformats.org/drawingml/2006/table">
            <a:tbl>
              <a:tblPr/>
              <a:tblGrid>
                <a:gridCol w="817560"/>
                <a:gridCol w="3267000"/>
                <a:gridCol w="4951440"/>
              </a:tblGrid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«+»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Э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АЭ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е количество ядерного горюч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дерные станции могут представлять глобальную угроз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е  транспортные расх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арии на атомных станциях влекут за собой опасные экологические последствия на обширных территориях, затрагивая огромные массы люд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привязки к крупным рекам или месторожд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ючи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экологические следствия аварии на АЭС сохраняют свою остроту в течение очень длительного врем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 стоимость электроэнерг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е течения и вода распространяют радиоактивные выбросы на территории, весьма удаленные от АЭС( на ЧАЭС высота выбросов из аварийного блока достигла высоты 1200 м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ядерного топлива не сопровождается процессом горения и выбросом в атмосферу вредных веществ и парниковых газ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активное топливо попадает в окружающую среду, вызывая смертельно опасную для человека лучевую болезнь и заражая местность на 300 ле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егодняшний день в мире ведутся разработки подземных и плавучих АЭС и ядерных двигателей для космических летальных аппар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а захоронения радиоактивных отход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атистические да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040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орогах нашей страны в ДТП погибло 199 868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химическое загрязнение атмосферы умерло 40 000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сные условия труда на производстве – 5 000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з радон – 4 000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арии в промышленности -400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Автомобиль убивает людей… ,но мы же не отказываемся от него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Радиация – двулика, но чем больше мы будем о ней знать, тем больше благ для человечества она нам  предостав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1"/>
          <p:cNvSpPr/>
          <p:nvPr/>
        </p:nvSpPr>
        <p:spPr>
          <a:xfrm>
            <a:off x="35712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6b9b8"/>
                </a:solidFill>
                <a:latin typeface="Calibri"/>
              </a:rPr>
              <a:t>А. Эйнштей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0" y="1754280"/>
            <a:ext cx="60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6d9f1"/>
                </a:solidFill>
                <a:latin typeface="Calibri"/>
              </a:rPr>
              <a:t>«Обнаруженная сила урана угрожает цивилизации и людям не больше, чем когда мы зажигаем спичку. Дальнейшее развитие человечества зависит не от уровня технических достижений, а от его моральных принцип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Что такое радиаци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Слово радиация образовалось от латинского слова radiatio –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лучеиспуска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Это излучение (ионизирующее, радиоактивное) и распространение в виде потока элементарных частиц и квантов электромагнитного изл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900000" y="26028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ff"/>
                </a:solidFill>
                <a:latin typeface="Calibri"/>
              </a:rPr>
              <a:t>Радиоактив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0" y="25509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000"/>
                </a:solidFill>
                <a:latin typeface="Calibri"/>
              </a:rPr>
              <a:t>Радиоактивность – </a:t>
            </a:r>
            <a:r>
              <a:rPr b="0" lang="bg-BG" sz="3200" spc="-1" strike="noStrike">
                <a:solidFill>
                  <a:srgbClr val="ffc000"/>
                </a:solidFill>
                <a:latin typeface="Calibri"/>
              </a:rPr>
              <a:t>способность некоторых атомных ядер самопроизвольно (спонтанно) превращаться в другие ядра с испусканием различных видов радиоактивных излучений и элементарных част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5280" y="14130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32523"/>
                </a:solidFill>
                <a:latin typeface="Calibri"/>
              </a:rPr>
              <a:t>Радиоактивность подразделяют на </a:t>
            </a:r>
            <a:r>
              <a:rPr b="1" i="1" lang="bg-BG" sz="3600" spc="-1" strike="noStrike">
                <a:solidFill>
                  <a:srgbClr val="632523"/>
                </a:solidFill>
                <a:latin typeface="Calibri"/>
              </a:rPr>
              <a:t>естественную </a:t>
            </a:r>
            <a:r>
              <a:rPr b="0" lang="bg-BG" sz="3600" spc="-1" strike="noStrike">
                <a:solidFill>
                  <a:srgbClr val="632523"/>
                </a:solidFill>
                <a:latin typeface="Calibri"/>
              </a:rPr>
              <a:t>(наблюдается у неустойчивых изотопов, существующих в природе) и </a:t>
            </a:r>
            <a:r>
              <a:rPr b="1" i="1" lang="bg-BG" sz="3600" spc="-1" strike="noStrike">
                <a:solidFill>
                  <a:srgbClr val="632523"/>
                </a:solidFill>
                <a:latin typeface="Calibri"/>
              </a:rPr>
              <a:t>искусственную </a:t>
            </a:r>
            <a:r>
              <a:rPr b="0" lang="bg-BG" sz="3600" spc="-1" strike="noStrike">
                <a:solidFill>
                  <a:srgbClr val="632523"/>
                </a:solidFill>
                <a:latin typeface="Calibri"/>
              </a:rPr>
              <a:t>(наблюдается у изотопов, полученных посредством ядерных реакц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Источники ради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Естественн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Космические , солнечные лу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Газ рад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Радиоактивные изотопы в горных породах (уран 238,торий 232,калий 40, рубидий 87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Внутреннее облучение человека за счёт радионуклидов ( с водой и пищ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Созданные человек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Медицинские процедуры и методы ле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Атомная энергет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Ядерные взрыв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Мусорные свал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Строительные материа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Сжигаемое топли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Телевизоры, компьютеры и другая бытовая тех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Антиквари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Bang Boom He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0"/>
            <a:ext cx="91440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2dcdb"/>
                </a:solidFill>
                <a:latin typeface="Calibri"/>
              </a:rPr>
              <a:t>Радиоактивное излучение разделяют на три ти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32523"/>
                </a:solidFill>
                <a:latin typeface="Calibri"/>
              </a:rPr>
              <a:t>a-излучение</a:t>
            </a:r>
            <a:r>
              <a:rPr b="0" i="1" lang="bg-BG" sz="24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f2dcdb"/>
                </a:solidFill>
                <a:latin typeface="Calibri"/>
              </a:rPr>
              <a:t>– отклоняется электрическим и магнитными полями, обладает высокой ионизирующей способностью и малой проникающей способностью; представляет собой поток ядер г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32523"/>
                </a:solidFill>
                <a:latin typeface="Calibri"/>
              </a:rPr>
              <a:t>b-излучение</a:t>
            </a:r>
            <a:r>
              <a:rPr b="0" i="1" lang="bg-BG" sz="28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f2dcdb"/>
                </a:solidFill>
                <a:latin typeface="Calibri"/>
              </a:rPr>
              <a:t>– отклоняется электрическим и магнитным полями; его ионизирующая способность значительно меньше (приблизительно на два порядка), а проникающая способность гораздо больше, чем у a-частиц; представляет собой поток быстрых элект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32523"/>
                </a:solidFill>
                <a:latin typeface="Calibri"/>
              </a:rPr>
              <a:t>g-излучение</a:t>
            </a:r>
            <a:r>
              <a:rPr b="0" i="1" lang="bg-BG" sz="24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f2dcdb"/>
                </a:solidFill>
                <a:latin typeface="Calibri"/>
              </a:rPr>
              <a:t>– не отклоняется электрическим и магнитными полями, обладает относительно слабой ионизирующей способностью и очень большой проникающей способностью; представляет собой коротковолновое электромагнитное излучение с чрезвычайно малой длиной волн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59:52Z</dcterms:created>
  <dc:creator>Сережа</dc:creator>
  <dc:description/>
  <dc:language>en-US</dc:language>
  <cp:lastModifiedBy>Сережа</cp:lastModifiedBy>
  <dcterms:modified xsi:type="dcterms:W3CDTF">2013-01-11T17:14:40Z</dcterms:modified>
  <cp:revision>14</cp:revision>
  <dc:subject/>
  <dc:title>Слайд 1</dc:title>
</cp:coreProperties>
</file>