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8.jpeg" ContentType="image/jpeg"/>
  <Override PartName="/ppt/media/image10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064F-AB6C-49C2-AFA8-4C19A0FBFD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0DF3-D687-4E45-A21A-CAC7462C52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F2DF-FF8A-424C-A9EA-62BCAFFBF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E605-8C4C-4FAC-A5B9-5A7A49EE4C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BC4D-2621-4564-A1A7-E69207CC1B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5445-13E5-48D5-9B94-ADFF256EF0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8A7C-A0D7-44D7-8652-357E79A3D1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71B-06CD-478B-9097-80F87279E0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F971-D7F7-4D66-ACC7-487D032A59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663E-7F0F-414F-971B-21C775A38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B5C2-06ED-42B8-AEB6-E0E6FD2F72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4906-171F-44DA-922B-6368548C70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65D4-03BE-4B74-8EA1-E601EB58DC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3FCC-E85F-449E-B5AE-B5E40653FC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DC01-2E71-4FAD-8E14-ACA441E436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01E-8305-4FA2-97EF-72B655D5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BDA-4161-426B-93DF-A3CE8DBB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8D3-1F39-4A08-AC58-6168BE82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B46-6904-4F4C-A4FB-6BC04CB1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AD9-C1AA-4E96-94FF-A93808C0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93A-046C-4BAF-B4D7-BF793A8C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0A5-2209-427F-BFBF-319EDD83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F23-1AA6-464C-A3A7-CBDC35D9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8F7-D522-466B-85EC-144B32E7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E3A-B160-4D1A-998B-86BBEED7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67C-2461-4BF1-ACE5-E0E127D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CA2-9BF9-4D12-9A18-8186A48C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8799-D71A-47A1-80B5-C06A9DC37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EC2F-29FE-4175-B227-9C30DE32F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rukoyatka.ru/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Рисуем солныш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938320" y="3395520"/>
            <a:ext cx="3340080" cy="277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un_playing_with_beach_ball_md_clr"/>
          <p:cNvPicPr/>
          <p:nvPr/>
        </p:nvPicPr>
        <p:blipFill>
          <a:blip r:embed="rId3"/>
          <a:stretch/>
        </p:blipFill>
        <p:spPr>
          <a:xfrm>
            <a:off x="3276720" y="46080"/>
            <a:ext cx="2303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источка, - обратился дедушка к внучке - а ты пока узнай у наших маленьких друзей - какого цвета солнышк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уроки рисования детям"/>
          <p:cNvPicPr/>
          <p:nvPr/>
        </p:nvPicPr>
        <p:blipFill>
          <a:blip r:embed="rId2"/>
          <a:stretch/>
        </p:blipFill>
        <p:spPr>
          <a:xfrm>
            <a:off x="179280" y="1628640"/>
            <a:ext cx="4824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268280"/>
            <a:ext cx="4387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Теперь настала твоя очередь Кисточка браться за работу, - проговорил Альбом Рассказович. Карандашик свою часть сделал, нарисовал круг. Теперь тебе внучка предстоит закрасить этот круг тем цветом который ты выбрала. Каким цветом ты закрасишь наш круг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Желтым дедуля,- ответила Кисточка, - так как солнышко — желто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олодец- похвалил дедушка- тогда аккуратно закрашивай наш круг, только так, чтобы не попасть за края карандаш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уроки рисования детям"/>
          <p:cNvPicPr/>
          <p:nvPr/>
        </p:nvPicPr>
        <p:blipFill>
          <a:blip r:embed="rId2"/>
          <a:stretch/>
        </p:blipFill>
        <p:spPr>
          <a:xfrm>
            <a:off x="0" y="1484280"/>
            <a:ext cx="5003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316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вольный Альбом Рассказович, увидев готовый закрашенный кружок продолж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еперь, Кисточка, нужно сделать лучики солнышку, т.к. без лучиков солнышко не сможет нас согре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нь у края кружка, - сказал дедушка Кисточке, - и аккуратно отходи назад от кружка, оставляя за собой желтую полосочку. И таким образом нарисуешь много лучиков у солнышка. Кисточка так и сделала, нарисовав много лучиков -полосочек отходящих от солнышка в разные стороны. А еще, т.к. Фотошопия сказочная страна, кисточка нарисовала солнышку глазки и ротик, чтобы солнышко могло улыбаться всем жителям фотошоп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рисунки рисования детям"/>
          <p:cNvPicPr/>
          <p:nvPr/>
        </p:nvPicPr>
        <p:blipFill>
          <a:blip r:embed="rId2"/>
          <a:stretch/>
        </p:blipFill>
        <p:spPr>
          <a:xfrm>
            <a:off x="108000" y="1844640"/>
            <a:ext cx="482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язюка, почему ты спрятала солнышко за тучками?- посетовал дедул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ик с кисточкой так весело играл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меня даже не пригласили к себе, и я хотела им помешать играть дальше, - всплакнула Грязю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Грязюка, мы даже не знали, что ты хочешь с нами играть- удивился Карандашик, - тебе нужно было просто к нам подойти и присоединиться к нам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да?-воскликнула Грязю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 вы станете со мной играт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у конечно, - ответила Кисточка, - так же веселее буд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вот видишь, Грязюка, - произнес Альбом Рассказович, - оказывается не стоит ждать, когда для тебя что-то сделают другие, а лучше сделать это самому и для себя и для других. А пакости в итоге никому радости не принося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Рисуем солнышко"/>
          <p:cNvPicPr/>
          <p:nvPr/>
        </p:nvPicPr>
        <p:blipFill>
          <a:blip r:embed="rId2"/>
          <a:stretch/>
        </p:blipFill>
        <p:spPr>
          <a:xfrm>
            <a:off x="108000" y="1341360"/>
            <a:ext cx="482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Хорошее солнышко получилос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2798640" y="2889360"/>
            <a:ext cx="3340080" cy="2786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79280" y="595008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В презентации использовались материалы сайта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Rukoyatka.ru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allday.ru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un_playing_with_beach_ball_md_clr"/>
          <p:cNvPicPr/>
          <p:nvPr/>
        </p:nvPicPr>
        <p:blipFill>
          <a:blip r:embed="rId4"/>
          <a:stretch/>
        </p:blipFill>
        <p:spPr>
          <a:xfrm>
            <a:off x="7361280" y="214200"/>
            <a:ext cx="1782720" cy="231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sun_playing_with_beach_ball_md_clr"/>
          <p:cNvPicPr/>
          <p:nvPr/>
        </p:nvPicPr>
        <p:blipFill>
          <a:blip r:embed="rId5"/>
          <a:stretch/>
        </p:blipFill>
        <p:spPr>
          <a:xfrm>
            <a:off x="-142920" y="214200"/>
            <a:ext cx="1782720" cy="231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sun_playing_with_beach_ball_md_clr"/>
          <p:cNvPicPr/>
          <p:nvPr/>
        </p:nvPicPr>
        <p:blipFill>
          <a:blip r:embed="rId6"/>
          <a:stretch/>
        </p:blipFill>
        <p:spPr>
          <a:xfrm>
            <a:off x="7361280" y="3643200"/>
            <a:ext cx="1782720" cy="231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sun_playing_with_beach_ball_md_clr"/>
          <p:cNvPicPr/>
          <p:nvPr/>
        </p:nvPicPr>
        <p:blipFill>
          <a:blip r:embed="rId7"/>
          <a:stretch/>
        </p:blipFill>
        <p:spPr>
          <a:xfrm>
            <a:off x="0" y="3714840"/>
            <a:ext cx="1782720" cy="2317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1500120" y="5572080"/>
            <a:ext cx="6265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1285920" y="25002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резентацию подготовила учитель:</a:t>
            </a:r>
            <a:r>
              <a:rPr b="1" lang="en-US" sz="18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Шарапова В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Воспитывать эстетический интерес к предмету, вообра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Учить соблюдать алгоритм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Учить пользоваться кистями, красками и карандашами, правильно использовать положение листа, его раз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Учить аккуратности, добросовестному отношению к раб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6E01-C9AE-44D4-AE3F-A5607D8315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5"/>
          <p:cNvSpPr/>
          <p:nvPr/>
        </p:nvSpPr>
        <p:spPr>
          <a:xfrm>
            <a:off x="1873080" y="628488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9D37-5009-47CD-A363-DBF724CDA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Краски, кисти, карандаши, пастель"/>
          <p:cNvPicPr/>
          <p:nvPr/>
        </p:nvPicPr>
        <p:blipFill>
          <a:blip r:embed="rId2"/>
          <a:stretch/>
        </p:blipFill>
        <p:spPr>
          <a:xfrm>
            <a:off x="2340000" y="3645000"/>
            <a:ext cx="4762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Arial"/>
              </a:rPr>
              <a:t>Оборудование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ст бумаги для рис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Краски, кисти, карандаши, палит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Краски, кисти, карандаши, пастель"/>
          <p:cNvPicPr/>
          <p:nvPr/>
        </p:nvPicPr>
        <p:blipFill>
          <a:blip r:embed="rId2"/>
          <a:stretch/>
        </p:blipFill>
        <p:spPr>
          <a:xfrm>
            <a:off x="108000" y="2997360"/>
            <a:ext cx="476244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Краски, кисти, карандаши, пастель"/>
          <p:cNvPicPr/>
          <p:nvPr/>
        </p:nvPicPr>
        <p:blipFill>
          <a:blip r:embed="rId3"/>
          <a:stretch/>
        </p:blipFill>
        <p:spPr>
          <a:xfrm>
            <a:off x="4859280" y="2997360"/>
            <a:ext cx="428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Arial"/>
              </a:rPr>
              <a:t>Правила безопасного пове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1.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Приготовь рабочее мес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Во время работы держи е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в порядке. Убери рабоче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место быстро и аккуратно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конце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думай, как сдел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у лучше. Рисун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жны быть крупными 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те бумаг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3.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Береги инструменты д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рис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крутись с кистям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ами в ру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5.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Чтобы предметы не пада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Со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стола, убирай краск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Карандаши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в короб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ходи к товарищу во время работ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мешай ему работ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7.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Главное правило: «РАБОТАЙТЕ  ДРУЖНО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br>
              <a:rPr sz="3600"/>
            </a:b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Алгоритм выполнения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3876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Это был очередной солнечный день в стране Фотошопия, что конечно радовало всех жителе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за исключением одног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Грязюка недовольно смотре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 Карандашика с Кисточкой, весело играющих со своим песиком-Ластиком. Ей не с кем было поигр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«Если я не играю, то и никто не будет играть» - проворчала Грязюка и отправилась к себе в домик, замыслив явно что-то не хороше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alt"/>
          <p:cNvPicPr/>
          <p:nvPr/>
        </p:nvPicPr>
        <p:blipFill>
          <a:blip r:embed="rId2"/>
          <a:stretch/>
        </p:blipFill>
        <p:spPr>
          <a:xfrm>
            <a:off x="0" y="1557360"/>
            <a:ext cx="5003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316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 бабули Грязюке досталась книжка «Вредные советы», в которой она стала искать то, что могло бы помочь осуществить ее коварные пла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Нашла-воскликнула Грязюка и радостно выбежала из домика, прихватив с собой ведерко с краской. Для осущест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воих планов Грязюка направилась на солнечную полянку, где ни о чем не подозревая, играли Карандаш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 Кисточкой и Ластик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alt"/>
          <p:cNvPicPr/>
          <p:nvPr/>
        </p:nvPicPr>
        <p:blipFill>
          <a:blip r:embed="rId2"/>
          <a:stretch/>
        </p:blipFill>
        <p:spPr>
          <a:xfrm>
            <a:off x="0" y="1557360"/>
            <a:ext cx="49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4956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арандашик с Кисточкой и Ластиком так весело играли что даже вначале не заметили как небо покрылось тучами и стало темно тем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Что случилось? — воскликнула Кисточка,-куда исчезло солнышко?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Не знаю,-беспокойно ответил Карандашик и погладил по шерстке испуганного Ластика, - пойдем к дедушке и все выясни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 наши ребята отправились к своему дедушке, который уж точно мог знать почему и куда пропало солнышко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alt"/>
          <p:cNvPicPr/>
          <p:nvPr/>
        </p:nvPicPr>
        <p:blipFill>
          <a:blip r:embed="rId2"/>
          <a:stretch/>
        </p:blipFill>
        <p:spPr>
          <a:xfrm>
            <a:off x="0" y="1484280"/>
            <a:ext cx="5003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268280"/>
            <a:ext cx="4316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Дедушка Альбом Рассказович отдыхал у себя в домике перед камином, когда к нему прибежали вну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Дедушка, дедушка, солнышко пропало,- в один голос воскликнули Карандашик с Кисточкой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Хч. как пропало? - удивился деду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Вначале оно было, а теперь на улице темно и холодно, - торопливо ответил Карандаши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 мы не можем продолжать играть,- добавила Кисточ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Хм, -пригладив усы, усмехнулся дедушка,- кажется я знаю в чем дело и кто в этом винова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то? - спросили вну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Грязюка, -ответил дедушка, - Она как и ее бубаля спрятала солнышко под тучкам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alt"/>
          <p:cNvPicPr/>
          <p:nvPr/>
        </p:nvPicPr>
        <p:blipFill>
          <a:blip r:embed="rId2"/>
          <a:stretch/>
        </p:blipFill>
        <p:spPr>
          <a:xfrm>
            <a:off x="0" y="1341360"/>
            <a:ext cx="50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Сказка о солныш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Чтобы фотошопия снова обрела солнышко, нам нужно его нарисовать. Первым делом ты Карандашик, - начал дедушка, - должен нарисовать круг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оставим наш карандашик на лист бумаги и не отрывая кончик карандаша от листа аккуратно рисуем линию, которая постоянно поворачивается. В итоге линия закончится там, откуда началась и у вас получится КРУГ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е получается сразу ровно? Так и должно быть. Ни у кого не получится сразу. Но если Вы будете стараться и рисовать КРУГ постоянно — он вскоре получится ровным и красивы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ожно взять круглый предмет ( например чашку пластмассовую) и обводить ее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урок рисования для детей"/>
          <p:cNvPicPr/>
          <p:nvPr/>
        </p:nvPicPr>
        <p:blipFill>
          <a:blip r:embed="rId2"/>
          <a:stretch/>
        </p:blipFill>
        <p:spPr>
          <a:xfrm>
            <a:off x="468360" y="1413000"/>
            <a:ext cx="4244760" cy="431964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900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9:05:15Z</dcterms:created>
  <dc:creator>xxx</dc:creator>
  <dc:description>http://aida.ucoz.ru</dc:description>
  <dc:language>en-US</dc:language>
  <cp:lastModifiedBy>Zver</cp:lastModifiedBy>
  <dcterms:modified xsi:type="dcterms:W3CDTF">2002-12-31T22:56:26Z</dcterms:modified>
  <cp:revision>3</cp:revision>
  <dc:subject/>
  <dc:title>Рисуем солнышко</dc:title>
</cp:coreProperties>
</file>