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jpeg" ContentType="image/jpeg"/>
  <Override PartName="/ppt/media/image8.png" ContentType="image/png"/>
  <Override PartName="/ppt/media/chimes.wav" ContentType="audio/x-wav"/>
  <Override PartName="/ppt/media/wind.wav" ContentType="audio/x-wav"/>
  <Override PartName="/ppt/media/image16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wmf" ContentType="image/x-wmf"/>
  <Override PartName="/ppt/media/image2.jpeg" ContentType="image/jpeg"/>
  <Override PartName="/ppt/media/image23.jpeg" ContentType="image/jpeg"/>
  <Override PartName="/ppt/media/image19.gif" ContentType="image/gif"/>
  <Override PartName="/ppt/media/image5.png" ContentType="image/png"/>
  <Override PartName="/ppt/media/image22.png" ContentType="image/png"/>
  <Override PartName="/ppt/media/image21.jpeg" ContentType="image/jpeg"/>
  <Override PartName="/ppt/media/image10.png" ContentType="image/png"/>
  <Override PartName="/ppt/media/applause.wav" ContentType="audio/x-wav"/>
  <Override PartName="/ppt/media/image20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0159-A9DE-4EAA-9647-33ED3979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FBF4-AA02-4F93-9986-9E27D85C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B260A-91D8-408E-BD57-7A6731A3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32CB6-08F1-4EE0-9B5E-4F997933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83D0E-1671-4162-ADE1-42082F09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315ED-2510-43FF-9697-F40C6ACB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61849-BCAC-4F78-AA7A-9DD717CE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677D2-A3D4-4B33-A055-F2412BB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D10EF-883B-44FA-A8B5-E212D484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2A8D6-95EE-4B38-A0D4-AA1B6092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E4696-4118-4918-9958-FD47089E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7F027C-0D0C-4078-8449-7BA68972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57C9-3C1C-43D3-9FAE-03FA11DE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419BF4-4330-4722-828D-26C15D62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E6D889-EE60-40A1-8F95-F0131A96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3B54A8-5814-4D28-95AD-B3307F82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498A91-9289-466B-A1C2-0FBD0E02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F9198A-C3B3-42B8-AA19-6AFE1BEC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60D1B4-8388-4CAF-AE69-3D67055C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86AC07-1270-4A2B-9C2E-0DB6390C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924C3E-861D-4427-8DAC-8A190BB9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888087-0C6C-4571-988A-4C25D1F9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004EC6-DE17-47EA-BC8D-7269B3B3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70E6-49EB-46C2-8AAC-A01629CB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C577B7-AA12-48B8-8B1D-E2FA10B7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C25B0-AA01-4FC9-842D-3B946E52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25B71-9C41-4383-9C02-1886265A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6A2F4-071A-4EB4-8D6E-9F9C02F3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50D8C-FA7B-4A61-B3BC-6A734A02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43531-D9E4-4C69-89B4-1465E376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01A43-686A-4614-9045-F26B399C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72A16-442F-401E-8ABE-D28A5E4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9CAA8-505C-4FDB-90FF-6BBE34D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8F206-5AB0-4809-8B50-65884C2B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3327-CBEF-45A5-A82B-C0B39CE0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65A68-A25C-4865-8D83-ED6E360F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2BD06-4B5D-4835-B0E9-AD8CAF0D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0A8FC-4A66-48AF-A4B8-C46E2F4C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48098-2B67-4656-B948-C6B01A0D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6CE0B-D158-49E4-B227-4E35F784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23DD6-6377-4D69-A58B-4F4FDB50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B4D60-43E3-4A33-94B5-7127A4E2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AF896-B8F3-4DC9-A1D8-7DA655B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40B01-0990-491B-B810-CC619654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12F3C-A071-47F4-92B5-5A920AB3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1947-600C-4113-B96F-D2D984AC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22683-7465-4D4F-A2D7-33627372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49958-2D63-4A2E-BCEB-3B560A57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E14A0-DD30-4269-85DC-3753D81F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534DB-BE0A-4355-8CF8-59A8DC0A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884FC-1471-47BE-B2E1-04D07B7F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A566F-5764-4B18-B7B9-54233E2E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90C5D-2B39-4A37-B5F5-B979D0C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C5517-0256-43D3-877C-423D50B9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37034-98B4-4C87-8F17-71E0317F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70659-26BE-4756-80D9-B87D0DA0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E5E9-CB51-4983-AAAF-7803DE22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943F7-9750-43CF-BF97-C6797D07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CFFD2-95B9-49E4-B6D4-F19AA7CF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45EA2-4950-4F25-85CB-CD97693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D9A51-68B0-4270-8E5B-BE2E4A4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F76C2-A8F0-4F90-BD62-DE018023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BF05F-3081-4F6C-920E-D6A45EA8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ECA11-9FE2-4982-AACD-E9033916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9CBF9-CC27-4528-A7A8-47575C60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CB0CF-B432-4D61-A379-6620900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C45A6-6C0A-4E59-8B8E-89659460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C75-42BD-4603-AC2A-C6C92DFC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92003-5F19-452B-9B4D-13FA01A4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F45EA-B33A-45C7-8080-465213C5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1ACBC-2AB8-4192-A7C4-235EBB43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8E5EE-C8C3-41E2-AEA3-F8403D5B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ADDBF-DEF9-4C1B-A28B-0BBDC985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92343-599B-43AC-ABD4-8A787B8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2DFDB-6C69-4BEB-8B38-E1B012CA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13BD8-F762-4611-9BD6-58CC1ABB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A0EDD-14BA-439F-866E-18DEA7F1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5BC68-6263-4855-9893-ADB59C54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9689-F6AE-4CAD-82A6-2451CAD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4C83E-11EE-433D-B877-2D967212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9B19F-7D01-4A5C-8963-52AFFE48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772BA-5E87-4A94-85E8-3C24C3C2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1D6E0-63A6-4E57-91C4-129A6508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23DE8-AC61-4613-98AA-2B04544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53C84-A5C3-4741-9310-445F7DF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6D2EB-D984-4CA0-A71C-22A69A31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06B0C-B848-4BB9-882D-855E26A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795D7-340A-44D3-9409-959A1E60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7910F-22AB-42CC-9E41-90190715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BF76-07B2-4BF8-88D6-955D3197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FC5B7-16E1-44A9-8EEA-0B7909E0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DEFF-6B8E-4534-A5EE-03B93C11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5284-86F1-44C2-925A-10C00B5B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AD06-96C1-4F9E-864D-4B3CAC5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0EB2-29BF-42F7-8ED5-E6C48C67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4DF6-7414-4A0C-A1EA-5C316141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27B7-8761-4133-BB3A-4DE8F2AF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0C23-D1CA-4CF0-B9C5-FF0CB88B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931A-4006-493F-9468-BE115FB7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169D-BD13-440B-9338-C35C97D6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C8B2-3F7E-4B04-B68C-541A48CA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BA7E-304D-4050-BE2F-F818B64C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B8E0E-2DB8-446F-8513-DDC7A856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2316-AA00-4D5F-A9FD-D4C1D71F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5373-B937-478F-937D-9CE8EF6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43F5-C4F7-4D05-B39A-B526DE0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1C265-A639-46FA-B2CD-1286E1C7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C99E-CA3C-4654-898D-7D3F404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57CA-C25A-4FC0-8A96-7A49E89E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41C1-2ADD-4730-9D02-6D9A7C03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E840-F0CF-498E-825E-EAA1EBA3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DC4C6-FCBB-4A84-B9AE-49241E6C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2721C-E082-483A-9602-E2D66C90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FEA5-8593-431B-A8BF-217F185C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E136-56BC-4F04-9B2A-DE345394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0E46-D952-40D7-BACE-96DEA87C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D443-BC21-4090-875A-51BDE1B2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BD57-2AC9-40A4-A3B8-DDCB45B7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1FD0-028C-4EF5-B019-7FD91E04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359FE-3530-4AA2-B8F0-F4E9FFD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15D9-9062-4D2A-9D5B-425B3490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C9E29-3A63-4A80-9616-8C497BEB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E6AC0-CA44-4D40-8AF7-999CC8F7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50FA-9BD0-4200-9C44-45EB2B79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305B-B73C-475A-B10C-D3736278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B845-A11E-4181-9002-47B5E5A1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C5835-DA39-4EA3-8A96-938DC31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A431-C83C-4547-BE18-DBE07BB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DD0C4-AA67-4810-AF94-32B3A97E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8170-61A8-4ACD-96D8-B49EC09B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01651-9F1C-48C8-BB53-4DE94033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F4B4A-E90D-4044-8BCB-E3D1231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7139B-A9DC-426C-A6F8-58DC8F4C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A40D3-81F3-4F36-AC65-0D231ACF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31D0A-3585-484A-A6D6-2D9544E0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AF91B-91BC-4F5D-AD24-D796FDB5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C745-A658-46C9-A780-5303116B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B33B-C46C-4FE9-9A15-5C158D29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3FED-9564-482D-8E1B-4126FE4B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DE559-86C6-4D3B-BA3C-BF03D5EE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CE23-BB12-4FC4-A6F0-31D2EB5F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F5B2F-96BC-4863-87F8-BFE6D850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1098A-1C8B-4FA4-A42D-11C8C2FA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AC07-79AF-4250-A0D5-985610E4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FAE55-0926-4BBE-9587-806D6296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6130D-6B70-443D-9A24-2B7F35B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EF19-DE2D-45A4-B3A9-B3B9692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5884-243A-43E7-925D-E2843C9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58B1C-8582-43D0-B406-B044C9A1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CEB7-E2EC-4114-B4A4-C758A218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9BB01-BAB6-436D-AA18-66976F35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87330-B812-4814-912F-6CE3F43A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CAA93-BD86-4DD5-BD64-C2047B9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4AA54-4565-43BB-99C3-6AC2864A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7FFA9-DE21-40CD-B014-5E3DB24D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AD20-F70B-4CAF-ADE3-75190B17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7097-27DE-45FE-AC62-5EA525FB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76876-FA15-4F75-A033-492BD18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0EC4-EFAF-49EC-AC9C-F3362BA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BC28-6101-4C06-8FF7-30325D1E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7171-2119-4BDC-9FE9-FD929879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A24E-B388-42A9-8382-8BF7E327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5AF1-AA1B-44EA-926F-DEA30E39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4DAAC-9D5E-49E1-84FB-940CB2A5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C0D08D-DDF6-40E1-A891-167F5A95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9541AF-4817-42D6-950C-89DFF2C4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BD376A-6429-4FCA-AE25-F3CDFAD6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C80663-08D7-46C1-9EC4-CA6A61E8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DD8731-31B6-4800-9FA8-BF2E4BAF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9B42-A5EB-4B7C-AF38-70DB627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3C987-A599-4488-971D-D1CFB2F7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79A63-DA32-45BC-8952-670765A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260F14-DAF6-4F2B-8CB2-5290F3C0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388EB-4B2A-498F-A5A3-15888AFC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EE0C9-F929-4E68-A043-4363B79E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9636F2-86AE-4D8C-97FB-29B52A37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3B3F13-FD42-4052-9C58-1A17681F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63931-03C5-47AD-A422-7CDEFEBF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A88AB-4C24-4018-B313-19867EE2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42D9E-5A4F-4FD1-B1E4-F6C01FE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CEAE-4172-42C0-A602-BEDB23726CD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C63C-BB6A-4858-A1BF-CA08D8586B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8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A978-39E7-4067-941D-A4741ED4A5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3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4EF8-CA7C-4708-BABA-91190054F5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8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8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8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8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8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9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0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0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2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F6EF-203F-42A0-BE8D-F9B2F48329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8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88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8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8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9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9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0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0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0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0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1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1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1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2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2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2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3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3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3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4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4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5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5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5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5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6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6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6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7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7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7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8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8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98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98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9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859B-D29E-48CE-BD2E-3E2DDB72C2FF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3D9C-8C73-4EFD-BBC3-1F035B6F58E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7960-25E4-43E4-ABDC-649BF1498B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F9C-03BC-48C6-8B7B-A8FF8EB0D8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504E-9F1B-43FB-9492-9447F9BC07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FA8-B39F-4054-A861-D916A0882D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4DA-7A6D-4C7E-8313-D793CAA83A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E6D2-E87A-4BCD-99B4-727596D800F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0A74-517D-4C1A-AF30-898EE1B2AA2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8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6768-6234-4F9C-8B73-CA740B168DF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hyperlink" Target="http://www.mamusik.ru/upload/userimages/vwhoqovefkaxspxtxqqso.png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Comic Sans MS"/>
              </a:rPr>
              <a:t>Закрепление и повторение изученного</a:t>
            </a:r>
            <a:br>
              <a:rPr sz="6000"/>
            </a:br>
            <a:br>
              <a:rPr sz="6000"/>
            </a:br>
            <a:br>
              <a:rPr sz="3800"/>
            </a:b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(урок-сказка в 4 классе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1371600" y="5298120"/>
            <a:ext cx="6400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4"/>
          <p:cNvSpPr/>
          <p:nvPr/>
        </p:nvSpPr>
        <p:spPr>
          <a:xfrm>
            <a:off x="250920" y="836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2f1311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изведение чисел 700 и 500 уменьшить в 100 раз.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7885080" y="83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3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6"/>
          <p:cNvSpPr/>
          <p:nvPr/>
        </p:nvSpPr>
        <p:spPr>
          <a:xfrm>
            <a:off x="250920" y="18446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) Разность чисел 63 и 27 умножить на 3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 Box 7"/>
          <p:cNvSpPr/>
          <p:nvPr/>
        </p:nvSpPr>
        <p:spPr>
          <a:xfrm>
            <a:off x="8028000" y="1844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10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Text Box 8"/>
          <p:cNvSpPr/>
          <p:nvPr/>
        </p:nvSpPr>
        <p:spPr>
          <a:xfrm>
            <a:off x="250920" y="278136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) Сумму чисел 44 и 26 увеличить в 70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 Box 9"/>
          <p:cNvSpPr/>
          <p:nvPr/>
        </p:nvSpPr>
        <p:spPr>
          <a:xfrm>
            <a:off x="7812000" y="2781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4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Text Box 10"/>
          <p:cNvSpPr/>
          <p:nvPr/>
        </p:nvSpPr>
        <p:spPr>
          <a:xfrm>
            <a:off x="250920" y="270828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 Box 11"/>
          <p:cNvSpPr/>
          <p:nvPr/>
        </p:nvSpPr>
        <p:spPr>
          <a:xfrm>
            <a:off x="179280" y="37162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4)Число 6300 разделить на произведение чисел 35и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8028000" y="364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 Box 13"/>
          <p:cNvSpPr/>
          <p:nvPr/>
        </p:nvSpPr>
        <p:spPr>
          <a:xfrm>
            <a:off x="0" y="465300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5) Из числа 3600 вычесть произведение чисел 40 и 9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Text Box 14"/>
          <p:cNvSpPr/>
          <p:nvPr/>
        </p:nvSpPr>
        <p:spPr>
          <a:xfrm>
            <a:off x="8101080" y="3573360"/>
            <a:ext cx="10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Text Box 15"/>
          <p:cNvSpPr/>
          <p:nvPr/>
        </p:nvSpPr>
        <p:spPr>
          <a:xfrm>
            <a:off x="8172360" y="4653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570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5ffff"/>
                </a:solidFill>
                <a:latin typeface="Times New Roman"/>
              </a:rPr>
              <a:t>Юферева Ирина Николаевна, учитель начальных классов МОУ Нечкинская СОШ Сарапульский район УР</a:t>
            </a:r>
            <a:endParaRPr b="0" lang="en-US" sz="1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ru-RU" sz="2800" spc="-1" strike="noStrike">
                <a:solidFill>
                  <a:srgbClr val="336699"/>
                </a:solidFill>
                <a:latin typeface="Times New Roman"/>
              </a:rPr>
              <a:t>Соедини фигуры по их признак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Противоположные сторо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рав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Все углы прям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Состоит из четырёх отрез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Имеет три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Нет ни начала, ни ко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Имеет три уг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Все стороны рав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Состоит из трёх отрез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Является частью пря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6659640" y="1773360"/>
            <a:ext cx="136836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AutoShape 8"/>
          <p:cNvSpPr/>
          <p:nvPr/>
        </p:nvSpPr>
        <p:spPr>
          <a:xfrm>
            <a:off x="6732720" y="2637000"/>
            <a:ext cx="1296720" cy="86508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Line 9"/>
          <p:cNvSpPr/>
          <p:nvPr/>
        </p:nvSpPr>
        <p:spPr>
          <a:xfrm>
            <a:off x="6732720" y="4149720"/>
            <a:ext cx="143964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6877080" y="4581360"/>
            <a:ext cx="100800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Line 11"/>
          <p:cNvSpPr/>
          <p:nvPr/>
        </p:nvSpPr>
        <p:spPr>
          <a:xfrm>
            <a:off x="6877080" y="6165720"/>
            <a:ext cx="136836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Line 12"/>
          <p:cNvSpPr/>
          <p:nvPr/>
        </p:nvSpPr>
        <p:spPr>
          <a:xfrm>
            <a:off x="6877080" y="6021360"/>
            <a:ext cx="0" cy="2160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Line 13"/>
          <p:cNvSpPr/>
          <p:nvPr/>
        </p:nvSpPr>
        <p:spPr>
          <a:xfrm>
            <a:off x="8244000" y="6021360"/>
            <a:ext cx="0" cy="2160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Line 14"/>
          <p:cNvSpPr/>
          <p:nvPr/>
        </p:nvSpPr>
        <p:spPr>
          <a:xfrm flipV="1">
            <a:off x="4716360" y="2060640"/>
            <a:ext cx="165600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Line 15"/>
          <p:cNvSpPr/>
          <p:nvPr/>
        </p:nvSpPr>
        <p:spPr>
          <a:xfrm flipV="1">
            <a:off x="4427640" y="2276640"/>
            <a:ext cx="2089080" cy="504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Line 16"/>
          <p:cNvSpPr/>
          <p:nvPr/>
        </p:nvSpPr>
        <p:spPr>
          <a:xfrm>
            <a:off x="4427640" y="2781360"/>
            <a:ext cx="2232000" cy="24480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Line 18"/>
          <p:cNvSpPr/>
          <p:nvPr/>
        </p:nvSpPr>
        <p:spPr>
          <a:xfrm flipV="1">
            <a:off x="5580000" y="2421000"/>
            <a:ext cx="936720" cy="79200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19"/>
          <p:cNvSpPr/>
          <p:nvPr/>
        </p:nvSpPr>
        <p:spPr>
          <a:xfrm>
            <a:off x="5580000" y="3213000"/>
            <a:ext cx="1152720" cy="180036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20"/>
          <p:cNvSpPr/>
          <p:nvPr/>
        </p:nvSpPr>
        <p:spPr>
          <a:xfrm flipV="1">
            <a:off x="4427640" y="3428640"/>
            <a:ext cx="1944720" cy="144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21"/>
          <p:cNvSpPr/>
          <p:nvPr/>
        </p:nvSpPr>
        <p:spPr>
          <a:xfrm>
            <a:off x="4859280" y="3933720"/>
            <a:ext cx="158436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22"/>
          <p:cNvSpPr/>
          <p:nvPr/>
        </p:nvSpPr>
        <p:spPr>
          <a:xfrm flipV="1">
            <a:off x="4572000" y="3500280"/>
            <a:ext cx="1944720" cy="9367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23"/>
          <p:cNvSpPr/>
          <p:nvPr/>
        </p:nvSpPr>
        <p:spPr>
          <a:xfrm>
            <a:off x="4284720" y="4797360"/>
            <a:ext cx="1871640" cy="287280"/>
          </a:xfrm>
          <a:prstGeom prst="line">
            <a:avLst/>
          </a:prstGeom>
          <a:ln w="284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24"/>
          <p:cNvSpPr/>
          <p:nvPr/>
        </p:nvSpPr>
        <p:spPr>
          <a:xfrm flipV="1">
            <a:off x="5003640" y="3715920"/>
            <a:ext cx="2016360" cy="1513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5076720" y="5589720"/>
            <a:ext cx="1582920" cy="576000"/>
          </a:xfrm>
          <a:prstGeom prst="line">
            <a:avLst/>
          </a:prstGeom>
          <a:ln w="284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0" name="Picture 27" descr="37486596"/>
          <p:cNvPicPr/>
          <p:nvPr/>
        </p:nvPicPr>
        <p:blipFill>
          <a:blip r:embed="rId2"/>
          <a:stretch/>
        </p:blipFill>
        <p:spPr>
          <a:xfrm>
            <a:off x="3492360" y="4508640"/>
            <a:ext cx="1887840" cy="188748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28" descr="Картинка 12 из 873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5ffff"/>
                </a:solidFill>
                <a:latin typeface="Tahoma"/>
              </a:rPr>
              <a:t>Самостоятельная работа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056720" cy="936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9999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3000" spc="-1" strike="noStrike">
                <a:solidFill>
                  <a:srgbClr val="003366"/>
                </a:solidFill>
                <a:latin typeface="Tahoma"/>
              </a:rPr>
              <a:t>252896 : 7                 84512 : 8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36128                                       105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85840" y="6021000"/>
            <a:ext cx="109440" cy="1047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1618920" y="4220640"/>
            <a:ext cx="5832360" cy="15843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3366"/>
            </a:solidFill>
            <a:miter/>
          </a:ln>
        </p:spPr>
        <p:txBody>
          <a:bodyPr anchor="b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82960 :5            4513 х 4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8640720" y="6021000"/>
            <a:ext cx="46080" cy="1047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4" descr="Иван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79280" y="692280"/>
            <a:ext cx="2105280" cy="54007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5" descr="vasilisa"/>
          <p:cNvPicPr/>
          <p:nvPr/>
        </p:nvPicPr>
        <p:blipFill>
          <a:blip r:embed="rId2"/>
          <a:stretch/>
        </p:blipFill>
        <p:spPr>
          <a:xfrm>
            <a:off x="6767640" y="1484280"/>
            <a:ext cx="2376360" cy="3527280"/>
          </a:xfrm>
          <a:prstGeom prst="rect">
            <a:avLst/>
          </a:prstGeom>
          <a:ln w="0">
            <a:noFill/>
          </a:ln>
        </p:spPr>
      </p:pic>
      <p:sp>
        <p:nvSpPr>
          <p:cNvPr id="1189" name="Text Box 6"/>
          <p:cNvSpPr/>
          <p:nvPr/>
        </p:nvSpPr>
        <p:spPr>
          <a:xfrm>
            <a:off x="3059280" y="189000"/>
            <a:ext cx="302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сё решил Иван-Царевич. Похвалила его Елена Прекрасная, и отправились они домой, в своё царство. Сыграли свадьбу и стали жить в мире и согласи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0" name="Picture 7" descr="дворец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916360" y="3068640"/>
            <a:ext cx="35272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 rot="20410800">
            <a:off x="-83880" y="129204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29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108000" y="4005360"/>
            <a:ext cx="885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. 112,  упр. 4 (1-й столбик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WordArt 4"/>
          <p:cNvSpPr txBox="1"/>
          <p:nvPr/>
        </p:nvSpPr>
        <p:spPr>
          <a:xfrm>
            <a:off x="826920" y="1197000"/>
            <a:ext cx="7129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860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рошлых уроках вы научились умножать и делить многозначные числ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нам эти знания пригодятся, потому что мы попадём в сказку, где нас ждёт много испытаний. Нам предстоит решать примеры и задачи, находить неизвестное в уравнениях. Вы гот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гда сказка начинается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4" descr="Иван2"/>
          <p:cNvPicPr/>
          <p:nvPr/>
        </p:nvPicPr>
        <p:blipFill>
          <a:blip r:embed="rId1"/>
          <a:stretch/>
        </p:blipFill>
        <p:spPr>
          <a:xfrm>
            <a:off x="395280" y="765000"/>
            <a:ext cx="2016000" cy="54007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5" descr="vasilisa"/>
          <p:cNvPicPr/>
          <p:nvPr/>
        </p:nvPicPr>
        <p:blipFill>
          <a:blip r:embed="rId2"/>
          <a:stretch/>
        </p:blipFill>
        <p:spPr>
          <a:xfrm>
            <a:off x="5867280" y="1413000"/>
            <a:ext cx="2737080" cy="4248000"/>
          </a:xfrm>
          <a:prstGeom prst="rect">
            <a:avLst/>
          </a:prstGeom>
          <a:ln w="0">
            <a:noFill/>
          </a:ln>
        </p:spPr>
      </p:pic>
      <p:sp>
        <p:nvSpPr>
          <p:cNvPr id="1120" name="Text Box 6"/>
          <p:cNvSpPr/>
          <p:nvPr/>
        </p:nvSpPr>
        <p:spPr>
          <a:xfrm>
            <a:off x="2627280" y="404640"/>
            <a:ext cx="288144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ил-был Иван-Царевич. И была у него невеста – Елена Прекрасна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днажды гуляли они  в роще, и вдруг налетел вихрь и  унёс Елену. Опечалился Иван-Царевич, залился горючими слезами. А берёзка ему отвечает: «Не плачь, добрый молодец, найдёшь ты свою невесту у Кощея Бессмертного в невиданной стране. Всё там подчинено законам матема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12"/>
          <p:cNvSpPr/>
          <p:nvPr/>
        </p:nvSpPr>
        <p:spPr>
          <a:xfrm>
            <a:off x="395280" y="4680"/>
            <a:ext cx="820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правился Иван-Царевич в далёкий в далёкий путь. Долго ли, коротко ли шёл он – на пути встретилась река, а моста нет. Чтобы помочь Ивану-Царевичу перебраться через реку, необходимо решить зад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можем Ивану-Царевич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395280" y="1773360"/>
            <a:ext cx="7921800" cy="45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16 увеличить в 4 раз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Найдите частное чисел 96 и 1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Чему равна площадь квадрата со стороной 8 с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колько кг в 6 центнер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5. 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ыполните деление с остатком: 157:10; 875:1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6.  На сколько 35 больше 5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16"/>
          <p:cNvSpPr/>
          <p:nvPr/>
        </p:nvSpPr>
        <p:spPr>
          <a:xfrm>
            <a:off x="4900680" y="17398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17"/>
          <p:cNvSpPr/>
          <p:nvPr/>
        </p:nvSpPr>
        <p:spPr>
          <a:xfrm>
            <a:off x="5405400" y="2492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18"/>
          <p:cNvSpPr/>
          <p:nvPr/>
        </p:nvSpPr>
        <p:spPr>
          <a:xfrm>
            <a:off x="7054920" y="33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9"/>
          <p:cNvSpPr/>
          <p:nvPr/>
        </p:nvSpPr>
        <p:spPr>
          <a:xfrm>
            <a:off x="5003640" y="4175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00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20"/>
          <p:cNvSpPr/>
          <p:nvPr/>
        </p:nvSpPr>
        <p:spPr>
          <a:xfrm>
            <a:off x="7164360" y="496080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5(7); 8(7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21"/>
          <p:cNvSpPr/>
          <p:nvPr/>
        </p:nvSpPr>
        <p:spPr>
          <a:xfrm>
            <a:off x="7667640" y="638172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 Box 22"/>
          <p:cNvSpPr/>
          <p:nvPr/>
        </p:nvSpPr>
        <p:spPr>
          <a:xfrm>
            <a:off x="4324320" y="58024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9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4" descr="избушка на ножках"/>
          <p:cNvPicPr/>
          <p:nvPr/>
        </p:nvPicPr>
        <p:blipFill>
          <a:blip r:embed="rId1"/>
          <a:stretch/>
        </p:blipFill>
        <p:spPr>
          <a:xfrm>
            <a:off x="395280" y="260280"/>
            <a:ext cx="2290680" cy="34131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5" descr="babayaga_"/>
          <p:cNvPicPr/>
          <p:nvPr/>
        </p:nvPicPr>
        <p:blipFill>
          <a:blip r:embed="rId2"/>
          <a:stretch/>
        </p:blipFill>
        <p:spPr>
          <a:xfrm>
            <a:off x="6300720" y="333360"/>
            <a:ext cx="2590920" cy="328608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3132000" y="476280"/>
            <a:ext cx="2880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вашей помощью Иван-Царевич благополучно миновал реку. А за ней лес. Лесная тропинка привела Ивана к избушке на курьих ножках. А около неё Баба-Яга. Увидела Царевича и говори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900000" y="364644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Знаю, зачем пришёл. Но сначала помоги мне разобраться с примерами. Умножать я умею, а вот что с нулями делать, никак не пойму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515772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78x500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90x300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907x90=                       806x80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4" descr="Кощей"/>
          <p:cNvPicPr/>
          <p:nvPr/>
        </p:nvPicPr>
        <p:blipFill>
          <a:blip r:embed="rId1"/>
          <a:stretch/>
        </p:blipFill>
        <p:spPr>
          <a:xfrm>
            <a:off x="6012000" y="476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7" descr="шкатулка2"/>
          <p:cNvPicPr/>
          <p:nvPr/>
        </p:nvPicPr>
        <p:blipFill>
          <a:blip r:embed="rId2"/>
          <a:stretch/>
        </p:blipFill>
        <p:spPr>
          <a:xfrm>
            <a:off x="6516720" y="3141720"/>
            <a:ext cx="2448000" cy="2016000"/>
          </a:xfrm>
          <a:prstGeom prst="rect">
            <a:avLst/>
          </a:prstGeom>
          <a:ln w="0">
            <a:noFill/>
          </a:ln>
        </p:spPr>
      </p:pic>
      <p:sp>
        <p:nvSpPr>
          <p:cNvPr id="1137" name="Text Box 8"/>
          <p:cNvSpPr/>
          <p:nvPr/>
        </p:nvSpPr>
        <p:spPr>
          <a:xfrm>
            <a:off x="468360" y="620640"/>
            <a:ext cx="5543640" cy="67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«- Молодец, Иван-Царевич, -говорит Баба Яга. Открою тебе два секрета Кощея. Игла, в которой заключена смерть его, хранится в шкатулке под троном. И открыть её можно, решив задания, написанные на ней.»  Видит Иван, что на шкатулке написаны два выражения. Понял, что надо найти их зна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могите Ивану-Царевичу выполнить зад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1933"/>
                </a:solidFill>
                <a:latin typeface="Arial"/>
              </a:rPr>
              <a:t>181025 : 5 -  4986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12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933"/>
                </a:solidFill>
                <a:latin typeface="Arial"/>
              </a:rPr>
              <a:t>4600 – (7000 – 308 х 6) : 2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0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ГИМНАСТИКА ДЛЯ ГЛАЗ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722160" y="115920"/>
            <a:ext cx="77724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icture 4" descr="Кощей"/>
          <p:cNvPicPr/>
          <p:nvPr/>
        </p:nvPicPr>
        <p:blipFill>
          <a:blip r:embed="rId1"/>
          <a:stretch/>
        </p:blipFill>
        <p:spPr>
          <a:xfrm>
            <a:off x="6588000" y="62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5" descr="Иван2"/>
          <p:cNvPicPr/>
          <p:nvPr/>
        </p:nvPicPr>
        <p:blipFill>
          <a:blip r:embed="rId2"/>
          <a:stretch/>
        </p:blipFill>
        <p:spPr>
          <a:xfrm>
            <a:off x="179280" y="333360"/>
            <a:ext cx="2105280" cy="5400720"/>
          </a:xfrm>
          <a:prstGeom prst="rect">
            <a:avLst/>
          </a:prstGeom>
          <a:ln w="0">
            <a:noFill/>
          </a:ln>
        </p:spPr>
      </p:pic>
      <p:sp>
        <p:nvSpPr>
          <p:cNvPr id="1142" name="Text Box 7"/>
          <p:cNvSpPr/>
          <p:nvPr/>
        </p:nvSpPr>
        <p:spPr>
          <a:xfrm>
            <a:off x="2627280" y="476280"/>
            <a:ext cx="396072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равился Иван с заданием. Появился он перед Кощеем, а тот ему так ласково: «За невестой пришёл, добрый молодец? Давай мирно договоримся. Задам я тебе ещё одно всего задание. Решишь его – забирай Елену, а не решишь- голова с плеч долой. Реши урав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8"/>
          <p:cNvSpPr/>
          <p:nvPr/>
        </p:nvSpPr>
        <p:spPr>
          <a:xfrm>
            <a:off x="2916360" y="4076640"/>
            <a:ext cx="525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x90=180+9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:60=150-8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Picture 4" descr="Иван2"/>
          <p:cNvPicPr/>
          <p:nvPr/>
        </p:nvPicPr>
        <p:blipFill>
          <a:blip r:embed="rId1"/>
          <a:stretch/>
        </p:blipFill>
        <p:spPr>
          <a:xfrm>
            <a:off x="250920" y="620640"/>
            <a:ext cx="2104920" cy="54007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5" descr="vasilisa"/>
          <p:cNvPicPr/>
          <p:nvPr/>
        </p:nvPicPr>
        <p:blipFill>
          <a:blip r:embed="rId2"/>
          <a:stretch/>
        </p:blipFill>
        <p:spPr>
          <a:xfrm>
            <a:off x="6156360" y="981000"/>
            <a:ext cx="2736720" cy="4680000"/>
          </a:xfrm>
          <a:prstGeom prst="rect">
            <a:avLst/>
          </a:prstGeom>
          <a:ln w="0">
            <a:noFill/>
          </a:ln>
        </p:spPr>
      </p:pic>
      <p:sp>
        <p:nvSpPr>
          <p:cNvPr id="1146" name="Text Box 6"/>
          <p:cNvSpPr/>
          <p:nvPr/>
        </p:nvSpPr>
        <p:spPr>
          <a:xfrm>
            <a:off x="2843280" y="189000"/>
            <a:ext cx="295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шил Иван-Царевич уравнения. Взял Иван в руки иглу и переломил её. Кощей упал замертво, а в стене открылась потайная дверь, и вышла Елена Прекрасная. Стал Иван рассказывать  о своих приключениях, о том, с какими трудностями пришлось ему встретиться на пути к невесте. Елена Прекрасная восхитилась Иваном и спросила, может ли он выполнить  ещё одно задание – трудное, с математическими терминами. Вот что предложила Елена Прекрасная Ивану-Цареви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3:26:40Z</dcterms:created>
  <dc:creator>Admin</dc:creator>
  <dc:description/>
  <dc:language>en-US</dc:language>
  <cp:lastModifiedBy>User</cp:lastModifiedBy>
  <dcterms:modified xsi:type="dcterms:W3CDTF">2012-12-19T05:13:55Z</dcterms:modified>
  <cp:revision>49</cp:revision>
  <dc:subject/>
  <dc:title>Слайд 1</dc:title>
</cp:coreProperties>
</file>