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4DF-FEEC-4549-BE34-509F6D3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930-0CD0-489B-BB1C-DEF59EE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9F7-5A7B-4E75-93A2-8270D446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92A-2FF7-4542-A642-081360A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A84-69DF-4558-A49B-2B39DD1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F81-DB04-461B-941A-3607385A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647-584A-4DB6-992F-5D69801F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44A-8B7A-4B2F-91D5-BBDAFA6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AB3-CB2F-48A1-9827-F1955C0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1C0-63EC-4B12-BAF1-AFFC57C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3A9-8C90-4F7A-B085-62ACE44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4F3-9BFA-45DD-A289-73409F5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D8AB-7EE3-4BDB-BB39-73EA23864D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49690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рок мужеств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орошни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вгу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ндреев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4.10.1928 го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1 010"/>
          <p:cNvPicPr/>
          <p:nvPr/>
        </p:nvPicPr>
        <p:blipFill>
          <a:blip r:embed="rId1"/>
          <a:stretch/>
        </p:blipFill>
        <p:spPr>
          <a:xfrm>
            <a:off x="3276720" y="1114560"/>
            <a:ext cx="5867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57360" y="0"/>
            <a:ext cx="259236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г1 003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г1 006"/>
          <p:cNvPicPr/>
          <p:nvPr/>
        </p:nvPicPr>
        <p:blipFill>
          <a:blip r:embed="rId1"/>
          <a:stretch/>
        </p:blipFill>
        <p:spPr>
          <a:xfrm>
            <a:off x="0" y="492120"/>
            <a:ext cx="4572000" cy="357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г1 005"/>
          <p:cNvPicPr/>
          <p:nvPr/>
        </p:nvPicPr>
        <p:blipFill>
          <a:blip r:embed="rId2"/>
          <a:stretch/>
        </p:blipFill>
        <p:spPr>
          <a:xfrm>
            <a:off x="4067280" y="476280"/>
            <a:ext cx="4897440" cy="3632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475272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вгустина и Алекс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 дочерью Людой и сыном Вик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9054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ыновья и дочер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г1"/>
          <p:cNvPicPr/>
          <p:nvPr/>
        </p:nvPicPr>
        <p:blipFill>
          <a:blip r:embed="rId1"/>
          <a:stretch/>
        </p:blipFill>
        <p:spPr>
          <a:xfrm>
            <a:off x="22320" y="1557360"/>
            <a:ext cx="2714400" cy="37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г1 007"/>
          <p:cNvPicPr/>
          <p:nvPr/>
        </p:nvPicPr>
        <p:blipFill>
          <a:blip r:embed="rId2"/>
          <a:stretch/>
        </p:blipFill>
        <p:spPr>
          <a:xfrm>
            <a:off x="6227640" y="1557360"/>
            <a:ext cx="2843280" cy="381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г1 011"/>
          <p:cNvPicPr/>
          <p:nvPr/>
        </p:nvPicPr>
        <p:blipFill>
          <a:blip r:embed="rId3"/>
          <a:stretch/>
        </p:blipFill>
        <p:spPr>
          <a:xfrm>
            <a:off x="3132000" y="3141720"/>
            <a:ext cx="2800440" cy="3716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539640" y="4941720"/>
            <a:ext cx="140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и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00920" y="5000760"/>
            <a:ext cx="140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р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780000" y="6461280"/>
            <a:ext cx="140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" descr="г1 008"/>
          <p:cNvPicPr/>
          <p:nvPr/>
        </p:nvPicPr>
        <p:blipFill>
          <a:blip r:embed="rId4"/>
          <a:stretch/>
        </p:blipFill>
        <p:spPr>
          <a:xfrm>
            <a:off x="2771640" y="47628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3708360" y="2781360"/>
            <a:ext cx="140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дм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г1 002"/>
          <p:cNvPicPr/>
          <p:nvPr/>
        </p:nvPicPr>
        <p:blipFill>
          <a:blip r:embed="rId1"/>
          <a:stretch/>
        </p:blipFill>
        <p:spPr>
          <a:xfrm>
            <a:off x="4211640" y="549360"/>
            <a:ext cx="4932360" cy="277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г1 001"/>
          <p:cNvPicPr/>
          <p:nvPr/>
        </p:nvPicPr>
        <p:blipFill>
          <a:blip r:embed="rId2"/>
          <a:stretch/>
        </p:blipFill>
        <p:spPr>
          <a:xfrm>
            <a:off x="0" y="549360"/>
            <a:ext cx="4643280" cy="2793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56898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нуки и правну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сть внуков и семь правну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ат Алексе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г1 009"/>
          <p:cNvPicPr/>
          <p:nvPr/>
        </p:nvPicPr>
        <p:blipFill>
          <a:blip r:embed="rId1"/>
          <a:stretch/>
        </p:blipFill>
        <p:spPr>
          <a:xfrm>
            <a:off x="285840" y="1125360"/>
            <a:ext cx="86439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1:54:26Z</dcterms:created>
  <dc:creator>дом</dc:creator>
  <dc:description/>
  <dc:language>en-US</dc:language>
  <cp:lastModifiedBy>User</cp:lastModifiedBy>
  <dcterms:modified xsi:type="dcterms:W3CDTF">2019-12-11T11:21:07Z</dcterms:modified>
  <cp:revision>4</cp:revision>
  <dc:subject/>
  <dc:title>Урок мужества</dc:title>
</cp:coreProperties>
</file>