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6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25.jpeg" ContentType="image/jpeg"/>
  <Override PartName="/ppt/media/image32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8.jpeg" ContentType="image/jpeg"/>
  <Override PartName="/ppt/media/image19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CC2C-B054-4B3C-B248-DDEE71016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A504-DAAE-40E7-BD56-C30EBD09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1E26-97E3-4A3E-8B1D-866D666CD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87B9-D316-4892-8E1D-AB48E00EB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972D-D9C9-401D-A3AC-997AC7D7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55FF-AAA2-43A9-8A6D-51CB98B2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0234-0839-44EF-ACE6-77A310B2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627A-83E8-45B9-888F-94CA2C20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7FBA-63A3-4642-8771-C688F8E9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98C5-4F93-4671-AA74-1481979D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5A17-D891-48D3-BC52-66494684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4137-8646-499F-A38B-EAA752F7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652E-79BD-4782-9297-830C468B72A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Mortar_attack_on_Shigal_Tarna_garrison,_Kunar_Province,_87.jpg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5834160" cy="49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ень защитника Отечества</a:t>
            </a:r>
            <a:br>
              <a:rPr sz="3600"/>
            </a:br>
            <a:endParaRPr b="0" lang="en-US" sz="28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42" name="Picture 9" descr="a1"/>
          <p:cNvPicPr/>
          <p:nvPr/>
        </p:nvPicPr>
        <p:blipFill>
          <a:blip r:embed="rId1"/>
          <a:stretch/>
        </p:blipFill>
        <p:spPr>
          <a:xfrm>
            <a:off x="1042920" y="907920"/>
            <a:ext cx="6913800" cy="481176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3" name="Rectangle 5"/>
          <p:cNvSpPr/>
          <p:nvPr/>
        </p:nvSpPr>
        <p:spPr>
          <a:xfrm>
            <a:off x="2700360" y="5877000"/>
            <a:ext cx="33829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23 феврал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писок воинов, погибших в годы Великой Отечественной войны </a:t>
            </a:r>
            <a:br>
              <a:rPr sz="2000"/>
            </a:br>
            <a:br>
              <a:rPr sz="2400"/>
            </a:br>
            <a:endParaRPr b="0" lang="en-US" sz="2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58920" y="980640"/>
            <a:ext cx="460836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Бочкарёв Семён Данил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Бочкарёв Роман Андре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.Бочкарёв Яков Андрия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.Банников Яков Данил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.Быков Фрол Данил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6.Банников Григорий Назар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7.Бочкарёв Никифор Александр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8.Быков Павел Данил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9.Булатов Егор Андре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0.Быков Лаврентий Данил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1.Бадаев Степан Павл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2.Белов Сергей Павл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3.Белицкий Алексей Петр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4.Володский Михаил Павл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5.Воронин Данил Ива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6Воронин Николай Ива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7.Воронин Василий Ива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8.Воронин Михаил Михайл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9Воронин Павел Михайл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0.Востриков Иван Ива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700360" y="189000"/>
            <a:ext cx="461952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1.Володский Михаил Демья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2.Востриков Андрей Михайл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3Востриков Константин Михайл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4.Вохмин Николай Фёдор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5.Вандышев Иван Фаде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6.Гордеев Фёдор Петр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7.Горбылев Иван Кондрать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8.Гордиевский Александр Ива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9.Дрантусов Егор Ива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0.Дорофеев Александр Михайл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1.Дорофеев Павел Петр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2.Сеютов Николай Ива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3.Есютов Роман Никола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4.Есютов Семён Рома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5.Зубрицкий Антон Марты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6.Зубрицкий Александр Марты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7.Зевахин Василий Алексе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8.Зевахин Константин Алексе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9.Зевахин Сергей Алексе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0.Зуев Михаил Михайл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1.Золотухин Спиридон Кузьм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2.Исаев Николай Игнать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3.Исаев Николай Семё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4.Исаев Андрей Игнать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340000" y="475920"/>
            <a:ext cx="4619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5.Ишимов Тимофей Михайл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6.Ишимов Илья Семё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7.Иванов Илья Семё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8.Калинин Михаил Фёдор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9.Калинин Филипп Фёдор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0.Калинин Михаил Степа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1.Калинин Григорий Сидор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2.Кузнецов Иван Фёдор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3.Кузьмин Михаил Фёдор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4.Кузьмин Андрей Фёдор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5.Кузьмин Иван Фёдор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6.Каблуков Михаил Василь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7.Каблуков Антон Григорь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8.Кузнецов Михаил Трофим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9.Кузнецов Филипп Трофим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60.Краснов Иван Андре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61.Колпаков Александр Григорь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62.Кужлев Дмитрий Ефим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63.Кужлев Григорий Ефим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64.Карпов Павел Михайл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65.Карпов Иван Василь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66.Кузнецов Елизар Фёдор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484360" y="-360"/>
            <a:ext cx="505152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67.Коновалов Прокопий Иосиф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68.Клаус Фёдор Ермола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69.Конев Андрей Захар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70.Кириллов Константин Кузьм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71.Лавриненко Гордей Ива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72.Лавриненко Василий Карп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73.Логачёв Константин Рома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74.Логачёв Николай Дмитри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75.Логачёв Григорий Дмитри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76.Логачёв Иван Михайл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77.Лаптев Гаврил Прокопь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78.Лукьянов Захар Петр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79.Лукьянов Василий Петр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80.Мамаев Иван Григорь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81.Мамаев Николай Ива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82.Мацкевич Дмитрий Григорь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83.Мацкевич Сергей Григорь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84.Мацкевич Иннокентий Петр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85.Мацкевич Алексей Василь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86.Мацкевич Михаил Василь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87.Мацкевич Иван Иль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88.Макрушин Николай Павло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89.Метелёв Михаил Поликарпо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90.Мачуга Дмитрий Михайло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2556000" y="0"/>
            <a:ext cx="5400720" cy="619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91.Малышев Фёдор Леонид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92.Норыгин Николай Рома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93.Норыгин Михаил Андре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94.Наумов Степан Владимир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95.Наумов Данил Владимир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96.Никашин Владимир Петр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97.Никашин Тимофей Антип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98.Никашин Иван Александр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99.Никашин Василий Александр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00.Никитин Яков Семё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01.Овсянников Пётр Александр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02.Попов Яков Михайл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03.Попов Максим Михайл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04.Попов Павел Яковл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05.Помазкин Григорий Ива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06.Поносенко Фёдор Дмитри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07.Пролубников Николай Ива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08.Пролубников Яков Ива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09.Пестов Пётр Анто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10.Потылицын Алексей Константи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11.Петров Георгий Ива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12.Петров Павел Петр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13.Портнягин Кирилл Кузьм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14.Попов Иван Максим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410920" y="-360"/>
            <a:ext cx="519444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15.Родников Григорий Алексе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16.Родников Андрей Алексе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17.Родионов Фёдор Алексе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18.Родионов Тимофей Павл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19.Рукомойников Пётр Емелья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20.Рукомойников Михаил Емелья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21.Родионов Сергей Петр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22.Строков Иван Василь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23.Страус Михаил Егор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24.Страус Пётр Егор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25.Страус Павел Егор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26.Строков Андрей Михайл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27.Страус Илья Егор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28.Синачёв Павел Ива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29.Синачёв Филипп Ива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30.Стяжкин Емельян Степа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31.Сабуркин Семён Ива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32.Сабуркин Иван Тимофе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33.Ситников Андрей Фёдор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34.Ситников Винидикт Петр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35.Сафронов Константин Андрия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36.Сукачёв Сельвёстр Арсентьевич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37.Старков Михаил Василь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2410920" y="333000"/>
            <a:ext cx="51231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38.Тарамисин Кузьма Анисим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39.Тенсин Яков Ива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40.Тиунов Никита Серге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41.Турышев Андрей Григорь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42.Ушаков Тихон Ефим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43.Ушаков Николай Ефим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44.Ушаков Спиридон Яковл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45.Ушаков Иван Фёдор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46.Уфимцев Афанасий Севостья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47.Уфимцев Михаил Афанась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48.Ураков Андрей Ива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49.Попов Александр Петр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50.Федянин Иван Дмитри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51.Филимонов Тимофей Ива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52.Хорошавин Михаил Герасим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53.Хохряков Михаил Фоте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54.Черепахин Григорий Абрам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55.Черепахин Василий Абрам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56.Черепахин Иван Михайл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57.Черепахин Семён Григорь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58.Черепахин Андрей Ива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59.Черепахин Иван Василь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60.Черепахин Пётр Василь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2410920" y="333360"/>
            <a:ext cx="497844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61.Чистяков Дмитрий Лазар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62.Чистяков Григорий Лазар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63.Чудинов Виктор Яковл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64.Чудинов Михаил Яковл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65.Чичкин Пётр Степа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66.Четверяков Василий Семё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67.Шестопалов Фёдор Ермола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68.Шамраев Михаил Алексе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69.Шуклин Василий Василь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70.Шуев Пётр Андрия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71.Титюхин Никифор Борис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72.Ситников Сергей Ива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73.Попов Константин Михайл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74.Петров Александр Василь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75.Соков Владимир Самуил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76.Обухов Иван Яковл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77.Струков Георгий Фёдор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78.Струков Павел Василь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79.Сурагин Пётр Фёдор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80.Хрептов Сергей Тимофе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81.Четвертаков Василий Семё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82.Хлопотов Григорий Яковл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81" name="Рисунок 2" descr="Рисунок1.jpg"/>
          <p:cNvPicPr/>
          <p:nvPr/>
        </p:nvPicPr>
        <p:blipFill>
          <a:blip r:embed="rId1"/>
          <a:stretch/>
        </p:blipFill>
        <p:spPr>
          <a:xfrm>
            <a:off x="1925640" y="333360"/>
            <a:ext cx="5815080" cy="6335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мните! Через века, через года - помните!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83" name="Picture 5" descr="9мая"/>
          <p:cNvPicPr/>
          <p:nvPr/>
        </p:nvPicPr>
        <p:blipFill>
          <a:blip r:embed="rId1"/>
          <a:stretch/>
        </p:blipFill>
        <p:spPr>
          <a:xfrm>
            <a:off x="684360" y="1268280"/>
            <a:ext cx="7775280" cy="5384880"/>
          </a:xfrm>
          <a:prstGeom prst="rect">
            <a:avLst/>
          </a:prstGeom>
          <a:ln w="57240">
            <a:solidFill>
              <a:srgbClr val="3fae02"/>
            </a:solidFill>
            <a:miter/>
          </a:ln>
        </p:spPr>
      </p:pic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3640" y="2421000"/>
            <a:ext cx="856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1187280" y="6165720"/>
            <a:ext cx="705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утугин А.Д., Кулага П.Я., Метелёв В.Я., Захаров М.Ф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7" descr="1363.jpg"/>
          <p:cNvPicPr/>
          <p:nvPr/>
        </p:nvPicPr>
        <p:blipFill>
          <a:blip r:embed="rId1"/>
          <a:stretch/>
        </p:blipFill>
        <p:spPr>
          <a:xfrm>
            <a:off x="6012000" y="404640"/>
            <a:ext cx="2857320" cy="42102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5" name="Picture 10" descr="1941"/>
          <p:cNvPicPr/>
          <p:nvPr/>
        </p:nvPicPr>
        <p:blipFill>
          <a:blip r:embed="rId2"/>
          <a:stretch/>
        </p:blipFill>
        <p:spPr>
          <a:xfrm>
            <a:off x="179280" y="189000"/>
            <a:ext cx="2016360" cy="95076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6" name="Picture 11" descr="1942"/>
          <p:cNvPicPr/>
          <p:nvPr/>
        </p:nvPicPr>
        <p:blipFill>
          <a:blip r:embed="rId3"/>
          <a:stretch/>
        </p:blipFill>
        <p:spPr>
          <a:xfrm>
            <a:off x="1042920" y="1197000"/>
            <a:ext cx="2016360" cy="97632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7" name="Picture 12" descr="1943"/>
          <p:cNvPicPr/>
          <p:nvPr/>
        </p:nvPicPr>
        <p:blipFill>
          <a:blip r:embed="rId4"/>
          <a:stretch/>
        </p:blipFill>
        <p:spPr>
          <a:xfrm>
            <a:off x="1979640" y="2205000"/>
            <a:ext cx="1905120" cy="93024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8" name="Picture 13" descr="1944"/>
          <p:cNvPicPr/>
          <p:nvPr/>
        </p:nvPicPr>
        <p:blipFill>
          <a:blip r:embed="rId5"/>
          <a:stretch/>
        </p:blipFill>
        <p:spPr>
          <a:xfrm>
            <a:off x="2843280" y="3141720"/>
            <a:ext cx="1904760" cy="100152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9" name="Picture 14" descr="1945"/>
          <p:cNvPicPr/>
          <p:nvPr/>
        </p:nvPicPr>
        <p:blipFill>
          <a:blip r:embed="rId6"/>
          <a:stretch/>
        </p:blipFill>
        <p:spPr>
          <a:xfrm>
            <a:off x="3780000" y="4149720"/>
            <a:ext cx="2143080" cy="10018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0" name="Rectangle 10"/>
          <p:cNvSpPr/>
          <p:nvPr/>
        </p:nvSpPr>
        <p:spPr>
          <a:xfrm>
            <a:off x="0" y="5300640"/>
            <a:ext cx="9144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2 июня 1941 г. фашистская Германия напала на Советский Союз. К этому времени пламя второй мировой войны, начавшейся 1 сентября 1939 г. агрессией гитлеровцев против Польши, полыхало на территории многих стран. Под фашистским игом оказалась почти вся Европа.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Афганская война (1979 - 1989)</a:t>
            </a:r>
            <a:r>
              <a:rPr b="0" lang="ru-RU" sz="4000" spc="-1" strike="noStrike">
                <a:solidFill>
                  <a:srgbClr val="dfc08d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dfc08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87" name="Picture 4" descr="250px-Mortar_attack_on_Shigal_Tarna_garrison%2C_Kunar_Province%2C_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765000"/>
            <a:ext cx="3816360" cy="2732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250px-Afgan1987_Gardez_UAZ469"/>
          <p:cNvPicPr/>
          <p:nvPr/>
        </p:nvPicPr>
        <p:blipFill>
          <a:blip r:embed="rId3"/>
          <a:stretch/>
        </p:blipFill>
        <p:spPr>
          <a:xfrm>
            <a:off x="4932360" y="765000"/>
            <a:ext cx="3887640" cy="26751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826920" y="342864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винция Кунар, 1987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4356000" y="349992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ины десантно-штурмовой бригады, дислоцировавшейся в Гардезе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8" descr="250px-Evstafiev-spetsnaz-prepare-for-mission"/>
          <p:cNvPicPr/>
          <p:nvPr/>
        </p:nvPicPr>
        <p:blipFill>
          <a:blip r:embed="rId4"/>
          <a:stretch/>
        </p:blipFill>
        <p:spPr>
          <a:xfrm>
            <a:off x="4788000" y="4132440"/>
            <a:ext cx="3960720" cy="2454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250px-Afgan1987_2Mi8MTBarakiVVP"/>
          <p:cNvPicPr/>
          <p:nvPr/>
        </p:nvPicPr>
        <p:blipFill>
          <a:blip r:embed="rId5"/>
          <a:stretch/>
        </p:blipFill>
        <p:spPr>
          <a:xfrm>
            <a:off x="395280" y="4033800"/>
            <a:ext cx="374508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55640" y="-360"/>
            <a:ext cx="3168360" cy="490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тери СССР</a:t>
            </a: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979 год - 86 челов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980 год - 1484 челове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981 год - 1298 челов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982 год - 1948 челов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983 год - 1446 челов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984 год - 2343 челов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985 год - 1868 человек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986 год - 1333 челове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987 год - 1215 челов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988 год - 759 челов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989 год - 53 челове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ТОГО погибших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5 051 челов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5" descr="250px-RedArmyEKT"/>
          <p:cNvPicPr/>
          <p:nvPr/>
        </p:nvPicPr>
        <p:blipFill>
          <a:blip r:embed="rId1"/>
          <a:stretch/>
        </p:blipFill>
        <p:spPr>
          <a:xfrm>
            <a:off x="6443640" y="189000"/>
            <a:ext cx="2381400" cy="3171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250px-Afghanistan_Veterans"/>
          <p:cNvPicPr/>
          <p:nvPr/>
        </p:nvPicPr>
        <p:blipFill>
          <a:blip r:embed="rId2"/>
          <a:stretch/>
        </p:blipFill>
        <p:spPr>
          <a:xfrm>
            <a:off x="6300720" y="4221000"/>
            <a:ext cx="2592360" cy="19497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7"/>
          <p:cNvSpPr/>
          <p:nvPr/>
        </p:nvSpPr>
        <p:spPr>
          <a:xfrm>
            <a:off x="5867280" y="328464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мятник Советским Воинам – «Афганцам», г.Екатеринбург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784836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Таджикистан 1992-1994 г.г.</a:t>
            </a:r>
            <a:endParaRPr b="0" lang="en-US" sz="36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616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рёхин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митр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влови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г1 004"/>
          <p:cNvPicPr/>
          <p:nvPr/>
        </p:nvPicPr>
        <p:blipFill>
          <a:blip r:embed="rId1"/>
          <a:stretch/>
        </p:blipFill>
        <p:spPr>
          <a:xfrm>
            <a:off x="324000" y="2708280"/>
            <a:ext cx="2016000" cy="3889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г1 003"/>
          <p:cNvPicPr/>
          <p:nvPr/>
        </p:nvPicPr>
        <p:blipFill>
          <a:blip r:embed="rId2"/>
          <a:stretch/>
        </p:blipFill>
        <p:spPr>
          <a:xfrm>
            <a:off x="2843280" y="2924280"/>
            <a:ext cx="5689440" cy="3709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г1 001"/>
          <p:cNvPicPr/>
          <p:nvPr/>
        </p:nvPicPr>
        <p:blipFill>
          <a:blip r:embed="rId3"/>
          <a:stretch/>
        </p:blipFill>
        <p:spPr>
          <a:xfrm>
            <a:off x="2987640" y="1125360"/>
            <a:ext cx="537228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633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вая Чеченская война 1994-1996 годы</a:t>
            </a: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гибло более 5 500 солдат и офице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8" descr="Файл:Evstafiev-chechnya-palace-gunman.jpg"/>
          <p:cNvPicPr/>
          <p:nvPr/>
        </p:nvPicPr>
        <p:blipFill>
          <a:blip r:embed="rId1"/>
          <a:stretch/>
        </p:blipFill>
        <p:spPr>
          <a:xfrm>
            <a:off x="1763640" y="1052640"/>
            <a:ext cx="576108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торая Чеченская война 1999-2000 год</a:t>
            </a: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гибло более 6 000 солдат и офице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4" descr="Second Chechen War (2000).jpg"/>
          <p:cNvPicPr/>
          <p:nvPr/>
        </p:nvPicPr>
        <p:blipFill>
          <a:blip r:embed="rId1"/>
          <a:stretch/>
        </p:blipFill>
        <p:spPr>
          <a:xfrm>
            <a:off x="1476360" y="907920"/>
            <a:ext cx="619272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258920" y="5950080"/>
            <a:ext cx="6985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ечная слава и память героям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8" descr="DSC00087"/>
          <p:cNvPicPr/>
          <p:nvPr/>
        </p:nvPicPr>
        <p:blipFill>
          <a:blip r:embed="rId1"/>
          <a:stretch/>
        </p:blipFill>
        <p:spPr>
          <a:xfrm>
            <a:off x="971640" y="333360"/>
            <a:ext cx="7561080" cy="56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8640"/>
            <a:ext cx="8229600" cy="6335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стория нашего Отечеств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аёт яркие примеры беззаветного служения России и выполнение воинского долга российскими и советскими воинам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о все времена подвиги русских воинов почитались народом, на их примерах воспитывалось молодое покол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ПРОС №1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се граждане мужского пола, достигшие призывного возраста, а также военнообязанные по месту жительства подлежат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оинскому учёт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прос № 2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овите день и год создания ВС Российской Федераци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7848360" cy="2592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етераны - 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зъезженцы в годы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еликой Отечественной войны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7640" y="4005000"/>
            <a:ext cx="6400800" cy="863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1941-1945 г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7 мая 1992 год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прос № 3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то является главнокомандующим ВС Российской Федер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езидент Р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прос №4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то является Министром обороны РФ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ердюк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прос №5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гда и кем в Берлине над рейхстагом было водружено Знамя Победы в Великой Отечественной войн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Рисунок 2" descr="Рисунок1.jpg"/>
          <p:cNvPicPr/>
          <p:nvPr/>
        </p:nvPicPr>
        <p:blipFill>
          <a:blip r:embed="rId1"/>
          <a:stretch/>
        </p:blipFill>
        <p:spPr>
          <a:xfrm>
            <a:off x="6012000" y="3213000"/>
            <a:ext cx="2377800" cy="25923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Май 1945 го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М. Егоров и Р. Кантар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прос № 6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каком году русские воины под командованием князя Александра Невского одержали победу над немецкими рыцарями на Чудском озер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8.04.1242 год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прос № 7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та разгрома советскими войсками немецко-фашистских войск под Сталинград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936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ЕТЕЛЁВ ВИКТОР ЯКОВЛЕВИЧ</a:t>
            </a:r>
            <a:endParaRPr b="0" lang="en-US" sz="36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5075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 тех, кто сражалс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 Москво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 разъезженцев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тался в живы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льк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иктор Яковлевич Метелё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4" descr="01[1]"/>
          <p:cNvPicPr/>
          <p:nvPr/>
        </p:nvPicPr>
        <p:blipFill>
          <a:blip r:embed="rId1"/>
          <a:stretch/>
        </p:blipFill>
        <p:spPr>
          <a:xfrm>
            <a:off x="5364000" y="1341360"/>
            <a:ext cx="35164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02.02.1943 год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прос № 8</a:t>
            </a:r>
            <a:r>
              <a:rPr b="0" lang="ru-RU" sz="4400" spc="-1" strike="noStrike">
                <a:solidFill>
                  <a:srgbClr val="dfc08d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гда началась и когда закончилась Вторая Мировая войн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твет 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чалась 1 сентября 1937 года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кончилась в сентябре 1945 г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прос № 9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1699 году Петром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ыл учреждён орден «За веру и верность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вым кавалером этого ордена был генерал-адмирал Ф.А. Головин, фельдмаршал Меньшиков, адмирал Апраксин. Как назывался этот орден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ден Святого Андрея Первозванн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г1"/>
          <p:cNvPicPr/>
          <p:nvPr/>
        </p:nvPicPr>
        <p:blipFill>
          <a:blip r:embed="rId1"/>
          <a:stretch/>
        </p:blipFill>
        <p:spPr>
          <a:xfrm>
            <a:off x="2700360" y="2276640"/>
            <a:ext cx="41306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прос № 10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годы Великой Отечественной войны лётчикам А.И.Покрышкину и И.Н.Кожедубу это звание присваивалось трижд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ршалу Советского Союза Г.К.Жукову четырежд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е высокое звание получили герои В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Звани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ероя Советского Союз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прос № 11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каком году было установлено звание Героя Российской Федерации и утверждён знак отличия – медаль «Золотая Звезд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4" descr="г1 001"/>
          <p:cNvPicPr/>
          <p:nvPr/>
        </p:nvPicPr>
        <p:blipFill>
          <a:blip r:embed="rId1"/>
          <a:stretch/>
        </p:blipFill>
        <p:spPr>
          <a:xfrm>
            <a:off x="3995640" y="3141720"/>
            <a:ext cx="17892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 марте 1992 год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опрос № 12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овите год и что за сражени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4" descr="г1 002"/>
          <p:cNvPicPr/>
          <p:nvPr/>
        </p:nvPicPr>
        <p:blipFill>
          <a:blip r:embed="rId1"/>
          <a:stretch/>
        </p:blipFill>
        <p:spPr>
          <a:xfrm>
            <a:off x="250920" y="1628640"/>
            <a:ext cx="8497800" cy="46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ЕДАЛЬ ЗА ОБОРОНУ МОСКВЫ</a:t>
            </a:r>
            <a:endParaRPr b="0" lang="en-US" sz="36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4" descr="02[1]"/>
          <p:cNvPicPr/>
          <p:nvPr/>
        </p:nvPicPr>
        <p:blipFill>
          <a:blip r:embed="rId1"/>
          <a:stretch/>
        </p:blipFill>
        <p:spPr>
          <a:xfrm>
            <a:off x="826920" y="1557360"/>
            <a:ext cx="756000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380 го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уликовская бит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954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прос № 13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кое событие изображено на картине худ. П.А.Кривоногова в годы ВОВ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4" descr="г1 004"/>
          <p:cNvPicPr/>
          <p:nvPr/>
        </p:nvPicPr>
        <p:blipFill>
          <a:blip r:embed="rId1"/>
          <a:stretch/>
        </p:blipFill>
        <p:spPr>
          <a:xfrm>
            <a:off x="468360" y="1868400"/>
            <a:ext cx="835164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Защитники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Брестской крепост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22 – 23 июня 1941 го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ЗА ОСВОБОЖДЕНИЕ БРЕСТА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" descr="03[1]"/>
          <p:cNvPicPr/>
          <p:nvPr/>
        </p:nvPicPr>
        <p:blipFill>
          <a:blip r:embed="rId1"/>
          <a:stretch/>
        </p:blipFill>
        <p:spPr>
          <a:xfrm>
            <a:off x="755640" y="1614600"/>
            <a:ext cx="763272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УРКОВ ПЁТР НИКОЛАЕВИЧ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ЕРОЙ СОВЕТСКОГО СОЮ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Surkov_PetrNikol[1]"/>
          <p:cNvPicPr/>
          <p:nvPr/>
        </p:nvPicPr>
        <p:blipFill>
          <a:blip r:embed="rId1"/>
          <a:stretch/>
        </p:blipFill>
        <p:spPr>
          <a:xfrm>
            <a:off x="2916360" y="1700280"/>
            <a:ext cx="3108240" cy="44654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2916360" y="6165720"/>
            <a:ext cx="3095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4.07.1915 – 12.01.194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3417840" cy="4968720"/>
          </a:xfrm>
          <a:prstGeom prst="rect">
            <a:avLst/>
          </a:prstGeom>
          <a:ln w="57240">
            <a:solidFill>
              <a:srgbClr val="ccb400"/>
            </a:solidFill>
            <a:miter/>
          </a:ln>
        </p:spPr>
      </p:pic>
      <p:pic>
        <p:nvPicPr>
          <p:cNvPr id="68" name="Picture 5" descr=""/>
          <p:cNvPicPr/>
          <p:nvPr/>
        </p:nvPicPr>
        <p:blipFill>
          <a:blip r:embed="rId2"/>
          <a:stretch/>
        </p:blipFill>
        <p:spPr>
          <a:xfrm>
            <a:off x="4067280" y="1125360"/>
            <a:ext cx="4392360" cy="2376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3"/>
          <a:stretch/>
        </p:blipFill>
        <p:spPr>
          <a:xfrm>
            <a:off x="4067280" y="3645000"/>
            <a:ext cx="4392360" cy="2555640"/>
          </a:xfrm>
          <a:prstGeom prst="rect">
            <a:avLst/>
          </a:prstGeom>
          <a:ln w="38160">
            <a:solidFill>
              <a:srgbClr val="ccb4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В период 1941-1945 г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а войну ушло 453 человека,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2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е вернулось с войн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1T12:25:38Z</dcterms:created>
  <dc:creator>дом</dc:creator>
  <dc:description/>
  <dc:language>en-US</dc:language>
  <cp:lastModifiedBy>User</cp:lastModifiedBy>
  <dcterms:modified xsi:type="dcterms:W3CDTF">2019-12-11T11:20:31Z</dcterms:modified>
  <cp:revision>17</cp:revision>
  <dc:subject/>
  <dc:title>Ветераны  разъезженцы в годы войны</dc:title>
</cp:coreProperties>
</file>