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009-D4C2-4B74-B97E-CF6B2224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BC5-8B33-4E05-82C7-D3BD5334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D77-C884-405C-B51F-5F86FD30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B09-A94D-4A4E-8DC8-F2BB150A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ED4-63B7-413E-AF2F-EB3DBCF8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FA2-E009-44CF-86A0-033967B9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262-7CDD-4F58-91C3-154C0E1B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7E4-19ED-4BB2-B55C-CD2AB563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55C-6D43-4B69-9033-69F4F83E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6D7-F0AD-4B91-82C3-F002D9EC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9F1-F857-4DC8-B094-6BCAC74B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A35-C053-429B-9FF2-E798A4AE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48B6-F4A7-4FC8-8BB7-4E9900EF9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униципальное  бюджетное общеобразовательное учреждение                                   «Разъезженская средняя общеобразовательная школа»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       Ермаковского района   Красноярского кр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ело Разъезжее, улица Новая 2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539640" y="1633680"/>
            <a:ext cx="8209080" cy="4603680"/>
          </a:xfrm>
          <a:prstGeom prst="rect">
            <a:avLst/>
          </a:prstGeom>
          <a:ln w="76320">
            <a:solidFill>
              <a:srgbClr val="66ff33"/>
            </a:solidFill>
            <a:miter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DSC00125"/>
          <p:cNvPicPr/>
          <p:nvPr/>
        </p:nvPicPr>
        <p:blipFill>
          <a:blip r:embed="rId1"/>
          <a:stretch/>
        </p:blipFill>
        <p:spPr>
          <a:xfrm>
            <a:off x="250920" y="981000"/>
            <a:ext cx="4422600" cy="5543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820000" cy="4903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ауреат Международного фестиваля искусств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Имена – 201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типендиат Гл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рмаков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оми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Художест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амодеятельность»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008 год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IMG_8096"/>
          <p:cNvPicPr/>
          <p:nvPr/>
        </p:nvPicPr>
        <p:blipFill>
          <a:blip r:embed="rId1"/>
          <a:stretch/>
        </p:blipFill>
        <p:spPr>
          <a:xfrm>
            <a:off x="2220840" y="1341360"/>
            <a:ext cx="4595760" cy="5327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425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ипендиат Главы Ермаковского района номинац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Спортивная деятельность» - 201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ДОРОВЫЙ ОБРАЗ ЖИЗНИ –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является универсальным средством профилактики заболевания, укрепления и сохран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доровья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7"/>
                </a:solidFill>
                <a:latin typeface="Arial"/>
              </a:rPr>
              <a:t>ЭПИГР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2803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Много есть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с красивой внешностью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которым однак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нечем похвастать внут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Ф. Куп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d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7"/>
                </a:solidFill>
                <a:latin typeface="Arial"/>
              </a:rPr>
              <a:t>МОЙ ДЕВ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1652760"/>
            <a:ext cx="90410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7"/>
                </a:solidFill>
                <a:latin typeface="Arial"/>
              </a:rPr>
              <a:t>Количество соревнований </a:t>
            </a:r>
            <a:br>
              <a:rPr sz="2000"/>
            </a:br>
            <a:r>
              <a:rPr b="1" lang="ru-RU" sz="2000" spc="-1" strike="noStrike">
                <a:solidFill>
                  <a:srgbClr val="fffff7"/>
                </a:solidFill>
                <a:latin typeface="Arial"/>
              </a:rPr>
              <a:t>районного, зонального, краевого,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328680" y="1285920"/>
          <a:ext cx="8923320" cy="47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285920"/>
                    <a:ext cx="892332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S8306539"/>
          <p:cNvPicPr/>
          <p:nvPr/>
        </p:nvPicPr>
        <p:blipFill>
          <a:blip r:embed="rId1"/>
          <a:stretch/>
        </p:blipFill>
        <p:spPr>
          <a:xfrm>
            <a:off x="214200" y="0"/>
            <a:ext cx="3857760" cy="3152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214200" y="2714760"/>
            <a:ext cx="3929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Мини – лапта  п. Курагино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I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место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:\Documents and Settings\8 класс\Рабочий стол\КАБЛУКОВ\евгений\фото обж\фотографии\лыжи 2010 фото\DSC00124.JPG"/>
          <p:cNvPicPr/>
          <p:nvPr/>
        </p:nvPicPr>
        <p:blipFill>
          <a:blip r:embed="rId2"/>
          <a:stretch/>
        </p:blipFill>
        <p:spPr>
          <a:xfrm>
            <a:off x="4357800" y="3357720"/>
            <a:ext cx="4333680" cy="3071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4357800" y="5929200"/>
            <a:ext cx="4357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йонные соревн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о лыжным гонк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Documents and Settings\8 класс\Рабочий стол\КАБЛУКОВ\евгений\фото обж\фотографии\президентские состязания апрель 2009 фото\DSC00028.JPG"/>
          <p:cNvPicPr/>
          <p:nvPr/>
        </p:nvPicPr>
        <p:blipFill>
          <a:blip r:embed="rId3"/>
          <a:stretch/>
        </p:blipFill>
        <p:spPr>
          <a:xfrm>
            <a:off x="142920" y="3357720"/>
            <a:ext cx="4048200" cy="3036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142920" y="5857920"/>
            <a:ext cx="4143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йонные соревнов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езидентские состяз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C:\Documents and Settings\8 класс\Рабочий стол\фото железногорск12\100C1505\100_0393.JPG"/>
          <p:cNvPicPr/>
          <p:nvPr/>
        </p:nvPicPr>
        <p:blipFill>
          <a:blip r:embed="rId4"/>
          <a:stretch/>
        </p:blipFill>
        <p:spPr>
          <a:xfrm>
            <a:off x="4319640" y="0"/>
            <a:ext cx="4467240" cy="3143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4214880" y="2714760"/>
            <a:ext cx="4572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Финал краевых соревнований по баскетболу «Юный олимпиец-2012» -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мес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лавный критерий - ПУЛЬ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дей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) от 220 отнимите возраст в год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б) от полученной цифры отнимите количество ударов своего пульса в пок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) умножьте полученную сумму на 0,6, прибавьте к ней величину пульса в по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а запись выглядит та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20 – 16= 204-72=132х0,6+72=151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51,2 – Индивидуальный тренировочный пуль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5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дивидуальный тренировочный пульс </a:t>
            </a:r>
            <a:br>
              <a:rPr sz="20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блуковой Елиза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907920"/>
          <a:ext cx="8229600" cy="52736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       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Line 126"/>
          <p:cNvSpPr/>
          <p:nvPr/>
        </p:nvSpPr>
        <p:spPr>
          <a:xfrm flipV="1">
            <a:off x="1547640" y="4292640"/>
            <a:ext cx="57636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7"/>
          <p:cNvSpPr/>
          <p:nvPr/>
        </p:nvSpPr>
        <p:spPr>
          <a:xfrm flipV="1">
            <a:off x="2124000" y="371592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8"/>
          <p:cNvSpPr/>
          <p:nvPr/>
        </p:nvSpPr>
        <p:spPr>
          <a:xfrm flipV="1">
            <a:off x="2556000" y="3357720"/>
            <a:ext cx="576000" cy="35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0"/>
          <p:cNvSpPr/>
          <p:nvPr/>
        </p:nvSpPr>
        <p:spPr>
          <a:xfrm flipV="1">
            <a:off x="3132000" y="2708280"/>
            <a:ext cx="21600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1"/>
          <p:cNvSpPr/>
          <p:nvPr/>
        </p:nvSpPr>
        <p:spPr>
          <a:xfrm flipV="1">
            <a:off x="3348000" y="2205000"/>
            <a:ext cx="647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2"/>
          <p:cNvSpPr/>
          <p:nvPr/>
        </p:nvSpPr>
        <p:spPr>
          <a:xfrm flipV="1">
            <a:off x="3995640" y="1557000"/>
            <a:ext cx="50508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3"/>
          <p:cNvSpPr/>
          <p:nvPr/>
        </p:nvSpPr>
        <p:spPr>
          <a:xfrm flipV="1">
            <a:off x="4500720" y="1341360"/>
            <a:ext cx="1425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35"/>
          <p:cNvSpPr/>
          <p:nvPr/>
        </p:nvSpPr>
        <p:spPr>
          <a:xfrm>
            <a:off x="4643280" y="134136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6"/>
          <p:cNvSpPr/>
          <p:nvPr/>
        </p:nvSpPr>
        <p:spPr>
          <a:xfrm>
            <a:off x="4859280" y="1557360"/>
            <a:ext cx="64944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7"/>
          <p:cNvSpPr/>
          <p:nvPr/>
        </p:nvSpPr>
        <p:spPr>
          <a:xfrm>
            <a:off x="5508720" y="1989000"/>
            <a:ext cx="2872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8"/>
          <p:cNvSpPr/>
          <p:nvPr/>
        </p:nvSpPr>
        <p:spPr>
          <a:xfrm flipV="1">
            <a:off x="5796000" y="1557000"/>
            <a:ext cx="43164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9"/>
          <p:cNvSpPr/>
          <p:nvPr/>
        </p:nvSpPr>
        <p:spPr>
          <a:xfrm>
            <a:off x="6227640" y="1557360"/>
            <a:ext cx="720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0"/>
          <p:cNvSpPr/>
          <p:nvPr/>
        </p:nvSpPr>
        <p:spPr>
          <a:xfrm>
            <a:off x="6948360" y="2205000"/>
            <a:ext cx="57636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41"/>
          <p:cNvSpPr/>
          <p:nvPr/>
        </p:nvSpPr>
        <p:spPr>
          <a:xfrm>
            <a:off x="7524720" y="3500280"/>
            <a:ext cx="934920" cy="18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5619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ндивидуальная диагностическая карта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79280" y="1071720"/>
          <a:ext cx="8713800" cy="5526000"/>
        </p:xfrm>
        <a:graphic>
          <a:graphicData uri="http://schemas.openxmlformats.org/drawingml/2006/table">
            <a:tbl>
              <a:tblPr/>
              <a:tblGrid>
                <a:gridCol w="792360"/>
                <a:gridCol w="793800"/>
                <a:gridCol w="790560"/>
                <a:gridCol w="792000"/>
                <a:gridCol w="792360"/>
                <a:gridCol w="792000"/>
                <a:gridCol w="792000"/>
                <a:gridCol w="792360"/>
                <a:gridCol w="790560"/>
                <a:gridCol w="793800"/>
                <a:gridCol w="792000"/>
              </a:tblGrid>
              <a:tr h="1219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ост (с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ес (к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 мет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се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 мет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се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ыжки в выс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с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8-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5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9-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10-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8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79280" y="642960"/>
          <a:ext cx="8750520" cy="5748480"/>
        </p:xfrm>
        <a:graphic>
          <a:graphicData uri="http://schemas.openxmlformats.org/drawingml/2006/table">
            <a:tbl>
              <a:tblPr/>
              <a:tblGrid>
                <a:gridCol w="4964400"/>
                <a:gridCol w="1928520"/>
                <a:gridCol w="714600"/>
                <a:gridCol w="1143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02d1f"/>
                          </a:solidFill>
                          <a:latin typeface="Arial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02d1f"/>
                          </a:solidFill>
                          <a:latin typeface="Arial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02d1f"/>
                          </a:solidFill>
                          <a:latin typeface="Arial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02d1f"/>
                          </a:solidFill>
                          <a:latin typeface="Arial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Первенство края по русской лапте «Юный Олимпиец-2009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Краевой, п. Кураги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Региональный турнир по баскетболу памяти С. Гантими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Региональны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п. Май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3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Финал краевых соревнований по баскетбол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«Школьная спортивная лиг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Краево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г. Краснояр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3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Первенство края по русской лапте «Юный Олимпиец-2010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Краевой, п. Кураги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Первенство края по мини-лапт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Краево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п. Кураги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енство Красноярского края по баскетболу «Оранжевый мяч» в рамках «Юный олимпиец -2011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Краево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г. Краснояр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турнир по баскетбо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Межрайонны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г. Минусин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нские соревнования по баскетбол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Фестиваль баскетб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Республикански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г. Абак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3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льные соревнования по баскетболу среди девушек «Оранжевый мяч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Зональны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п. Кураги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Финал краевых соревнований по баскетбол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«Оранжевый мяч» в рамках «Юный олимпиец-2012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Краево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г. Железногор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81" name="Rectangle 206"/>
          <p:cNvSpPr/>
          <p:nvPr/>
        </p:nvSpPr>
        <p:spPr>
          <a:xfrm>
            <a:off x="1571760" y="0"/>
            <a:ext cx="6786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Каблуковой Елизаве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0:26:27Z</dcterms:created>
  <dc:creator>дом</dc:creator>
  <dc:description/>
  <dc:language>en-US</dc:language>
  <cp:lastModifiedBy>User</cp:lastModifiedBy>
  <dcterms:modified xsi:type="dcterms:W3CDTF">2019-12-11T10:47:08Z</dcterms:modified>
  <cp:revision>75</cp:revision>
  <dc:subject/>
  <dc:title>ЗДОРОВЫЙ ОБРАЗ ЖИЗНИ</dc:title>
</cp:coreProperties>
</file>