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3.jpeg" ContentType="image/jpeg"/>
  <Override PartName="/ppt/media/image8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17.png" ContentType="image/png"/>
  <Override PartName="/ppt/media/image15.jpeg" ContentType="image/jpeg"/>
  <Override PartName="/ppt/media/image19.gif" ContentType="image/gif"/>
  <Override PartName="/ppt/media/image1.png" ContentType="image/png"/>
  <Override PartName="/ppt/media/image24.jpeg" ContentType="image/jpeg"/>
  <Override PartName="/ppt/media/image3.jpeg" ContentType="image/jpeg"/>
  <Override PartName="/ppt/media/image5.jpeg" ContentType="image/jpeg"/>
  <Override PartName="/ppt/media/image2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F7EB-5D23-485D-9CA6-560F82A3D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3880" y="4371840"/>
            <a:ext cx="65116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4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43000" y="2546280"/>
            <a:ext cx="64004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74F4-FAEA-47F5-AE36-979392477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793880" y="4371840"/>
            <a:ext cx="65116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422960" y="254628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B185-04CF-4D7A-8C7E-E9978C40C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93880" y="4371840"/>
            <a:ext cx="65116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43000" y="254628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06960" y="254628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471280" y="254628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197F-6FE0-43F0-AC52-485F0A3D0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10F46-1030-41EF-9D66-49C17FBCF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3880" y="4371840"/>
            <a:ext cx="65116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44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95E35-D667-41FA-8E94-2E4C45341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3880" y="4371840"/>
            <a:ext cx="65116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44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6667C-906B-44D0-BBED-69E4B63C2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3880" y="4371840"/>
            <a:ext cx="65116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3DBA4-44E8-4F5B-898F-308799228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3880" y="4371840"/>
            <a:ext cx="65116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59BAC-BD26-43A2-BE47-D70A4AD45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793880" y="4371840"/>
            <a:ext cx="651168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6070B-50C6-4E5E-A25D-E0B1DAF18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3880" y="4371840"/>
            <a:ext cx="65116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B4CB1-873F-4184-9C96-D5AB3337B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3880" y="4371840"/>
            <a:ext cx="65116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44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D7D3-72BB-49DA-A57E-D53F9BB9C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3880" y="4371840"/>
            <a:ext cx="65116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422960" y="254628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AB2B3-17DD-4476-B90C-21E0CBBE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880" y="4371840"/>
            <a:ext cx="65116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64004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2AD37-F753-48D1-A422-40AFBD2AF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880" y="4371840"/>
            <a:ext cx="65116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4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143000" y="2546280"/>
            <a:ext cx="64004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82480-361F-4C34-A8CA-29B53C077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93880" y="4371840"/>
            <a:ext cx="65116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422960" y="254628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587F7-2411-4474-9DE4-0B11D7F31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880" y="4371840"/>
            <a:ext cx="65116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143000" y="254628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06960" y="254628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471280" y="254628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D98D7-8C00-455E-A05F-EBD4F579A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880" y="4371840"/>
            <a:ext cx="65116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44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630A-0002-4D4B-8623-4B9EF35F3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880" y="4371840"/>
            <a:ext cx="65116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E0BE-4D68-403D-B9A8-7DCD20299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93880" y="4371840"/>
            <a:ext cx="65116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B206-C7A9-492C-877F-098F034D4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793880" y="4371840"/>
            <a:ext cx="651168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6245-516F-47BF-9355-BE2872EAD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880" y="4371840"/>
            <a:ext cx="65116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6F23-56DC-4B4E-8182-EB847F00E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3880" y="4371840"/>
            <a:ext cx="65116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422960" y="254628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FCF5-CD1C-4642-816E-AC6BC981A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93880" y="4371840"/>
            <a:ext cx="65116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64004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B11C-475D-45B4-8735-C55AA58AD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d4ff"/>
            </a:gs>
            <a:gs pos="100000">
              <a:srgbClr val="5bb9ff"/>
            </a:gs>
          </a:gsLst>
          <a:path path="circle">
            <a:fillToRect l="50000" t="25000" r="50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 hidden="1"/>
          <p:cNvSpPr/>
          <p:nvPr/>
        </p:nvSpPr>
        <p:spPr>
          <a:xfrm>
            <a:off x="0" y="5105520"/>
            <a:ext cx="9143640" cy="1752120"/>
          </a:xfrm>
          <a:prstGeom prst="rect">
            <a:avLst/>
          </a:prstGeom>
          <a:gradFill rotWithShape="0">
            <a:gsLst>
              <a:gs pos="0">
                <a:srgbClr val="ffffff">
                  <a:alpha val="91372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1" name="Rectangle 7" hidden="1"/>
          <p:cNvSpPr/>
          <p:nvPr/>
        </p:nvSpPr>
        <p:spPr>
          <a:xfrm>
            <a:off x="0" y="0"/>
            <a:ext cx="9143640" cy="5105160"/>
          </a:xfrm>
          <a:prstGeom prst="rect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2" name="Rectangle 8" hidden="1"/>
          <p:cNvSpPr/>
          <p:nvPr/>
        </p:nvSpPr>
        <p:spPr>
          <a:xfrm>
            <a:off x="0" y="3768840"/>
            <a:ext cx="9143640" cy="2285640"/>
          </a:xfrm>
          <a:prstGeom prst="rect">
            <a:avLst/>
          </a:prstGeom>
          <a:gradFill rotWithShape="0">
            <a:gsLst>
              <a:gs pos="0">
                <a:srgbClr val="b4dcfa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3" name="Oval 9" hidden="1"/>
          <p:cNvSpPr/>
          <p:nvPr/>
        </p:nvSpPr>
        <p:spPr>
          <a:xfrm>
            <a:off x="0" y="1600200"/>
            <a:ext cx="9143640" cy="5105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0" y="3866760"/>
            <a:ext cx="9143640" cy="2990880"/>
          </a:xfrm>
          <a:prstGeom prst="rect">
            <a:avLst/>
          </a:prstGeom>
          <a:gradFill rotWithShape="0">
            <a:gsLst>
              <a:gs pos="0">
                <a:srgbClr val="ffffff">
                  <a:alpha val="91372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0" y="0"/>
            <a:ext cx="9143640" cy="3866400"/>
          </a:xfrm>
          <a:prstGeom prst="rect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6" name="Rectangle 12"/>
          <p:cNvSpPr/>
          <p:nvPr/>
        </p:nvSpPr>
        <p:spPr>
          <a:xfrm>
            <a:off x="0" y="2652840"/>
            <a:ext cx="9143640" cy="2285640"/>
          </a:xfrm>
          <a:prstGeom prst="rect">
            <a:avLst/>
          </a:prstGeom>
          <a:gradFill rotWithShape="0">
            <a:gsLst>
              <a:gs pos="0">
                <a:srgbClr val="b4dcfa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7" name="Oval 13"/>
          <p:cNvSpPr/>
          <p:nvPr/>
        </p:nvSpPr>
        <p:spPr>
          <a:xfrm>
            <a:off x="0" y="1600200"/>
            <a:ext cx="9143640" cy="5105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17560" y="3132360"/>
            <a:ext cx="7175160" cy="17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40080" indent="-457200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5400" spc="-1" strike="noStrike">
                <a:solidFill>
                  <a:srgbClr val="000000"/>
                </a:solidFill>
                <a:latin typeface="Trebuchet MS"/>
              </a:rPr>
              <a:t>Образец заголовка</a:t>
            </a: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dt" idx="1"/>
          </p:nvPr>
        </p:nvSpPr>
        <p:spPr>
          <a:xfrm>
            <a:off x="6172200" y="6172200"/>
            <a:ext cx="25142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1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ru-RU" sz="1100" spc="-1" strike="noStrike">
                <a:solidFill>
                  <a:srgbClr val="808080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ftr" idx="2"/>
          </p:nvPr>
        </p:nvSpPr>
        <p:spPr>
          <a:xfrm>
            <a:off x="457200" y="617220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2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85C1C8C-A430-4B23-B15F-7CA4D518794D}" type="slidenum">
              <a:rPr b="1" lang="ru-RU" sz="12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ru-RU" sz="1600" spc="-1" strike="noStrike">
              <a:solidFill>
                <a:srgbClr val="404040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ru-RU" sz="1400" spc="-1" strike="noStrike">
              <a:solidFill>
                <a:srgbClr val="40404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d4ff"/>
            </a:gs>
            <a:gs pos="100000">
              <a:srgbClr val="5bb9ff"/>
            </a:gs>
          </a:gsLst>
          <a:path path="circle">
            <a:fillToRect l="50000" t="25000" r="50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6"/>
          <p:cNvSpPr/>
          <p:nvPr/>
        </p:nvSpPr>
        <p:spPr>
          <a:xfrm>
            <a:off x="0" y="5105520"/>
            <a:ext cx="9143640" cy="1752120"/>
          </a:xfrm>
          <a:prstGeom prst="rect">
            <a:avLst/>
          </a:prstGeom>
          <a:gradFill rotWithShape="0">
            <a:gsLst>
              <a:gs pos="0">
                <a:srgbClr val="ffffff">
                  <a:alpha val="91372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0"/>
            <a:ext cx="9143640" cy="5105160"/>
          </a:xfrm>
          <a:prstGeom prst="rect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0" y="3768840"/>
            <a:ext cx="9143640" cy="2285640"/>
          </a:xfrm>
          <a:prstGeom prst="rect">
            <a:avLst/>
          </a:prstGeom>
          <a:gradFill rotWithShape="0">
            <a:gsLst>
              <a:gs pos="0">
                <a:srgbClr val="b4dcfa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52" name="Oval 9"/>
          <p:cNvSpPr/>
          <p:nvPr/>
        </p:nvSpPr>
        <p:spPr>
          <a:xfrm>
            <a:off x="0" y="1600200"/>
            <a:ext cx="9143640" cy="5105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3880" y="4371840"/>
            <a:ext cx="651168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18960" indent="-318960" algn="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4600" spc="-1" strike="noStrike">
                <a:solidFill>
                  <a:srgbClr val="000000"/>
                </a:solidFill>
                <a:latin typeface="Trebuchet MS"/>
              </a:rPr>
              <a:t>Образец заголовка</a:t>
            </a:r>
            <a:endParaRPr b="0" lang="ru-RU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440" cy="3474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28600" indent="-182520">
              <a:lnSpc>
                <a:spcPct val="100000"/>
              </a:lnSpc>
              <a:spcBef>
                <a:spcPts val="43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Образец текста</a:t>
            </a: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Второй уровень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lnSpc>
                <a:spcPct val="100000"/>
              </a:lnSpc>
              <a:spcBef>
                <a:spcPts val="36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Третий уровень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lnSpc>
                <a:spcPct val="100000"/>
              </a:lnSpc>
              <a:spcBef>
                <a:spcPts val="32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Четвертый уровень</a:t>
            </a:r>
            <a:endParaRPr b="0" lang="ru-RU" sz="16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520">
              <a:lnSpc>
                <a:spcPct val="100000"/>
              </a:lnSpc>
              <a:spcBef>
                <a:spcPts val="28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Пятый уровень</a:t>
            </a:r>
            <a:endParaRPr b="0" lang="ru-RU" sz="1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172200" y="6172200"/>
            <a:ext cx="25142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1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ru-RU" sz="1100" spc="-1" strike="noStrike">
                <a:solidFill>
                  <a:srgbClr val="808080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457200" y="617220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2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55CFF3F-7A2D-4D3C-B3D9-4D8B3C080137}" type="slidenum">
              <a:rPr b="1" lang="ru-RU" sz="12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060000" y="2607480"/>
            <a:ext cx="5540040" cy="1944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algn="ctr">
              <a:lnSpc>
                <a:spcPct val="95000"/>
              </a:lnSpc>
              <a:spcBef>
                <a:spcPts val="1179"/>
              </a:spcBef>
              <a:spcAft>
                <a:spcPts val="1001"/>
              </a:spcAft>
              <a:tabLst>
                <a:tab algn="l" pos="0"/>
              </a:tabLst>
            </a:pPr>
            <a:r>
              <a:rPr b="1" lang="ru-RU" sz="5900" spc="-1" strike="noStrike">
                <a:solidFill>
                  <a:srgbClr val="ff0000"/>
                </a:solidFill>
                <a:latin typeface="Times New Roman"/>
              </a:rPr>
              <a:t>Георгиевская ленточка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4" descr=""/>
          <p:cNvPicPr/>
          <p:nvPr/>
        </p:nvPicPr>
        <p:blipFill>
          <a:blip r:embed="rId1"/>
          <a:stretch/>
        </p:blipFill>
        <p:spPr>
          <a:xfrm>
            <a:off x="0" y="127080"/>
            <a:ext cx="4303440" cy="3452400"/>
          </a:xfrm>
          <a:prstGeom prst="rect">
            <a:avLst/>
          </a:prstGeom>
          <a:ln w="9525">
            <a:noFill/>
          </a:ln>
        </p:spPr>
      </p:pic>
      <p:pic>
        <p:nvPicPr>
          <p:cNvPr id="96" name="Рисунок 3" descr=""/>
          <p:cNvPicPr/>
          <p:nvPr/>
        </p:nvPicPr>
        <p:blipFill>
          <a:blip r:embed="rId2"/>
          <a:stretch/>
        </p:blipFill>
        <p:spPr>
          <a:xfrm>
            <a:off x="108000" y="3579840"/>
            <a:ext cx="3462120" cy="2784240"/>
          </a:xfrm>
          <a:prstGeom prst="rect">
            <a:avLst/>
          </a:prstGeom>
          <a:ln w="9525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3880" y="4371840"/>
            <a:ext cx="651168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1" lang="ru-RU" sz="4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260280"/>
            <a:ext cx="8496000" cy="3239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 fontScale="97000"/>
          </a:bodyPr>
          <a:p>
            <a:pPr marL="44280" indent="0" algn="ctr">
              <a:lnSpc>
                <a:spcPct val="100000"/>
              </a:lnSpc>
              <a:spcBef>
                <a:spcPts val="479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Новая жизнь ленточки началась в 2005 году. Тогда было положено начало проведению ежегодных акций по раздаче георгиевских ленточек, приуроченных к празднованию годовщины победы над фашистской Германией. Миллионы людей во многих странах мира в период с 24 апреля по 12 мая носят на груди Георгиевские ленточки, отдавая дань памяти мужеству солдат и офицеров, павших на полях той войны.</a:t>
            </a:r>
            <a:endParaRPr b="0" lang="ru-RU" sz="24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spcAft>
                <a:spcPts val="300"/>
              </a:spcAft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21" name="Рисунок 4" descr=""/>
          <p:cNvPicPr/>
          <p:nvPr/>
        </p:nvPicPr>
        <p:blipFill>
          <a:blip r:embed="rId1"/>
          <a:stretch/>
        </p:blipFill>
        <p:spPr>
          <a:xfrm>
            <a:off x="1258920" y="3429000"/>
            <a:ext cx="6625800" cy="3312720"/>
          </a:xfrm>
          <a:prstGeom prst="rect">
            <a:avLst/>
          </a:prstGeom>
          <a:ln w="9525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880" y="4371840"/>
            <a:ext cx="651168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1" lang="ru-RU" sz="4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23" name="Объект 3" descr=""/>
          <p:cNvPicPr/>
          <p:nvPr/>
        </p:nvPicPr>
        <p:blipFill>
          <a:blip r:embed="rId1"/>
          <a:stretch/>
        </p:blipFill>
        <p:spPr>
          <a:xfrm>
            <a:off x="4572000" y="738360"/>
            <a:ext cx="4358880" cy="5279760"/>
          </a:xfrm>
          <a:prstGeom prst="rect">
            <a:avLst/>
          </a:prstGeom>
          <a:ln w="9525">
            <a:noFill/>
          </a:ln>
        </p:spPr>
      </p:pic>
      <p:pic>
        <p:nvPicPr>
          <p:cNvPr id="124" name="Рисунок 4" descr=""/>
          <p:cNvPicPr/>
          <p:nvPr/>
        </p:nvPicPr>
        <p:blipFill>
          <a:blip r:embed="rId2"/>
          <a:stretch/>
        </p:blipFill>
        <p:spPr>
          <a:xfrm>
            <a:off x="179280" y="836640"/>
            <a:ext cx="4105080" cy="5103360"/>
          </a:xfrm>
          <a:prstGeom prst="rect">
            <a:avLst/>
          </a:prstGeom>
          <a:ln w="9525">
            <a:noFill/>
          </a:ln>
        </p:spPr>
      </p:pic>
    </p:spTree>
  </p:cSld>
  <p:transition spd="slow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93880" y="4371840"/>
            <a:ext cx="651168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1" lang="ru-RU" sz="4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26" name="Объект 3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8135640" cy="5544720"/>
          </a:xfrm>
          <a:prstGeom prst="rect">
            <a:avLst/>
          </a:prstGeom>
          <a:ln w="9525">
            <a:noFill/>
          </a:ln>
        </p:spPr>
      </p:pic>
    </p:spTree>
  </p:cSld>
  <p:transition spd="slow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880" y="4371840"/>
            <a:ext cx="651168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1" lang="ru-RU" sz="4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28" name="Объект 3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496000" cy="4895640"/>
          </a:xfrm>
          <a:prstGeom prst="rect">
            <a:avLst/>
          </a:prstGeom>
          <a:ln w="9525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07640" y="260640"/>
            <a:ext cx="3600000" cy="3474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46080" indent="0">
              <a:lnSpc>
                <a:spcPct val="100000"/>
              </a:lnSpc>
              <a:spcBef>
                <a:spcPts val="320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Исследуя информированность учащихся школы-интернат, нами был проведён опрос среди учащихся 1, 2, 3 и 4-х классов, входе которого были заданы следующие вопросы:</a:t>
            </a:r>
            <a:endParaRPr b="0" lang="ru-RU" sz="1600" spc="-1" strike="noStrike">
              <a:solidFill>
                <a:srgbClr val="404040"/>
              </a:solidFill>
              <a:latin typeface="Trebuchet MS"/>
            </a:endParaRPr>
          </a:p>
          <a:p>
            <a:pPr marL="46080" indent="0">
              <a:lnSpc>
                <a:spcPct val="100000"/>
              </a:lnSpc>
              <a:spcBef>
                <a:spcPts val="439"/>
              </a:spcBef>
              <a:spcAft>
                <a:spcPts val="300"/>
              </a:spcAft>
              <a:buNone/>
              <a:tabLst>
                <a:tab algn="l" pos="0"/>
              </a:tabLst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graphicFrame>
        <p:nvGraphicFramePr>
          <p:cNvPr id="130" name="Таблица 3"/>
          <p:cNvGraphicFramePr/>
          <p:nvPr/>
        </p:nvGraphicFramePr>
        <p:xfrm>
          <a:off x="4140000" y="3600"/>
          <a:ext cx="4392000" cy="7906680"/>
        </p:xfrm>
        <a:graphic>
          <a:graphicData uri="http://schemas.openxmlformats.org/drawingml/2006/table">
            <a:tbl>
              <a:tblPr/>
              <a:tblGrid>
                <a:gridCol w="304920"/>
                <a:gridCol w="2189880"/>
                <a:gridCol w="1897200"/>
              </a:tblGrid>
              <a:tr h="518040">
                <a:tc>
                  <a:txBody>
                    <a:bodyPr lIns="30960" rIns="30960" tIns="30960" bIns="3096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74"/>
                        </a:spcBef>
                        <a:spcAft>
                          <a:spcPts val="74"/>
                        </a:spcAft>
                      </a:pPr>
                      <a:r>
                        <a:rPr b="1" lang="ru-RU" sz="10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№ </a:t>
                      </a:r>
                      <a:r>
                        <a:rPr b="1" lang="ru-RU" sz="10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п/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30960" rIns="30960" tIns="30960" bIns="3096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74"/>
                        </a:spcBef>
                        <a:spcAft>
                          <a:spcPts val="74"/>
                        </a:spcAft>
                      </a:pPr>
                      <a:r>
                        <a:rPr b="1" lang="ru-RU" sz="10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Вопрос анкет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320" rIns="4320" tIns="4320" bIns="432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74"/>
                        </a:spcBef>
                        <a:spcAft>
                          <a:spcPts val="74"/>
                        </a:spcAft>
                      </a:pPr>
                      <a:r>
                        <a:rPr b="1" lang="ru-RU" sz="10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Ответ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43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72680">
                <a:tc>
                  <a:txBody>
                    <a:bodyPr lIns="30960" rIns="4320" tIns="4320" bIns="432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74"/>
                        </a:spcBef>
                        <a:spcAft>
                          <a:spcPts val="74"/>
                        </a:spcAft>
                      </a:pPr>
                      <a:r>
                        <a:rPr b="1" lang="ru-RU" sz="10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43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30960" rIns="4320" tIns="4320" bIns="432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74"/>
                        </a:spcBef>
                        <a:spcAft>
                          <a:spcPts val="74"/>
                        </a:spcAft>
                      </a:pPr>
                      <a:r>
                        <a:rPr b="1" lang="ru-RU" sz="10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Знаешь ли ты символом чего является георгиевская ленточка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43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320" rIns="4320" tIns="4320" bIns="432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74"/>
                        </a:spcBef>
                        <a:spcAft>
                          <a:spcPts val="74"/>
                        </a:spcAft>
                      </a:pPr>
                      <a:r>
                        <a:rPr b="1" lang="ru-RU" sz="10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Да - 20 чел. Нет -  20 чел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43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472680">
                <a:tc>
                  <a:txBody>
                    <a:bodyPr lIns="30960" rIns="4320" tIns="4320" bIns="432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1" lang="ru-RU" sz="10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43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30960" rIns="4320" tIns="4320" bIns="432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1" lang="ru-RU" sz="10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В честь какого праздника её придумали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43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af5"/>
                    </a:solidFill>
                  </a:tcPr>
                </a:tc>
                <a:tc>
                  <a:txBody>
                    <a:bodyPr lIns="4320" rIns="4320" tIns="4320" bIns="432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1" lang="ru-RU" sz="10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9 Мая День Победы – 23 чел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</a:pPr>
                      <a:r>
                        <a:rPr b="1" lang="ru-RU" sz="10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Не знаю – 18 чел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43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af5"/>
                    </a:solidFill>
                  </a:tcPr>
                </a:tc>
              </a:tr>
              <a:tr h="705240">
                <a:tc>
                  <a:txBody>
                    <a:bodyPr lIns="30960" rIns="4320" tIns="4320" bIns="432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1" lang="ru-RU" sz="10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43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30960" rIns="4320" tIns="4320" bIns="432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1" lang="ru-RU" sz="10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Как она выглядит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43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320" rIns="4320" tIns="4320" bIns="432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1" lang="ru-RU" sz="10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Оранжевая в черную полоску – 42 чел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</a:pPr>
                      <a:r>
                        <a:rPr b="1" lang="ru-RU" sz="10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Точно не знаю – 0 чел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43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472680">
                <a:tc>
                  <a:txBody>
                    <a:bodyPr lIns="30960" rIns="4320" tIns="4320" bIns="432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1" lang="ru-RU" sz="10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43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30960" rIns="4320" tIns="4320" bIns="432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1" lang="ru-RU" sz="10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Ты хотел бы носить георгиевскую ленточку 9 мая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43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af5"/>
                    </a:solidFill>
                  </a:tcPr>
                </a:tc>
                <a:tc>
                  <a:txBody>
                    <a:bodyPr lIns="4320" rIns="4320" tIns="4320" bIns="432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1" lang="ru-RU" sz="10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Да- 40 чел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</a:pPr>
                      <a:r>
                        <a:rPr b="1" lang="ru-RU" sz="10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Нет – -0 чел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43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af5"/>
                    </a:solidFill>
                  </a:tcPr>
                </a:tc>
              </a:tr>
              <a:tr h="1170720">
                <a:tc>
                  <a:txBody>
                    <a:bodyPr lIns="30960" rIns="4320" tIns="4320" bIns="432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1" lang="ru-RU" sz="10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43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30960" rIns="4320" tIns="4320" bIns="432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1" lang="ru-RU" sz="10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Почему вы хотели бы ее носить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43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320" rIns="4320" tIns="4320" bIns="432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1" lang="ru-RU" sz="10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Нравится – 4 чел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</a:pPr>
                      <a:r>
                        <a:rPr b="1" lang="ru-RU" sz="10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Красивая – 0 чел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</a:pPr>
                      <a:r>
                        <a:rPr b="1" lang="ru-RU" sz="10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Не знаю – 0 чел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</a:pPr>
                      <a:r>
                        <a:rPr b="1" lang="ru-RU" sz="10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Она символизирует праздник – 40 чел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43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472680">
                <a:tc>
                  <a:txBody>
                    <a:bodyPr lIns="30960" rIns="4320" tIns="4320" bIns="432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1" lang="ru-RU" sz="10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43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30960" rIns="4320" tIns="4320" bIns="432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1" lang="ru-RU" sz="10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Если не носите, почему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43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af5"/>
                    </a:solidFill>
                  </a:tcPr>
                </a:tc>
                <a:tc>
                  <a:txBody>
                    <a:bodyPr lIns="4320" rIns="4320" tIns="4320" bIns="432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1" lang="ru-RU" sz="10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У меня ее нет- 0 чел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</a:pPr>
                      <a:r>
                        <a:rPr b="1" lang="ru-RU" sz="10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Не знаю – 0 чел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43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af5"/>
                    </a:solidFill>
                  </a:tcPr>
                </a:tc>
              </a:tr>
              <a:tr h="472680">
                <a:tc>
                  <a:txBody>
                    <a:bodyPr lIns="30960" rIns="4320" tIns="4320" bIns="432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1" lang="ru-RU" sz="10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43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30960" rIns="4320" tIns="4320" bIns="432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1" lang="ru-RU" sz="10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Ваши родители повязывают георгиевскую ленточку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43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320" rIns="4320" tIns="4320" bIns="432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1" lang="ru-RU" sz="10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Да – 32чел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</a:pPr>
                      <a:r>
                        <a:rPr b="1" lang="ru-RU" sz="10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Нет - 12 чел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43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705240">
                <a:tc>
                  <a:txBody>
                    <a:bodyPr lIns="30960" rIns="4320" tIns="4320" bIns="432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1" lang="ru-RU" sz="10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43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30960" rIns="4320" tIns="4320" bIns="432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1" lang="ru-RU" sz="10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Куда прикрепляют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43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af5"/>
                    </a:solidFill>
                  </a:tcPr>
                </a:tc>
                <a:tc>
                  <a:txBody>
                    <a:bodyPr lIns="4320" rIns="4320" tIns="4320" bIns="432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1" lang="ru-RU" sz="10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На грудь- 40 чел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</a:pPr>
                      <a:r>
                        <a:rPr b="1" lang="ru-RU" sz="10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На машину -3 чел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</a:pPr>
                      <a:r>
                        <a:rPr b="1" lang="ru-RU" sz="10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На велосипед – 2 че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43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af5"/>
                    </a:solidFill>
                  </a:tcPr>
                </a:tc>
              </a:tr>
              <a:tr h="705240">
                <a:tc>
                  <a:txBody>
                    <a:bodyPr lIns="30960" rIns="4320" tIns="4320" bIns="432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1" lang="ru-RU" sz="10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43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30960" rIns="4320" tIns="4320" bIns="432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1" lang="ru-RU" sz="10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Можно ли эту ленту купить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43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320" rIns="4320" tIns="4320" bIns="432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1" lang="ru-RU" sz="10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Да – 40 чел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</a:pPr>
                      <a:r>
                        <a:rPr b="1" lang="ru-RU" sz="10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Нет – 2 чел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</a:pPr>
                      <a:r>
                        <a:rPr b="1" lang="ru-RU" sz="10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Не знаю – 0 чел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43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472680">
                <a:tc>
                  <a:txBody>
                    <a:bodyPr lIns="30960" rIns="4320" tIns="4320" bIns="432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1" lang="ru-RU" sz="10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43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30960" rIns="4320" tIns="4320" bIns="432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1" lang="ru-RU" sz="10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Ты хотел бы узнать об истории георгиевской ленты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43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af5"/>
                    </a:solidFill>
                  </a:tcPr>
                </a:tc>
                <a:tc>
                  <a:txBody>
                    <a:bodyPr lIns="4320" rIns="4320" tIns="4320" bIns="432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1" lang="ru-RU" sz="10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Да- 67 чел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</a:pPr>
                      <a:r>
                        <a:rPr b="1" lang="ru-RU" sz="10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Затрудняюсь ответить – 4 чел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43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af5"/>
                    </a:solidFill>
                  </a:tcPr>
                </a:tc>
              </a:tr>
            </a:tbl>
          </a:graphicData>
        </a:graphic>
      </p:graphicFrame>
      <p:sp>
        <p:nvSpPr>
          <p:cNvPr id="131" name="Прямоугольник 4"/>
          <p:cNvSpPr/>
          <p:nvPr/>
        </p:nvSpPr>
        <p:spPr>
          <a:xfrm>
            <a:off x="109080" y="2133000"/>
            <a:ext cx="3671640" cy="45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Подведя итог проведённому опросу, ситуация с георгиевской ленточкой в нашей школе обстоит следующим образом.  Большая часть учащихся 1, 2, 3 – 4-х классов знают, как выглядит Георгиевская ленточка, и хотели бы ее носить - 99% учащихся. У большинства учеников родители участвуют в акции «Георгиевская ленточка». Есть среди учащихся те, которые неправильно ее носят или не знают, как правильно это делать – 11% опрошенны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3880" y="4371840"/>
            <a:ext cx="651168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1" lang="ru-RU" sz="4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33" name="Объект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9143640" cy="6825960"/>
          </a:xfrm>
          <a:prstGeom prst="rect">
            <a:avLst/>
          </a:prstGeom>
          <a:ln w="9525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880" y="4371840"/>
            <a:ext cx="651168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1" lang="ru-RU" sz="4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35" name="Объект 3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8640360" cy="6192360"/>
          </a:xfrm>
          <a:prstGeom prst="rect">
            <a:avLst/>
          </a:prstGeom>
          <a:ln w="9525">
            <a:noFill/>
          </a:ln>
        </p:spPr>
      </p:pic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880" y="4371840"/>
            <a:ext cx="651168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1" lang="ru-RU" sz="4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37" name="Объект 5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8208720" cy="5825880"/>
          </a:xfrm>
          <a:prstGeom prst="rect">
            <a:avLst/>
          </a:prstGeom>
          <a:ln w="9525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93880" y="4371840"/>
            <a:ext cx="651168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1" lang="ru-RU" sz="4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39" name="Объект 3" descr=""/>
          <p:cNvPicPr/>
          <p:nvPr/>
        </p:nvPicPr>
        <p:blipFill>
          <a:blip r:embed="rId1"/>
          <a:stretch/>
        </p:blipFill>
        <p:spPr>
          <a:xfrm>
            <a:off x="1116000" y="836640"/>
            <a:ext cx="7191000" cy="5003280"/>
          </a:xfrm>
          <a:prstGeom prst="rect">
            <a:avLst/>
          </a:prstGeom>
          <a:ln w="9525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880" y="4371840"/>
            <a:ext cx="651168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1" lang="ru-RU" sz="4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41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11640" y="731520"/>
            <a:ext cx="7776360" cy="3474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46080" indent="0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rebuchet MS"/>
              </a:rPr>
              <a:t>Цель: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нашей исследовательской работы 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marL="46080" indent="0">
              <a:lnSpc>
                <a:spcPct val="100000"/>
              </a:lnSpc>
              <a:spcBef>
                <a:spcPts val="479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rebuchet MS"/>
              </a:rPr>
              <a:t>«Появления и значения «Георгиевской ленточки» - как символа Победы.»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rebuchet MS"/>
              </a:rPr>
              <a:t> </a:t>
            </a:r>
            <a:endParaRPr b="0" lang="ru-RU" sz="2400" spc="-1" strike="noStrike">
              <a:solidFill>
                <a:srgbClr val="404040"/>
              </a:solidFill>
              <a:latin typeface="Trebuchet MS"/>
            </a:endParaRPr>
          </a:p>
          <a:p>
            <a:pPr marL="46080" indent="0">
              <a:lnSpc>
                <a:spcPct val="100000"/>
              </a:lnSpc>
              <a:spcBef>
                <a:spcPts val="479"/>
              </a:spcBef>
              <a:spcAft>
                <a:spcPts val="300"/>
              </a:spcAft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404040"/>
              </a:solidFill>
              <a:latin typeface="Trebuchet MS"/>
            </a:endParaRPr>
          </a:p>
          <a:p>
            <a:pPr marL="46080" indent="0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rebuchet MS"/>
              </a:rPr>
              <a:t>Объект исследования –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rebuchet MS"/>
              </a:rPr>
              <a:t>Символ Победы Великой Отечественной Войны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marL="46080" indent="0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rebuchet MS"/>
              </a:rPr>
              <a:t>Предмет исследования-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rebuchet MS"/>
              </a:rPr>
              <a:t>«Георгиевская ленточка»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marL="46080" indent="0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В связи с целью решить следующие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rebuchet MS"/>
              </a:rPr>
              <a:t>задачи: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marL="46080" indent="0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изучить необходимую информацию об истории возникновения символа «Георгиевская лента»;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marL="46080" indent="0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выяснить, что такое общественная акция «Георгиевская ленточка»;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marL="46080" indent="0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провести опрос среди учащихся нашей школы с целью понять, что они знают о данном символе;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marL="46080" indent="0">
              <a:lnSpc>
                <a:spcPct val="100000"/>
              </a:lnSpc>
              <a:spcBef>
                <a:spcPts val="439"/>
              </a:spcBef>
              <a:spcAft>
                <a:spcPts val="300"/>
              </a:spcAft>
              <a:buNone/>
              <a:tabLst>
                <a:tab algn="l" pos="0"/>
              </a:tabLst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116000" y="115920"/>
            <a:ext cx="6400440" cy="4536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marL="45720" indent="0" algn="ctr">
              <a:lnSpc>
                <a:spcPct val="100000"/>
              </a:lnSpc>
              <a:spcBef>
                <a:spcPts val="1440"/>
              </a:spcBef>
              <a:spcAft>
                <a:spcPts val="300"/>
              </a:spcAft>
              <a:buNone/>
              <a:tabLst>
                <a:tab algn="l" pos="0"/>
              </a:tabLst>
            </a:pPr>
            <a:endParaRPr b="0" lang="ru-RU" sz="7200" spc="-1" strike="noStrike">
              <a:solidFill>
                <a:srgbClr val="404040"/>
              </a:solidFill>
              <a:latin typeface="Trebuchet MS"/>
            </a:endParaRPr>
          </a:p>
          <a:p>
            <a:pPr marL="45720" indent="0" algn="ctr">
              <a:lnSpc>
                <a:spcPct val="100000"/>
              </a:lnSpc>
              <a:spcBef>
                <a:spcPts val="1440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0" i="1" lang="ru-RU" sz="7200" spc="-1" strike="noStrike">
                <a:solidFill>
                  <a:srgbClr val="ff0000"/>
                </a:solidFill>
                <a:latin typeface="Trebuchet MS"/>
              </a:rPr>
              <a:t>СПАСИБО ЗА ВНИМАНИЕ!!!</a:t>
            </a:r>
            <a:endParaRPr b="0" lang="ru-RU" sz="7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43" name="Рисунок 1" descr=""/>
          <p:cNvPicPr/>
          <p:nvPr/>
        </p:nvPicPr>
        <p:blipFill>
          <a:blip r:embed="rId1"/>
          <a:stretch/>
        </p:blipFill>
        <p:spPr>
          <a:xfrm>
            <a:off x="1332000" y="4503600"/>
            <a:ext cx="6095520" cy="2133360"/>
          </a:xfrm>
          <a:prstGeom prst="rect">
            <a:avLst/>
          </a:prstGeom>
          <a:ln w="9525">
            <a:noFill/>
          </a:ln>
        </p:spPr>
      </p:pic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880" y="4371840"/>
            <a:ext cx="651168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1" lang="ru-RU" sz="4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45" name="Объект 5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8283240" cy="6036840"/>
          </a:xfrm>
          <a:prstGeom prst="rect">
            <a:avLst/>
          </a:prstGeom>
          <a:ln w="9525">
            <a:noFill/>
          </a:ln>
        </p:spPr>
      </p:pic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3880" y="4371840"/>
            <a:ext cx="651168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1" lang="ru-RU" sz="4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47" name="Объект 3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424360" cy="5976720"/>
          </a:xfrm>
          <a:prstGeom prst="rect">
            <a:avLst/>
          </a:prstGeom>
          <a:ln w="9525">
            <a:noFill/>
          </a:ln>
        </p:spPr>
      </p:pic>
    </p:spTree>
  </p:cSld>
  <p:transition spd="slow"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880" y="4371840"/>
            <a:ext cx="651168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1" lang="ru-RU" sz="4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49" name="Объект 3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456400" cy="5454360"/>
          </a:xfrm>
          <a:prstGeom prst="rect">
            <a:avLst/>
          </a:prstGeom>
          <a:ln w="9525">
            <a:noFill/>
          </a:ln>
        </p:spPr>
      </p:pic>
    </p:spTree>
  </p:cSld>
  <p:transition spd="slow">
    <p:wheel spokes="1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3880" y="4371840"/>
            <a:ext cx="651168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1" lang="ru-RU" sz="4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51" name="Объект 5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8064000" cy="6076440"/>
          </a:xfrm>
          <a:prstGeom prst="rect">
            <a:avLst/>
          </a:prstGeom>
          <a:ln w="9525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3880" y="4371840"/>
            <a:ext cx="651168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1" lang="ru-RU" sz="4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0" y="333360"/>
            <a:ext cx="4320720" cy="5832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46080" indent="0">
              <a:lnSpc>
                <a:spcPct val="100000"/>
              </a:lnSpc>
              <a:spcBef>
                <a:spcPts val="561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Известно, что история появления георгиевской ленточки начинается</a:t>
            </a:r>
            <a:endParaRPr b="0" lang="ru-RU" sz="2800" spc="-1" strike="noStrike">
              <a:solidFill>
                <a:srgbClr val="404040"/>
              </a:solidFill>
              <a:latin typeface="Trebuchet MS"/>
            </a:endParaRPr>
          </a:p>
          <a:p>
            <a:pPr marL="46080" indent="0">
              <a:lnSpc>
                <a:spcPct val="100000"/>
              </a:lnSpc>
              <a:spcBef>
                <a:spcPts val="561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еще в далеком XVIII веке, а именно 26 ноября 1769 года. Когда Екатерина II</a:t>
            </a:r>
            <a:endParaRPr b="0" lang="ru-RU" sz="2800" spc="-1" strike="noStrike">
              <a:solidFill>
                <a:srgbClr val="404040"/>
              </a:solidFill>
              <a:latin typeface="Trebuchet MS"/>
            </a:endParaRPr>
          </a:p>
          <a:p>
            <a:pPr marL="46080" indent="0">
              <a:lnSpc>
                <a:spcPct val="100000"/>
              </a:lnSpc>
              <a:spcBef>
                <a:spcPts val="561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учредила орден Святого Георгия Победоносца. В этом году исполняется 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rebuchet MS"/>
              </a:rPr>
              <a:t>250 лет со дня </a:t>
            </a:r>
            <a:endParaRPr b="0" lang="ru-RU" sz="2800" spc="-1" strike="noStrike">
              <a:solidFill>
                <a:srgbClr val="404040"/>
              </a:solidFill>
              <a:latin typeface="Trebuchet MS"/>
            </a:endParaRPr>
          </a:p>
          <a:p>
            <a:pPr marL="46080" indent="0">
              <a:lnSpc>
                <a:spcPct val="100000"/>
              </a:lnSpc>
              <a:spcBef>
                <a:spcPts val="561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rebuchet MS"/>
              </a:rPr>
              <a:t>учреждения Ордена </a:t>
            </a:r>
            <a:endParaRPr b="0" lang="ru-RU" sz="2800" spc="-1" strike="noStrike">
              <a:solidFill>
                <a:srgbClr val="404040"/>
              </a:solidFill>
              <a:latin typeface="Trebuchet MS"/>
            </a:endParaRPr>
          </a:p>
          <a:p>
            <a:pPr marL="46080" indent="0">
              <a:lnSpc>
                <a:spcPct val="100000"/>
              </a:lnSpc>
              <a:spcBef>
                <a:spcPts val="561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rebuchet MS"/>
              </a:rPr>
              <a:t>Святого Георгия</a:t>
            </a: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ru-RU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00" name="Рисунок 5" descr=""/>
          <p:cNvPicPr/>
          <p:nvPr/>
        </p:nvPicPr>
        <p:blipFill>
          <a:blip r:embed="rId1"/>
          <a:stretch/>
        </p:blipFill>
        <p:spPr>
          <a:xfrm>
            <a:off x="611280" y="692280"/>
            <a:ext cx="3773520" cy="5040720"/>
          </a:xfrm>
          <a:prstGeom prst="rect">
            <a:avLst/>
          </a:prstGeom>
          <a:ln w="9525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868000" y="4437000"/>
            <a:ext cx="26640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Екатерина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с орденом Святого Великомученика и Победоносца Георгия</a:t>
            </a: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Объект 4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4679640" cy="6198840"/>
          </a:xfrm>
          <a:prstGeom prst="rect">
            <a:avLst/>
          </a:prstGeom>
          <a:ln w="9525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3640" y="4797000"/>
            <a:ext cx="8496720" cy="13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вый георгиевский кавалер, донской казак Кузьма Крючков, получил Георгиевский крест, за то что он убил один 11 немцев и получивший 16 ран, во время Первой Мировой войны (1914-1918гг.)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Объект 3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338680" cy="4103280"/>
          </a:xfrm>
          <a:prstGeom prst="rect">
            <a:avLst/>
          </a:prstGeom>
          <a:ln w="9525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3880" y="4371840"/>
            <a:ext cx="651168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1" lang="ru-RU" sz="4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1280" y="549360"/>
            <a:ext cx="6400440" cy="3472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marL="45720" indent="0">
              <a:lnSpc>
                <a:spcPct val="100000"/>
              </a:lnSpc>
              <a:spcBef>
                <a:spcPts val="479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«…Мы чтим твой подвиг, как героя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И будем чтить его, - пока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Есть на Руси войско Донское, -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И жив дух мощный казака.»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(«Герою казаку Крючкову» Ф.И.Шестаков, ДОВ, 13.09.1914)</a:t>
            </a:r>
            <a:endParaRPr b="0" lang="ru-RU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439"/>
              </a:spcBef>
              <a:spcAft>
                <a:spcPts val="300"/>
              </a:spcAft>
              <a:buNone/>
              <a:tabLst>
                <a:tab algn="l" pos="0"/>
              </a:tabLst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07" name="Рисунок 3" descr=""/>
          <p:cNvPicPr/>
          <p:nvPr/>
        </p:nvPicPr>
        <p:blipFill>
          <a:blip r:embed="rId1"/>
          <a:stretch/>
        </p:blipFill>
        <p:spPr>
          <a:xfrm>
            <a:off x="6227640" y="333360"/>
            <a:ext cx="2549160" cy="3744720"/>
          </a:xfrm>
          <a:prstGeom prst="rect">
            <a:avLst/>
          </a:prstGeom>
          <a:ln w="9525">
            <a:noFill/>
          </a:ln>
        </p:spPr>
      </p:pic>
      <p:pic>
        <p:nvPicPr>
          <p:cNvPr id="108" name="Рисунок 4" descr=""/>
          <p:cNvPicPr/>
          <p:nvPr/>
        </p:nvPicPr>
        <p:blipFill>
          <a:blip r:embed="rId2"/>
          <a:stretch/>
        </p:blipFill>
        <p:spPr>
          <a:xfrm>
            <a:off x="611280" y="2900520"/>
            <a:ext cx="2881080" cy="3881160"/>
          </a:xfrm>
          <a:prstGeom prst="rect">
            <a:avLst/>
          </a:prstGeom>
          <a:ln w="9525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93880" y="4371840"/>
            <a:ext cx="651168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1" lang="ru-RU" sz="4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4000" y="260280"/>
            <a:ext cx="8280000" cy="3474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marL="45720" indent="0" algn="ctr">
              <a:lnSpc>
                <a:spcPct val="100000"/>
              </a:lnSpc>
              <a:spcBef>
                <a:spcPts val="479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осле распада Российской Империи, цвета ленты украшали колодки орденов Славы и медалей "За победу над Германией в Великой Отечественной войне 1941-1945 гг". В годы Великой Отечественной войны, претерпев незначительные изменения, "Георгиевская лента" была официально оформлена в наградной системе СССР в качестве особого знака отличия.</a:t>
            </a:r>
            <a:endParaRPr b="0" lang="ru-RU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439"/>
              </a:spcBef>
              <a:spcAft>
                <a:spcPts val="300"/>
              </a:spcAft>
              <a:buNone/>
              <a:tabLst>
                <a:tab algn="l" pos="0"/>
              </a:tabLst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11" name="Рисунок 3" descr=""/>
          <p:cNvPicPr/>
          <p:nvPr/>
        </p:nvPicPr>
        <p:blipFill>
          <a:blip r:embed="rId1"/>
          <a:stretch/>
        </p:blipFill>
        <p:spPr>
          <a:xfrm>
            <a:off x="179280" y="3141720"/>
            <a:ext cx="5544720" cy="3622320"/>
          </a:xfrm>
          <a:prstGeom prst="rect">
            <a:avLst/>
          </a:prstGeom>
          <a:ln w="9525">
            <a:noFill/>
          </a:ln>
        </p:spPr>
      </p:pic>
      <p:pic>
        <p:nvPicPr>
          <p:cNvPr id="112" name="Рисунок 4" descr=""/>
          <p:cNvPicPr/>
          <p:nvPr/>
        </p:nvPicPr>
        <p:blipFill>
          <a:blip r:embed="rId2"/>
          <a:stretch/>
        </p:blipFill>
        <p:spPr>
          <a:xfrm>
            <a:off x="6300720" y="3141720"/>
            <a:ext cx="1860120" cy="3560400"/>
          </a:xfrm>
          <a:prstGeom prst="rect">
            <a:avLst/>
          </a:prstGeom>
          <a:ln w="9525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539640" y="404640"/>
            <a:ext cx="7992720" cy="3993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44280" indent="0" algn="ctr">
              <a:lnSpc>
                <a:spcPct val="100000"/>
              </a:lnSpc>
              <a:spcBef>
                <a:spcPts val="641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rebuchet MS"/>
              </a:rPr>
              <a:t>Георгиевская лента давно уже превратилась в символ отваги, мужества и героизма. </a:t>
            </a:r>
            <a:endParaRPr b="0" lang="ru-RU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 indent="0" algn="ctr">
              <a:lnSpc>
                <a:spcPct val="100000"/>
              </a:lnSpc>
              <a:spcBef>
                <a:spcPts val="641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rebuchet MS"/>
              </a:rPr>
              <a:t>Чёрный и жёлто-оранжевый цвета  ленты, символизирующие "дым и пламя", а по другой версии - "смерть и воскрешение", остались неизменны, несмотря на череду войн и революций</a:t>
            </a:r>
            <a:endParaRPr b="0" lang="ru-RU" sz="3200" spc="-1" strike="noStrike">
              <a:solidFill>
                <a:srgbClr val="404040"/>
              </a:solidFill>
              <a:latin typeface="Trebuchet MS"/>
            </a:endParaRPr>
          </a:p>
        </p:txBody>
      </p:sp>
      <p:graphicFrame>
        <p:nvGraphicFramePr>
          <p:cNvPr id="114" name="Object 18"/>
          <p:cNvGraphicFramePr/>
          <p:nvPr/>
        </p:nvGraphicFramePr>
        <p:xfrm>
          <a:off x="-14400" y="4653000"/>
          <a:ext cx="8762760" cy="220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4400" y="4653000"/>
                    <a:ext cx="8762760" cy="22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93880" y="4371840"/>
            <a:ext cx="651168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1" lang="ru-RU" sz="4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121280" y="836640"/>
            <a:ext cx="5022360" cy="5143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marL="45720" indent="0" algn="ctr">
              <a:lnSpc>
                <a:spcPct val="100000"/>
              </a:lnSpc>
              <a:spcBef>
                <a:spcPts val="641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Георгиевская ленточка вот уже более двух с половиной столетий продолжает оставаться символом беспримерного героизма российских солдат и офицеров.</a:t>
            </a:r>
            <a:endParaRPr b="0" lang="ru-RU" sz="32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439"/>
              </a:spcBef>
              <a:spcAft>
                <a:spcPts val="300"/>
              </a:spcAft>
              <a:buNone/>
              <a:tabLst>
                <a:tab algn="l" pos="0"/>
              </a:tabLst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18" name="Рисунок 3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3701520" cy="5111280"/>
          </a:xfrm>
          <a:prstGeom prst="rect">
            <a:avLst/>
          </a:prstGeom>
          <a:ln w="9525">
            <a:noFill/>
          </a:ln>
        </p:spPr>
      </p:pic>
    </p:spTree>
  </p:cSld>
  <p:transition spd="slow"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4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Воздушный поток">
  <a:themeElements>
    <a:clrScheme name="Воздушный поток">
      <a:dk1>
        <a:srgbClr val="000000"/>
      </a:dk1>
      <a:lt1>
        <a:srgbClr val="ffffff"/>
      </a:lt1>
      <a:dk2>
        <a:srgbClr val="212745"/>
      </a:dk2>
      <a:lt2>
        <a:srgbClr val="b4dcfa"/>
      </a:lt2>
      <a:accent1>
        <a:srgbClr val="4e67c8"/>
      </a:accent1>
      <a:accent2>
        <a:srgbClr val="5eccf3"/>
      </a:accent2>
      <a:accent3>
        <a:srgbClr val="a7ea52"/>
      </a:accent3>
      <a:accent4>
        <a:srgbClr val="5dceaf"/>
      </a:accent4>
      <a:accent5>
        <a:srgbClr val="ff8021"/>
      </a:accent5>
      <a:accent6>
        <a:srgbClr val="f14124"/>
      </a:accent6>
      <a:hlink>
        <a:srgbClr val="56c7aa"/>
      </a:hlink>
      <a:folHlink>
        <a:srgbClr val="59a8d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Воздушный поток">
  <a:themeElements>
    <a:clrScheme name="Воздушный поток">
      <a:dk1>
        <a:srgbClr val="000000"/>
      </a:dk1>
      <a:lt1>
        <a:srgbClr val="ffffff"/>
      </a:lt1>
      <a:dk2>
        <a:srgbClr val="212745"/>
      </a:dk2>
      <a:lt2>
        <a:srgbClr val="b4dcfa"/>
      </a:lt2>
      <a:accent1>
        <a:srgbClr val="4e67c8"/>
      </a:accent1>
      <a:accent2>
        <a:srgbClr val="5eccf3"/>
      </a:accent2>
      <a:accent3>
        <a:srgbClr val="a7ea52"/>
      </a:accent3>
      <a:accent4>
        <a:srgbClr val="5dceaf"/>
      </a:accent4>
      <a:accent5>
        <a:srgbClr val="ff8021"/>
      </a:accent5>
      <a:accent6>
        <a:srgbClr val="f14124"/>
      </a:accent6>
      <a:hlink>
        <a:srgbClr val="56c7aa"/>
      </a:hlink>
      <a:folHlink>
        <a:srgbClr val="59a8d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Slipstream</Template>
  <TotalTime>335</TotalTime>
  <Application>LibreOffice/7.4.7.2$Linux_X86_64 LibreOffice_project/40$Build-2</Application>
  <AppVersion>15.0000</AppVersion>
  <Words>666</Words>
  <Paragraphs>73</Paragraphs>
  <Company>SPecialiST RePack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1T16:18:04Z</dcterms:created>
  <dc:creator>User</dc:creator>
  <dc:description/>
  <dc:language>en-US</dc:language>
  <cp:lastModifiedBy>user</cp:lastModifiedBy>
  <dcterms:modified xsi:type="dcterms:W3CDTF">2019-05-13T23:44:12Z</dcterms:modified>
  <cp:revision>30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4</vt:r8>
  </property>
</Properties>
</file>