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9.gif" ContentType="image/gif"/>
  <Override PartName="/ppt/media/image1.png" ContentType="image/png"/>
  <Override PartName="/ppt/media/image24.jpeg" ContentType="image/jpeg"/>
  <Override PartName="/ppt/media/image3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7D9-9406-4C47-9FC8-716441D6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78F-FAAD-40DE-B975-4CD52A0E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394-173D-4DAD-B139-AC2E03C8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9BE-0FEC-42EF-840E-7284DBD1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C4F2-F3DE-4A2B-837D-DFC62AAD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65A6-08FB-44FB-A021-34A0CCF2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1872-128F-407D-B391-436BD585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9288-607F-490F-94F0-2E87F3A9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766D-F647-472B-BB13-B69F7C0B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93880" y="4371840"/>
            <a:ext cx="6511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381A-F5D1-4D13-B055-4D14E163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EBA3-CAF2-4352-AACC-BEEA03E7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B79-EE50-4A2F-98EF-25635C89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9433-CFA8-4BB3-AF3C-0447921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00C1-10A9-4991-ADEB-08F22154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94D5-3F05-4210-97BE-974A7EAE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6ABF-376C-4BB0-88BB-E1AFEA5B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2920-6142-4D6F-B39A-285CB58C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947-0AA3-4385-879F-2D4E4B8A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2A2-22B3-4CED-8FF3-2CE74B67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0EB-9B89-4BD5-9E82-9D312291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93880" y="4371840"/>
            <a:ext cx="6511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CED-55C4-45AD-BEBE-831767C3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D3A-A28B-44A4-94F7-CF64B1B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64A-F132-46D5-9802-F00E049E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AFC-7F34-4F45-89BA-2F7906B2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2652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7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E2F6D43-413E-4220-9244-0B95B376A50D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76884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18252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52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82E61BA-12FD-4685-8F88-F31BB25BE2AA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60000" y="2607480"/>
            <a:ext cx="5540040" cy="194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95000"/>
              </a:lnSpc>
              <a:spcBef>
                <a:spcPts val="1179"/>
              </a:spcBef>
              <a:spcAft>
                <a:spcPts val="1001"/>
              </a:spcAft>
              <a:tabLst>
                <a:tab algn="l" pos="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Times New Roman"/>
              </a:rPr>
              <a:t>Георгиевская ленточк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"/>
          <p:cNvPicPr/>
          <p:nvPr/>
        </p:nvPicPr>
        <p:blipFill>
          <a:blip r:embed="rId1"/>
          <a:stretch/>
        </p:blipFill>
        <p:spPr>
          <a:xfrm>
            <a:off x="0" y="127080"/>
            <a:ext cx="4303440" cy="3452400"/>
          </a:xfrm>
          <a:prstGeom prst="rect">
            <a:avLst/>
          </a:prstGeom>
          <a:ln w="9525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08000" y="3579840"/>
            <a:ext cx="3462120" cy="27842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496000" cy="323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7000"/>
          </a:bodyPr>
          <a:p>
            <a:pPr marL="44280"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овая жизнь ленточки началась в 2005 году. Тогда было положено начало проведению ежегодных акций по раздаче георгиевских ленточек, приуроченных к празднованию годовщины победы над фашистской Германией. Миллионы людей во многих странах мира в период с 24 апреля по 12 мая носят на груди Георгиевские ленточки, отдавая дань памяти мужеству солдат и офицеров, павших на полях той войны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1" name="Рисунок 4" descr=""/>
          <p:cNvPicPr/>
          <p:nvPr/>
        </p:nvPicPr>
        <p:blipFill>
          <a:blip r:embed="rId1"/>
          <a:stretch/>
        </p:blipFill>
        <p:spPr>
          <a:xfrm>
            <a:off x="1258920" y="3429000"/>
            <a:ext cx="6625800" cy="331272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3" name="Объект 3" descr=""/>
          <p:cNvPicPr/>
          <p:nvPr/>
        </p:nvPicPr>
        <p:blipFill>
          <a:blip r:embed="rId1"/>
          <a:stretch/>
        </p:blipFill>
        <p:spPr>
          <a:xfrm>
            <a:off x="4572000" y="738360"/>
            <a:ext cx="4358880" cy="5279760"/>
          </a:xfrm>
          <a:prstGeom prst="rect">
            <a:avLst/>
          </a:prstGeom>
          <a:ln w="9525">
            <a:noFill/>
          </a:ln>
        </p:spPr>
      </p:pic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105080" cy="510336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35640" cy="5544720"/>
          </a:xfrm>
          <a:prstGeom prst="rect">
            <a:avLst/>
          </a:prstGeom>
          <a:ln w="9525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48956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7640" y="260640"/>
            <a:ext cx="3600000" cy="34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6080" indent="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сследуя информированность учащихся школы-интернат, нами был проведён опрос среди учащихся 1, 2, 3 и 4-х классов, входе которого были заданы следующие вопросы: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130" name="Таблица 3"/>
          <p:cNvGraphicFramePr/>
          <p:nvPr/>
        </p:nvGraphicFramePr>
        <p:xfrm>
          <a:off x="4140000" y="3600"/>
          <a:ext cx="4392000" cy="7906680"/>
        </p:xfrm>
        <a:graphic>
          <a:graphicData uri="http://schemas.openxmlformats.org/drawingml/2006/table">
            <a:tbl>
              <a:tblPr/>
              <a:tblGrid>
                <a:gridCol w="304920"/>
                <a:gridCol w="2189880"/>
                <a:gridCol w="1897200"/>
              </a:tblGrid>
              <a:tr h="518040">
                <a:tc>
                  <a:txBody>
                    <a:bodyPr lIns="30960" rIns="30960" tIns="30960" bIns="309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30960" tIns="30960" bIns="3096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Вопрос анке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Отве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Знаешь ли ты символом чего является георгиевская ленточка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4"/>
                        </a:spcBef>
                        <a:spcAft>
                          <a:spcPts val="74"/>
                        </a:spcAft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а - 20 чел. Нет -  20 чел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В честь какого праздника её придумали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9 Мая День Победы – 23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 знаю – 18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</a:tr>
              <a:tr h="70524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Как она выглядит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ранжевая в черную полоску – 42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Точно не знаю –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Ты хотел бы носить георгиевскую ленточку 9 мая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а- 4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т – -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</a:tr>
              <a:tr h="117072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Почему вы хотели бы ее нос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равится – 4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Красивая –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 знаю –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на символизирует праздник – 4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Если не носите, почему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У меня ее нет-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 знаю –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Ваши родители повязывают георгиевскую ленточку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а – 32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т - 12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70524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Куда прикрепляют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а грудь- 4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а машину -3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а велосипед – 2 ч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</a:tr>
              <a:tr h="70524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Можно ли эту ленту куп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а – 4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т – 2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Не знаю – 0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472680"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96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Ты хотел бы узнать об истории георгиевской ленты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  <a:tc>
                  <a:txBody>
                    <a:bodyPr lIns="4320" rIns="4320" tIns="4320" bIns="43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а- 67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Затрудняюсь ответить – 4 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af5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4"/>
          <p:cNvSpPr/>
          <p:nvPr/>
        </p:nvSpPr>
        <p:spPr>
          <a:xfrm>
            <a:off x="109080" y="2133000"/>
            <a:ext cx="367164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дведя итог проведённому опросу, ситуация с георгиевской ленточкой в нашей школе обстоит следующим образом.  Большая часть учащихся 1, 2, 3 – 4-х классов знают, как выглядит Георгиевская ленточка, и хотели бы ее носить - 99% учащихся. У большинства учеников родители участвуют в акции «Георгиевская ленточка». Есть среди учащихся те, которые неправильно ее носят или не знают, как правильно это делать – 11% опрош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9143640" cy="682596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40360" cy="619236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7" name="Объект 5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208720" cy="582588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9" name="Объект 3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191000" cy="500328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640" y="731520"/>
            <a:ext cx="7776360" cy="34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шей исследовательской работы 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«Появления и значения «Георгиевской ленточки» - как символа Победы.»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Объект исследования –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Символ Победы Великой Отечественной Войны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Предмет исследования-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«Георгиевская ленточка»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связи с целью решить следующи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задачи: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зучить необходимую информацию об истории возникновения символа «Георгиевская лента»;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яснить, что такое общественная акция «Георгиевская ленточка»;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вести опрос среди учащихся нашей школы с целью понять, что они знают о данном символе;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16000" y="115920"/>
            <a:ext cx="6400440" cy="4536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45720" indent="0" algn="ctr">
              <a:lnSpc>
                <a:spcPct val="100000"/>
              </a:lnSpc>
              <a:spcBef>
                <a:spcPts val="1440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404040"/>
              </a:solidFill>
              <a:latin typeface="Trebuchet MS"/>
            </a:endParaRPr>
          </a:p>
          <a:p>
            <a:pPr marL="45720" indent="0" algn="ctr">
              <a:lnSpc>
                <a:spcPct val="100000"/>
              </a:lnSpc>
              <a:spcBef>
                <a:spcPts val="1440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Trebuchet MS"/>
              </a:rPr>
              <a:t>СПАСИБО ЗА ВНИМАНИЕ!!!</a:t>
            </a:r>
            <a:endParaRPr b="0" lang="ru-RU" sz="7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1332000" y="4503600"/>
            <a:ext cx="6095520" cy="213336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5" name="Объект 5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3240" cy="60368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7" name="Объект 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360" cy="5976720"/>
          </a:xfrm>
          <a:prstGeom prst="rect">
            <a:avLst/>
          </a:prstGeom>
          <a:ln w="9525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9" name="Объект 3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56400" cy="5454360"/>
          </a:xfrm>
          <a:prstGeom prst="rect">
            <a:avLst/>
          </a:prstGeom>
          <a:ln w="9525">
            <a:noFill/>
          </a:ln>
        </p:spPr>
      </p:pic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1" name="Объект 5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064000" cy="60764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333360"/>
            <a:ext cx="4320720" cy="583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608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звестно, что история появления георгиевской ленточки начинается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еще в далеком XVIII веке, а именно 26 ноября 1769 года. Когда Екатерина II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редила орден Святого Георгия Победоносца. В этом году исполняется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250 лет со дня 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учреждения Ордена 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46080" indent="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вятого Георгия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00" name="Рисунок 5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773520" cy="504072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00" y="4437000"/>
            <a:ext cx="266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Екатерина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с орденом Святого Великомученика и Победоносца Георгия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Объект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679640" cy="619884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4797000"/>
            <a:ext cx="8496720" cy="13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ый георгиевский кавалер, донской казак Кузьма Крючков, получил Георгиевский крест, за то что он убил один 11 немцев и получивший 16 ран, во время Первой Мировой войны (1914-1918гг.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38680" cy="410328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549360"/>
            <a:ext cx="6400440" cy="3472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4572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«…Мы чтим твой подвиг, как геро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 будем чтить его, - по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Есть на Руси войско Донское,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 жив дух мощный казака.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(«Герою казаку Крючкову» Ф.И.Шестаков, ДОВ, 13.09.1914)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49160" cy="3744720"/>
          </a:xfrm>
          <a:prstGeom prst="rect">
            <a:avLst/>
          </a:prstGeom>
          <a:ln w="9525">
            <a:noFill/>
          </a:ln>
        </p:spPr>
      </p:pic>
      <p:pic>
        <p:nvPicPr>
          <p:cNvPr id="108" name="Рисунок 4" descr=""/>
          <p:cNvPicPr/>
          <p:nvPr/>
        </p:nvPicPr>
        <p:blipFill>
          <a:blip r:embed="rId2"/>
          <a:stretch/>
        </p:blipFill>
        <p:spPr>
          <a:xfrm>
            <a:off x="611280" y="2900520"/>
            <a:ext cx="2881080" cy="388116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280000" cy="347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45720" indent="0" algn="ctr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сле распада Российской Империи, цвета ленты украшали колодки орденов Славы и медалей "За победу над Германией в Великой Отечественной войне 1941-1945 гг". В годы Великой Отечественной войны, претерпев незначительные изменения, "Георгиевская лента" была официально оформлена в наградной системе СССР в качестве особого знака отличия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5544720" cy="3622320"/>
          </a:xfrm>
          <a:prstGeom prst="rect">
            <a:avLst/>
          </a:prstGeom>
          <a:ln w="9525">
            <a:noFill/>
          </a:ln>
        </p:spPr>
      </p:pic>
      <p:pic>
        <p:nvPicPr>
          <p:cNvPr id="112" name="Рисунок 4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1860120" cy="356040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7992720" cy="3993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4280" indent="0" algn="ctr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Георгиевская лента давно уже превратилась в символ отваги, мужества и героизма. 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ctr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rebuchet MS"/>
              </a:rPr>
              <a:t>Чёрный и жёлто-оранжевый цвета  ленты, символизирующие "дым и пламя", а по другой версии - "смерть и воскрешение", остались неизменны, несмотря на череду войн и революций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-14400" y="4653000"/>
          <a:ext cx="8762760" cy="22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4653000"/>
                    <a:ext cx="8762760" cy="22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880" y="4371840"/>
            <a:ext cx="65116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ru-RU" sz="4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21280" y="836640"/>
            <a:ext cx="5022360" cy="5143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45720" indent="0" algn="ctr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еоргиевская ленточка вот уже более двух с половиной столетий продолжает оставаться символом беспримерного героизма российских солдат и офицеров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701520" cy="5111280"/>
          </a:xfrm>
          <a:prstGeom prst="rect">
            <a:avLst/>
          </a:prstGeom>
          <a:ln w="9525">
            <a:noFill/>
          </a:ln>
        </p:spPr>
      </p:pic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335</TotalTime>
  <Application>LibreOffice/7.4.7.2$Linux_X86_64 LibreOffice_project/40$Build-2</Application>
  <AppVersion>15.0000</AppVersion>
  <Words>666</Words>
  <Paragraphs>7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6:18:04Z</dcterms:created>
  <dc:creator>User</dc:creator>
  <dc:description/>
  <dc:language>en-US</dc:language>
  <cp:lastModifiedBy>user</cp:lastModifiedBy>
  <dcterms:modified xsi:type="dcterms:W3CDTF">2019-05-13T23:44:12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4</vt:r8>
  </property>
</Properties>
</file>