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55D6-9678-47AC-92C8-EAE46975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42CC-3E90-4B41-9019-4A6C1E8E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2745-91B2-4F75-A435-C73D16E1A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4A71-550C-4BBB-A0E0-15A49C4CE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F095-1EBB-4994-B782-52B852D4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62F7-F426-4D84-9B5F-4BC58422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7A3E-F7DC-4AAC-8DE2-879A2F1E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81C5-4A75-4BA4-9311-BC777414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6285-B172-4587-81E6-20EAED08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5463-C27F-41AE-A28D-9A6F1CE9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8364-D926-4496-8254-05124B13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E5AF-A5D6-4B95-A57C-D8DD93FF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E910-7911-4B96-B47C-5E5ED594E4DE}" type="slidenum">
              <a:rPr b="0" lang="ru-RU" sz="14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755640" y="1268280"/>
            <a:ext cx="7777080" cy="17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тория 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 музыке  и  живописи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Picture 6" descr="детск"/>
          <p:cNvPicPr/>
          <p:nvPr/>
        </p:nvPicPr>
        <p:blipFill>
          <a:blip r:embed="rId1"/>
          <a:stretch/>
        </p:blipFill>
        <p:spPr>
          <a:xfrm>
            <a:off x="3203640" y="3573360"/>
            <a:ext cx="28004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Исторический жанр</a:t>
            </a:r>
            <a:br>
              <a:rPr sz="3200"/>
            </a:b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в  живописи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Исторический жанр – 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один из основных жанров изобразительного искусства, посвящен историческим событиям прошлого и современности, социально значимым явлениям в истории народов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Picture 6" descr="Репин"/>
          <p:cNvPicPr/>
          <p:nvPr/>
        </p:nvPicPr>
        <p:blipFill>
          <a:blip r:embed="rId1"/>
          <a:stretch/>
        </p:blipFill>
        <p:spPr>
          <a:xfrm>
            <a:off x="733320" y="1600200"/>
            <a:ext cx="3486240" cy="218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Суриков"/>
          <p:cNvPicPr/>
          <p:nvPr/>
        </p:nvPicPr>
        <p:blipFill>
          <a:blip r:embed="rId2"/>
          <a:stretch/>
        </p:blipFill>
        <p:spPr>
          <a:xfrm>
            <a:off x="4770360" y="1600200"/>
            <a:ext cx="379404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уриков  Василий Иванович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(1848-1916), русский живописец-историк.</a:t>
            </a: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14600" y="2143080"/>
            <a:ext cx="37148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00"/>
                </a:solidFill>
                <a:latin typeface="Arial"/>
              </a:rPr>
              <a:t>Боярыня  Морозова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0" y="5877000"/>
            <a:ext cx="391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00"/>
                </a:solidFill>
                <a:latin typeface="Arial"/>
              </a:rPr>
              <a:t>Утро  стрелецкой  казни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52" name="Picture 14" descr="Суриков"/>
          <p:cNvPicPr/>
          <p:nvPr/>
        </p:nvPicPr>
        <p:blipFill>
          <a:blip r:embed="rId1"/>
          <a:stretch/>
        </p:blipFill>
        <p:spPr>
          <a:xfrm>
            <a:off x="4067280" y="3932280"/>
            <a:ext cx="5076720" cy="2925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54" name="Picture 16" descr="Суриков"/>
          <p:cNvPicPr/>
          <p:nvPr/>
        </p:nvPicPr>
        <p:blipFill>
          <a:blip r:embed="rId2"/>
          <a:stretch/>
        </p:blipFill>
        <p:spPr>
          <a:xfrm>
            <a:off x="0" y="1557360"/>
            <a:ext cx="493236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180"/>
                            </p:stCondLst>
                            <p:childTnLst>
                              <p:par>
                                <p:cTn id="6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180"/>
                            </p:stCondLst>
                            <p:childTnLst>
                              <p:par>
                                <p:cTn id="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Репин Илья Ефимович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(1844-1930), русский живописец.</a:t>
            </a: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2920" y="5950080"/>
            <a:ext cx="633564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Иван  Грозный  и  сын  его  Иван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57" name="Picture 6" descr="Репин"/>
          <p:cNvPicPr/>
          <p:nvPr/>
        </p:nvPicPr>
        <p:blipFill>
          <a:blip r:embed="rId1"/>
          <a:stretch/>
        </p:blipFill>
        <p:spPr>
          <a:xfrm>
            <a:off x="1908000" y="1413000"/>
            <a:ext cx="547236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0" y="4759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аснецов Виктор Михайлович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(1848-1926), русский живописец.</a:t>
            </a: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920" y="515736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Богатыри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60" name="Picture 6" descr="Васнецов"/>
          <p:cNvPicPr/>
          <p:nvPr/>
        </p:nvPicPr>
        <p:blipFill>
          <a:blip r:embed="rId1"/>
          <a:stretch/>
        </p:blipFill>
        <p:spPr>
          <a:xfrm>
            <a:off x="3132000" y="2276640"/>
            <a:ext cx="5856480" cy="3924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Васнецов В"/>
          <p:cNvPicPr/>
          <p:nvPr/>
        </p:nvPicPr>
        <p:blipFill>
          <a:blip r:embed="rId2"/>
          <a:stretch/>
        </p:blipFill>
        <p:spPr>
          <a:xfrm>
            <a:off x="179280" y="476280"/>
            <a:ext cx="28479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35280" y="333360"/>
            <a:ext cx="5329440" cy="43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Александр  Порфирьевич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Бородин.</a:t>
            </a:r>
            <a:br>
              <a:rPr sz="2800"/>
            </a:b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Опера  «Князь  Игорь».    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Хор  половецких  девушек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Хор «Солнцу </a:t>
            </a:r>
            <a:br>
              <a:rPr sz="2800"/>
            </a:b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красному слава!»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427640" y="5084640"/>
            <a:ext cx="4248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Портрет  А.П.Бородина, выполненный 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И.Е. Репиным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64" name="Picture 4" descr="Бородин А"/>
          <p:cNvPicPr/>
          <p:nvPr/>
        </p:nvPicPr>
        <p:blipFill>
          <a:blip r:embed="rId1"/>
          <a:stretch/>
        </p:blipFill>
        <p:spPr>
          <a:xfrm>
            <a:off x="179280" y="620640"/>
            <a:ext cx="32608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050"/>
                            </p:stCondLst>
                            <p:childTnLst>
                              <p:par>
                                <p:cTn id="1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330"/>
                            </p:stCondLst>
                            <p:childTnLst>
                              <p:par>
                                <p:cTn id="1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7280" y="1844640"/>
            <a:ext cx="50767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Модест Петрович МУСОРГСКИЙ </a:t>
            </a:r>
            <a:br>
              <a:rPr sz="2800"/>
            </a:b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27280" y="2923920"/>
            <a:ext cx="471636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00"/>
                </a:solidFill>
                <a:latin typeface="Arial"/>
              </a:rPr>
              <a:t>Опера  «Борис  Годунов»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67" name="Picture 5" descr="Мусоргский"/>
          <p:cNvPicPr/>
          <p:nvPr/>
        </p:nvPicPr>
        <p:blipFill>
          <a:blip r:embed="rId1"/>
          <a:stretch/>
        </p:blipFill>
        <p:spPr>
          <a:xfrm>
            <a:off x="324000" y="1125360"/>
            <a:ext cx="396396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900"/>
                            </p:stCondLst>
                            <p:childTnLst>
                              <p:par>
                                <p:cTn id="16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омашнее задание.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79280" y="2637000"/>
            <a:ext cx="878544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аписать по 5 примеров «история в музыке" и «история в живописи» (фамилия автора, название произведения)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4T04:35:53Z</dcterms:created>
  <dc:creator>Татьяна</dc:creator>
  <dc:description/>
  <dc:language>en-US</dc:language>
  <cp:lastModifiedBy>Музыка</cp:lastModifiedBy>
  <dcterms:modified xsi:type="dcterms:W3CDTF">2019-12-12T14:26:02Z</dcterms:modified>
  <cp:revision>11</cp:revision>
  <dc:subject/>
  <dc:title>Слайд 1</dc:title>
</cp:coreProperties>
</file>