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7.jpeg" ContentType="image/jpeg"/>
  <Override PartName="/ppt/media/image16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DC2-FA62-41CF-AA2D-F2B76713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A4ED-3B2B-4963-BF1B-FCEEF11E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F84E-3873-4B39-BB02-FCABCC7F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14B-D123-4D1D-AB38-17687FE9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B636-8EAB-478B-9A07-703921B7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8756-5288-4687-9892-9EFFBD54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DC51-C4CC-4C5B-9F91-4A8565E3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E7EF-CEBA-4FEE-93D7-B64678BF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6423-B968-4346-92B2-D74BF203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D88E-B60B-4D04-88BD-B37CDF31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3D08-6422-4902-8831-A5180537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232-03B8-4AF5-AD8F-5ACC3B8F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DE14-46B0-4A98-B62A-5CDE438D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777D-E688-4092-81AA-850E9DA9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86A7-4E01-41FA-9649-78E30CAD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BD02-1CA8-49FE-83FA-33954BFB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0F30-D02E-4684-910E-D60F3797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3F4D0-DEE7-441B-90E4-A524CD79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11D2A-F337-450C-A32D-388AC85B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2C3F0-3569-4458-BCEC-D523E2EF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E04D1-48E8-426B-A833-78808B00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1E967-7E8D-45B8-B6FF-B18EC809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AB7C-6D28-41F4-A0C2-CC942289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4F6E6-5E4D-4315-8CA5-2801BD5C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B4880-8682-4746-8458-EE5B03A4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E6204-CA5D-4C61-AD4A-2E46AB83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8E25B-55E8-4613-84D4-8D0C1663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8FD29-9468-476A-89AC-28BBC3DB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3D536-7DBF-4942-B64C-74ACE80D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C5AE2-D0BF-4D0C-BC16-D18730F8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F3C-8749-4F30-96E9-8074342F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FBE8-49EF-4627-93D0-3017B8B2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93F0-FC72-4909-8483-7597050B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101B-8055-4876-993F-9BF6CB24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377-9D55-405C-9522-447E5A33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551-70EA-4894-BBBA-66BF82F4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0F92-8F4E-428A-87D3-881F1849AB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1CE7-AD45-483C-BC9D-540549E6AC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0110-ECC0-4A97-80D7-FD2814821D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5"/>
          <p:cNvSpPr txBox="1"/>
          <p:nvPr/>
        </p:nvSpPr>
        <p:spPr>
          <a:xfrm>
            <a:off x="785880" y="4429080"/>
            <a:ext cx="77817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ательная функц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067280" y="3789360"/>
            <a:ext cx="4681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ванова Светлана Александровна, учитель математики МБОУ СОШ №13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Сургу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val 2"/>
          <p:cNvSpPr/>
          <p:nvPr/>
        </p:nvSpPr>
        <p:spPr>
          <a:xfrm>
            <a:off x="6553080" y="1219320"/>
            <a:ext cx="2162160" cy="20206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1f497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3352680" y="533520"/>
            <a:ext cx="2202120" cy="1881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1f497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 rot="3449400">
            <a:off x="4804200" y="2667600"/>
            <a:ext cx="1143000" cy="22068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5080 h 220680"/>
              <a:gd name="textAreaBottom" fmla="*/ 165600 h 220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5"/>
          <p:cNvSpPr/>
          <p:nvPr/>
        </p:nvSpPr>
        <p:spPr>
          <a:xfrm>
            <a:off x="2438280" y="3429000"/>
            <a:ext cx="2162160" cy="20210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1f497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6"/>
          <p:cNvSpPr/>
          <p:nvPr/>
        </p:nvSpPr>
        <p:spPr>
          <a:xfrm>
            <a:off x="5105520" y="3124080"/>
            <a:ext cx="2162160" cy="20210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1f497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7"/>
          <p:cNvSpPr/>
          <p:nvPr/>
        </p:nvSpPr>
        <p:spPr>
          <a:xfrm>
            <a:off x="304920" y="1676520"/>
            <a:ext cx="2162160" cy="20206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1f497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 rot="9346200">
            <a:off x="2247120" y="1760040"/>
            <a:ext cx="1143000" cy="1969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49320 h 196920"/>
              <a:gd name="textAreaBottom" fmla="*/ 147960 h 196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0"/>
          <p:cNvSpPr/>
          <p:nvPr/>
        </p:nvSpPr>
        <p:spPr>
          <a:xfrm rot="6477600">
            <a:off x="3299400" y="2828160"/>
            <a:ext cx="1143000" cy="226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6520 h 226800"/>
              <a:gd name="textAreaBottom" fmla="*/ 170280 h 226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1"/>
          <p:cNvSpPr/>
          <p:nvPr/>
        </p:nvSpPr>
        <p:spPr>
          <a:xfrm rot="1306200">
            <a:off x="5437080" y="1820880"/>
            <a:ext cx="1143000" cy="1872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46800 h 187200"/>
              <a:gd name="textAreaBottom" fmla="*/ 140400 h 18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Прямоугольник 16" descr=""/>
          <p:cNvPicPr/>
          <p:nvPr/>
        </p:nvPicPr>
        <p:blipFill>
          <a:blip r:embed="rId1"/>
          <a:stretch/>
        </p:blipFill>
        <p:spPr>
          <a:xfrm>
            <a:off x="2981160" y="920880"/>
            <a:ext cx="3181680" cy="112716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17" descr=""/>
          <p:cNvPicPr/>
          <p:nvPr/>
        </p:nvPicPr>
        <p:blipFill>
          <a:blip r:embed="rId2"/>
          <a:stretch/>
        </p:blipFill>
        <p:spPr>
          <a:xfrm>
            <a:off x="122400" y="2352600"/>
            <a:ext cx="2528640" cy="56664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18" descr=""/>
          <p:cNvPicPr/>
          <p:nvPr/>
        </p:nvPicPr>
        <p:blipFill>
          <a:blip r:embed="rId3"/>
          <a:stretch/>
        </p:blipFill>
        <p:spPr>
          <a:xfrm>
            <a:off x="2560680" y="4138560"/>
            <a:ext cx="1925640" cy="566640"/>
          </a:xfrm>
          <a:prstGeom prst="rect">
            <a:avLst/>
          </a:prstGeom>
          <a:ln w="0">
            <a:noFill/>
          </a:ln>
        </p:spPr>
      </p:pic>
      <p:pic>
        <p:nvPicPr>
          <p:cNvPr id="169" name="Прямоугольник 19" descr=""/>
          <p:cNvPicPr/>
          <p:nvPr/>
        </p:nvPicPr>
        <p:blipFill>
          <a:blip r:embed="rId4"/>
          <a:stretch/>
        </p:blipFill>
        <p:spPr>
          <a:xfrm>
            <a:off x="5370480" y="3852720"/>
            <a:ext cx="1603440" cy="56700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20" descr=""/>
          <p:cNvPicPr/>
          <p:nvPr/>
        </p:nvPicPr>
        <p:blipFill>
          <a:blip r:embed="rId5"/>
          <a:stretch/>
        </p:blipFill>
        <p:spPr>
          <a:xfrm>
            <a:off x="6566040" y="1852560"/>
            <a:ext cx="2358720" cy="566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ческая работа (работа в пар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7920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задач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авыков самостоятельной деятельности, навыков парной работы (обучающиеся учатся управлению поведением партнера, планированию самостоятельной и совместной деятельности, осуществлять взаимоконтроль и самоконтроль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работа (работа в пара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95280" y="1268280"/>
            <a:ext cx="4038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учит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задания на "новое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, побуждает обучающихся 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ю и выбору вид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по достижению ц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а, помогает комментирова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действия "ведущему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ильному ученику), поддержив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и познавательну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ь обучающих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ет условия для сотрудничества - работы в пара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туации успеха для каждого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716000" y="1341000"/>
            <a:ext cx="4038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обучаю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 полученные знания и умения  в измененных условиях (работа в паре), осуществление взаимоконтрол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хеме исследуют функци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грамм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ят графики функций у=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=(1/2)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трезке [-2;3] с шагом 0,5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атывают действи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ие мыслительны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ям анализа, синтез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я, обоб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ают в парах варианты решения учебной зада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ывают выбор общего решения или несогласия с мнением друг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 1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ля нахождения области определения функции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значения аргумента являются допустимыми для функций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Рисунок 6" descr="C:\Users\Олег\Desktop\img13.jpg"/>
          <p:cNvPicPr/>
          <p:nvPr/>
        </p:nvPicPr>
        <p:blipFill>
          <a:blip r:embed="rId1"/>
          <a:stretch/>
        </p:blipFill>
        <p:spPr>
          <a:xfrm>
            <a:off x="2411280" y="1844640"/>
            <a:ext cx="37641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 2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ля нахождения области значений функции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изображен график функции. Укажите область определения и область значений функци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Рисунок 2" descr="C:\Users\Олег\Desktop\img14.jpg"/>
          <p:cNvPicPr/>
          <p:nvPr/>
        </p:nvPicPr>
        <p:blipFill>
          <a:blip r:embed="rId1"/>
          <a:stretch/>
        </p:blipFill>
        <p:spPr>
          <a:xfrm>
            <a:off x="539640" y="1773360"/>
            <a:ext cx="2078280" cy="20160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3" descr="C:\Users\Олег\Desktop\img15.jpg"/>
          <p:cNvPicPr/>
          <p:nvPr/>
        </p:nvPicPr>
        <p:blipFill>
          <a:blip r:embed="rId2"/>
          <a:stretch/>
        </p:blipFill>
        <p:spPr>
          <a:xfrm>
            <a:off x="3132000" y="1773360"/>
            <a:ext cx="2808360" cy="19429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4" descr="C:\Users\Олег\Desktop\img16.jpg"/>
          <p:cNvPicPr/>
          <p:nvPr/>
        </p:nvPicPr>
        <p:blipFill>
          <a:blip r:embed="rId3"/>
          <a:stretch/>
        </p:blipFill>
        <p:spPr>
          <a:xfrm>
            <a:off x="395280" y="4005360"/>
            <a:ext cx="2181240" cy="18000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5" descr="C:\Users\Олег\Desktop\img17.jpg"/>
          <p:cNvPicPr/>
          <p:nvPr/>
        </p:nvPicPr>
        <p:blipFill>
          <a:blip r:embed="rId4"/>
          <a:stretch/>
        </p:blipFill>
        <p:spPr>
          <a:xfrm>
            <a:off x="3635280" y="3933720"/>
            <a:ext cx="27590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 3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ля указания промежутков сравнения с единицей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ую из следующих степеней сравните с единицей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Рисунок 2" descr="C:\Users\Олег\Desktop\img18.jpg"/>
          <p:cNvPicPr/>
          <p:nvPr/>
        </p:nvPicPr>
        <p:blipFill>
          <a:blip r:embed="rId1"/>
          <a:stretch/>
        </p:blipFill>
        <p:spPr>
          <a:xfrm>
            <a:off x="395280" y="1557360"/>
            <a:ext cx="2808360" cy="195408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3"/>
          <p:cNvSpPr/>
          <p:nvPr/>
        </p:nvSpPr>
        <p:spPr>
          <a:xfrm>
            <a:off x="395280" y="350028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 4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ля исследования функции на монотонность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ь по величине действительные числа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ес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2" descr="C:\Users\Олег\Desktop\img19.jpg"/>
          <p:cNvPicPr/>
          <p:nvPr/>
        </p:nvPicPr>
        <p:blipFill>
          <a:blip r:embed="rId2"/>
          <a:stretch/>
        </p:blipFill>
        <p:spPr>
          <a:xfrm>
            <a:off x="468360" y="4508640"/>
            <a:ext cx="331164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 5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ля исследования функции на монотонность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йте заключение относительно основания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Рисунок 2" descr="C:\Users\Олег\Desktop\img20.jpg"/>
          <p:cNvPicPr/>
          <p:nvPr/>
        </p:nvPicPr>
        <p:blipFill>
          <a:blip r:embed="rId1"/>
          <a:stretch/>
        </p:blipFill>
        <p:spPr>
          <a:xfrm>
            <a:off x="539640" y="1125360"/>
            <a:ext cx="3456000" cy="198756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3"/>
          <p:cNvSpPr/>
          <p:nvPr/>
        </p:nvSpPr>
        <p:spPr>
          <a:xfrm>
            <a:off x="539640" y="321300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6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дной координатной плоскости постройте графики функций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y = 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y = 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сполагаются графики показательных функций относительно друг друга при x &gt; 0, x = 0, x &lt; 0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4"/>
          <p:cNvSpPr/>
          <p:nvPr/>
        </p:nvSpPr>
        <p:spPr>
          <a:xfrm>
            <a:off x="611280" y="486900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7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дной координатной плоскости постройте графики функций: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(0,1)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y=(0,5)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y=(0,8)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сполагаются графики показательных функций относительно друг друга при x &gt; 0, x = 0, x &lt; 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ая работа класса. Обсуждение выполненных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учит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Контроль и коррекция знаний, предоставление возможности выявления причин ошибок и их исправл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обучаю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и от каждой пары  сообщают о результатах коллективной поисковой работы, отвечают на вопросы обучающихся из других груп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ная оценка, самооценка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задача 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формирование способности объективно оценивать меру своего продвижения к цели урока.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ная оценка, самооценка.  Итог уро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9280" y="105264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учи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вспомнить тему и задачи урока, определить достигнуты ли цели урока и оценить меру своего личного продвижения к цели и успехи класса в цел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спомните тему и цель наше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стигли ли мы поставленн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моменты вам наиболе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лис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вы оцениваете сво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на урок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ите свою работу на урок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затрудняетесь дать отве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ветуйтесь с сосед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8320" y="1125360"/>
            <a:ext cx="41716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обучаю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 степень соответст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ленной цели и результа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: называют тему и задачи урок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ют моменты, вызвавш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ение, наиболе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равившиеся эпизоды урок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ют оценочные суж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 степень свое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вижения к це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ют успешные ответ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ые вопрос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лассников. Могут отмет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ую работу па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528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ая цель уро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рмирование у обучающихся способностей к самостоятельному построению новых способов действия по теме «Показательная функция» на основе метода рефлексивной само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сширение понятийной базы по теме «Функция. Свойства функции» за счет включения в нее новых элемен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ая 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спитание качеств личности, обеспечивающих способность принимать самостоятельные решения; формирование качеств мышления, необходимых для дальнейшего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ируем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нать определение показательной функции, её свойства, применять изученные свойства показательной функции в решении конкретных зада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ые результат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овать приемы умственной деятельности – анализ, классификация, обобщение и подведение под понятие; представлять информацию в символической и табличной формах; уметь работать в коллективе, пар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(самоопределение) к учебной деятель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7920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рефлексивных умений определять границу между знанием и незнание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е обобщенными способами приобретения новых знаний: приемами постановки и определения проблемы, формулировк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ой познавательной задачи, выделения в задаче известных и новы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знавательных мотивов учебной деятельности: стремления открыть знания, приобрести ум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верка домашнего зад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водящие задачи, с помощью которой мотивируется изучение новой функции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банк начисляет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ых, внесенная сумма равн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сумму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ая будет на счёте через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 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3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давления атмосферы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 сантиметрах ртутного столба) от выраженной в километрах высоты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уровнем моря выражается формулой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е, каким будет атмосферное давление на вершине Эльбруса, высота которой 5,6 км.        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4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е города возрастает ежегодно на 3%. Через сколько лет население этого города увеличиться в 1,5 раза?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3"/>
              <p:cNvSpPr txBox="1"/>
              <p:nvPr/>
            </p:nvSpPr>
            <p:spPr>
              <a:xfrm>
                <a:off x="6300720" y="2349360"/>
                <a:ext cx="15112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3276720" y="3573360"/>
                <a:ext cx="1296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,7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7"/>
              <p:cNvSpPr txBox="1"/>
              <p:nvPr/>
            </p:nvSpPr>
            <p:spPr>
              <a:xfrm>
                <a:off x="6372360" y="5300640"/>
                <a:ext cx="19476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8"/>
              <p:cNvSpPr txBox="1"/>
              <p:nvPr/>
            </p:nvSpPr>
            <p:spPr>
              <a:xfrm>
                <a:off x="755640" y="6021360"/>
                <a:ext cx="11653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,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(самоопределение) к учебной деятельн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учи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имулирует активное участие всех обучающихся в поисковой деяте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улирует обобщенные вопрос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решить уравнение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общее объединяет рабочие  формулы к этим задачам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общую формул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 чего зависит сумма на счёте  через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т, если сумма начального вклада и годовой процент остаются неизменными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 чего зависит атмосферное давление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 называются такие зависимости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ложим  в этих формулах с=1,к=1, какую функцию получим? (у=а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обучаю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аруживают закономерности, обобщают результаты наблю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яют умение анализировать, обобщать, формулировать умозаключ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Object 10"/>
          <p:cNvGraphicFramePr/>
          <p:nvPr/>
        </p:nvGraphicFramePr>
        <p:xfrm>
          <a:off x="2500200" y="2214720"/>
          <a:ext cx="301176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2214720"/>
                    <a:ext cx="30117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12"/>
          <p:cNvGraphicFramePr/>
          <p:nvPr/>
        </p:nvGraphicFramePr>
        <p:xfrm>
          <a:off x="2916360" y="4365720"/>
          <a:ext cx="2368440" cy="12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4365720"/>
                    <a:ext cx="2368440" cy="126036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4" name="Object 16"/>
          <p:cNvGraphicFramePr/>
          <p:nvPr/>
        </p:nvGraphicFramePr>
        <p:xfrm>
          <a:off x="5435640" y="1125360"/>
          <a:ext cx="2054160" cy="60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5640" y="1125360"/>
                    <a:ext cx="205416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Line 17"/>
          <p:cNvSpPr/>
          <p:nvPr/>
        </p:nvSpPr>
        <p:spPr>
          <a:xfrm>
            <a:off x="1835280" y="1628640"/>
            <a:ext cx="1584360" cy="64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4140360" y="3068640"/>
            <a:ext cx="0" cy="93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9"/>
          <p:cNvSpPr/>
          <p:nvPr/>
        </p:nvSpPr>
        <p:spPr>
          <a:xfrm flipH="1">
            <a:off x="4643280" y="1628640"/>
            <a:ext cx="144144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3" descr=""/>
          <p:cNvPicPr/>
          <p:nvPr/>
        </p:nvPicPr>
        <p:blipFill>
          <a:blip r:embed="rId7"/>
          <a:stretch/>
        </p:blipFill>
        <p:spPr>
          <a:xfrm>
            <a:off x="1258920" y="1052640"/>
            <a:ext cx="2160720" cy="6476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5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ание целей и темы урока; плана и способов изучения нового матер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84360" y="2349360"/>
            <a:ext cx="7920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,Italic"/>
              </a:rPr>
              <a:t>Основная задач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способности анализировать, сравнивать имеющийся учебный материал, определять содержание и последовательность действий для решения поставленной зада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ание целей и темы урока; плана и способов изучения нового материал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учит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каких действий приведет нас к решению учебной задач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ирует коллективно составленный алгоритм изучения показательной фун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обучаю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уют новые учебные цели и зада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ют план действий по решению учебной зада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ют выбор эффективных путей  и средств достижения цели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5:52:13Z</dcterms:created>
  <dc:creator>Олег</dc:creator>
  <dc:description/>
  <dc:language>en-US</dc:language>
  <cp:lastModifiedBy>Олег</cp:lastModifiedBy>
  <dcterms:modified xsi:type="dcterms:W3CDTF">2013-11-02T00:32:28Z</dcterms:modified>
  <cp:revision>49</cp:revision>
  <dc:subject/>
  <dc:title>Слайд 1</dc:title>
</cp:coreProperties>
</file>