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485-2958-4843-9898-E5B61416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3AC-FD89-409E-9593-715870D5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35E7-F020-4C58-BFB4-63267680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FC0-8AD8-464E-8B04-03F81D65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5624-ED82-4C71-B84B-8B1F3016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ADAD-16FF-4CFF-940E-F4F82655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5500-1114-4216-9282-853FCC47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0A0D-8526-4FC6-8F34-819F3351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1562-2747-4D0D-A95C-C5F96D9C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27A7-9800-43B1-8F27-27A4BCFE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EDC0-4D22-4E63-97A7-19CC3828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5E0-AEB7-4A03-BBFB-9EEDA0F5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9B05-A96C-459F-8099-B851254B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8918-3E65-4699-815D-8806A50E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58E2-B5EB-40A9-8653-78E1040C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0283-0832-462D-BDAF-E26AF000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BB60-C7E2-46B6-96E4-09AD34D3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D7AA8-DC60-44D7-9B58-735E6B24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F24D69-FAF3-491D-9622-AB4FE322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EC6E3-9CFA-48B5-AF75-07AE5C1E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86F10-0254-45D0-BF11-666C2110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71C83-FE96-4A95-8162-6B277C25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1BB-B526-4DA7-B5DF-EE27FCBC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A39C2-761C-41C8-9B94-AE4395C5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ACFBF-26AE-4079-8B57-6B617788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61C06-70C4-4029-90DB-FDCA994D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BE3B6-6F2D-4B33-AE49-11E95934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895FD-D49F-40A3-8E4D-149BA716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3A791-A776-45F8-81B7-D54ECC8B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6C592-ACC1-4110-8DC5-270C59AC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76060-A3F5-4DF5-9D97-7E84AB8C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B3F2B-5553-4775-B439-E85405AC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27E3C-57C0-4B0E-AC61-5C7375F2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2C5D-7940-4E96-9F9B-86719059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F9497-E034-4797-A0C6-D62CAC7C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0CC12-C45A-41A9-BDC2-E4FDBCC7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C965B-92FF-4355-A6CB-76E1CCD7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F1BF7-6132-421D-8FB6-E663E50F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C6B98-D496-47B9-A6D8-6B0DA162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4063E-2DD1-4EB3-8780-1C5FE248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05380-57C4-40E0-A9D8-0F61EE32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B9085-0D7A-4F3A-A3C7-FF905C91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4A706-2E6B-4EC0-82D6-AD578925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3EEAE-B270-46E5-BA7A-B600BFBE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1E4-E6C4-4191-93E9-00AE8416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B3759-C3E7-4CB2-B35D-EE97F5C3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67A2C-F698-40D0-A527-19EFC2FD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4FA10-352A-43F0-AA76-16B5DBCE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B7D38-6776-40E9-8187-8481BDC6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81B0C-8796-4F67-8182-B2BA8DB8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F0D41-D0FD-4F47-8F57-5C92587C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1B5176-C1C4-46A8-8481-BB8C6FB2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0F5327-06D9-4C24-86ED-BA1C8E4B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AE0C2A-C073-40F3-B21C-8554E90E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A428F-E5E8-4D94-AAAA-205717AC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A22-2EDA-468F-B30F-621CCBAF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F3111-42EE-4E80-ACFB-2D5342A3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7A617-2B88-4997-AA9C-4331B495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4A98B-F9A0-4083-AEC1-4306CF30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248557-4815-4DD6-BE70-9567A12B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79DDDF-7607-4C84-B2A2-A38F5AD4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7E42DF-E902-4C27-A959-443F5C5F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737F2-AD9F-4BAC-A555-E188D540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ECEEC5-03B0-43A9-93B3-0102A120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94D5A3-04F7-451F-9B30-87F263D8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399E7-EB8C-4D3D-81D0-DB99070E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B93-0362-49ED-9AF8-1380007B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E809E-085E-4C17-9009-8997D335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2E49A-DBA9-459C-B5A8-3D58CC1D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A57E1F-D560-452E-B3E0-0C7FC862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2B654-FB7F-42B5-976F-03D88B8C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B69118-A9D0-497F-B2B7-F360942F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18693E-FD8F-44CF-93D6-8A74281E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ACD429-F5CA-4EA7-BECD-1B404D5F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9592E-EC26-47BC-AF6F-B3880C17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85FFF3-F60F-4DF7-A073-039BA0E0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A99C26-060B-4BD2-A3A5-FB295D23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1CD-2006-4989-ADB5-D3D1A3A4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1A0D0-CB8E-4C42-A218-4D9F680D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08DBBB-BEA5-4592-A7C7-EA47A995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C490E8-8391-48DA-9318-EE75F676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F4FFD-EBF0-47AF-92E7-04BA298F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7AE92-B3C8-475E-8303-CEBECD9A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F14-DD6C-4993-A361-5367D0B1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d3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e3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e3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f1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d3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f1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d3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d3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5" name="Прямая соединительная линия 14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9" name="Овал 19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d3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e3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e3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f1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d3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f1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d3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d3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4d4d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4d4d6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09" name="Прямая соединительная линия 14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0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1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2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3" name="Овал 19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bsmu.by/downloads/kafedri/k_pat_fiz/7.pdf" TargetMode="External"/><Relationship Id="rId2" Type="http://schemas.openxmlformats.org/officeDocument/2006/relationships/hyperlink" Target="https://www.quarta-rad.ru/useful/vse-o-radiacii/radiaciya/#opasnost-realnaya-mnimaya" TargetMode="External"/><Relationship Id="rId3" Type="http://schemas.openxmlformats.org/officeDocument/2006/relationships/hyperlink" Target="http://ekosf.ru/stati/724-chto-takoe-radiatsiya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5"/>
          <p:cNvSpPr txBox="1"/>
          <p:nvPr/>
        </p:nvSpPr>
        <p:spPr>
          <a:xfrm>
            <a:off x="5810400" y="4786200"/>
            <a:ext cx="3333600" cy="66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a6378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5a6378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1908000" y="24768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Century Schoolbook"/>
                <a:ea typeface="Arial"/>
              </a:rPr>
              <a:t>МОУ «СОШ им. А. П. Чехова»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53" name="Прямоугольник 4"/>
          <p:cNvSpPr/>
          <p:nvPr/>
        </p:nvSpPr>
        <p:spPr>
          <a:xfrm>
            <a:off x="971640" y="1863720"/>
            <a:ext cx="8001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d313c"/>
                </a:solidFill>
                <a:latin typeface="Century Schoolbook"/>
                <a:ea typeface="Arial"/>
              </a:rPr>
              <a:t>Тема работы: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a3130"/>
                </a:solidFill>
                <a:latin typeface="Century Schoolbook"/>
                <a:ea typeface="Arial"/>
              </a:rPr>
              <a:t>«Изучение радиационного фона города»</a:t>
            </a:r>
            <a:endParaRPr b="0" lang="en-US" sz="40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54" name="Прямоугольник 6"/>
          <p:cNvSpPr/>
          <p:nvPr/>
        </p:nvSpPr>
        <p:spPr>
          <a:xfrm>
            <a:off x="3403440" y="5057640"/>
            <a:ext cx="557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Century Schoolbook"/>
                <a:ea typeface="Arial"/>
              </a:rPr>
              <a:t>Автор: Дёмкина Дарья,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Century Schoolbook"/>
                <a:ea typeface="Arial"/>
              </a:rPr>
              <a:t>ученица 10а класса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Century Schoolbook"/>
                <a:ea typeface="Arial"/>
              </a:rPr>
              <a:t>Руководитель: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313c"/>
                </a:solidFill>
                <a:latin typeface="Century Schoolbook"/>
                <a:ea typeface="Arial"/>
              </a:rPr>
              <a:t>Матросова И.В.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355" name="Рисунок 12" descr=""/>
          <p:cNvPicPr/>
          <p:nvPr/>
        </p:nvPicPr>
        <p:blipFill>
          <a:blip r:embed="rId1"/>
          <a:stretch/>
        </p:blipFill>
        <p:spPr>
          <a:xfrm>
            <a:off x="6875640" y="843120"/>
            <a:ext cx="1593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4437000" y="897840"/>
            <a:ext cx="44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2020"/>
                </a:solidFill>
                <a:latin typeface="Century Schoolbook"/>
                <a:ea typeface="Arial"/>
              </a:rPr>
              <a:t>Воздействие ионизирующего излучения на различные ткани организма</a:t>
            </a:r>
            <a:endParaRPr b="0" lang="en-US" sz="32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372" name="Рисунок 2" descr=""/>
          <p:cNvPicPr/>
          <p:nvPr/>
        </p:nvPicPr>
        <p:blipFill>
          <a:blip r:embed="rId1"/>
          <a:stretch/>
        </p:blipFill>
        <p:spPr>
          <a:xfrm>
            <a:off x="223920" y="7920"/>
            <a:ext cx="432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74600" y="839520"/>
            <a:ext cx="699480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2020"/>
                </a:solidFill>
                <a:latin typeface="Century Schoolbook"/>
              </a:rPr>
              <a:t>ЕДИНИЦЫ ИЗМЕРЕНИЯ РАДИОАКТИВНОСТИ</a:t>
            </a:r>
            <a:endParaRPr b="0" lang="en-US" sz="32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74" name="Прямоугольник 5"/>
          <p:cNvSpPr/>
          <p:nvPr/>
        </p:nvSpPr>
        <p:spPr>
          <a:xfrm>
            <a:off x="450720" y="1501920"/>
            <a:ext cx="824256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Единицей измерения полученной дозы радиации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иверт</a:t>
            </a:r>
            <a:r>
              <a:rPr b="0" lang="ru-RU" sz="32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5a6378"/>
              </a:solidFill>
              <a:latin typeface="Tahoma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1 Зиверт = 100 Рентген. </a:t>
            </a:r>
            <a:endParaRPr b="0" lang="en-US" sz="3200" spc="-1" strike="noStrike">
              <a:solidFill>
                <a:srgbClr val="5a6378"/>
              </a:solidFill>
              <a:latin typeface="Tahoma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Все мои измерения представлены в микрозивертах в час (мкЗв/ч), Эта единица показывает, какую дозу радиации тело поглощает в течение часа. </a:t>
            </a:r>
            <a:endParaRPr b="0" lang="en-US" sz="32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714680" y="33336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</a:rPr>
              <a:t>Допустимые дозы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76" name="Прямоугольник 1"/>
          <p:cNvSpPr/>
          <p:nvPr/>
        </p:nvSpPr>
        <p:spPr>
          <a:xfrm>
            <a:off x="576360" y="1125360"/>
            <a:ext cx="7991280" cy="51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Радиационный фон с показаниям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- 0,20 </a:t>
            </a:r>
            <a:r>
              <a:rPr b="0" lang="ru-RU" sz="32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мкЗв/ч является нормой.</a:t>
            </a:r>
            <a:endParaRPr b="0" lang="en-US" sz="3200" spc="-1" strike="noStrike">
              <a:solidFill>
                <a:srgbClr val="5a6378"/>
              </a:solidFill>
              <a:latin typeface="Tahoma"/>
            </a:endParaRPr>
          </a:p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5a6378"/>
              </a:solidFill>
              <a:latin typeface="Tahoma"/>
            </a:endParaRPr>
          </a:p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20 - 0,45 </a:t>
            </a:r>
            <a:r>
              <a:rPr b="0" lang="ru-RU" sz="32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мкЗв/ч - допустимая величина, но с нежелательным пребыванием.</a:t>
            </a:r>
            <a:endParaRPr b="0" lang="en-US" sz="3200" spc="-1" strike="noStrike">
              <a:solidFill>
                <a:srgbClr val="5a6378"/>
              </a:solidFill>
              <a:latin typeface="Tahoma"/>
            </a:endParaRPr>
          </a:p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5a6378"/>
              </a:solidFill>
              <a:latin typeface="Tahoma"/>
            </a:endParaRPr>
          </a:p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,6</a:t>
            </a:r>
            <a:r>
              <a:rPr b="0" lang="ru-RU" sz="32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 мкЗв/ч и выше — этот уровень опасен даже для кратковременного пребывания.</a:t>
            </a:r>
            <a:endParaRPr b="0" lang="en-US" sz="32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1" descr=""/>
          <p:cNvPicPr/>
          <p:nvPr/>
        </p:nvPicPr>
        <p:blipFill>
          <a:blip r:embed="rId1"/>
          <a:stretch/>
        </p:blipFill>
        <p:spPr>
          <a:xfrm>
            <a:off x="1714680" y="1484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6"/>
          <p:cNvSpPr/>
          <p:nvPr/>
        </p:nvSpPr>
        <p:spPr>
          <a:xfrm>
            <a:off x="468360" y="19800"/>
            <a:ext cx="791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</a:rPr>
              <a:t>Приборы для измерения радиоактивного фона. Индикатор радиоактивности </a:t>
            </a:r>
            <a:r>
              <a:rPr b="1" lang="en-US" sz="3600" spc="-1" strike="noStrike">
                <a:solidFill>
                  <a:srgbClr val="672020"/>
                </a:solidFill>
                <a:latin typeface="Century Schoolbook"/>
              </a:rPr>
              <a:t>Radex </a:t>
            </a:r>
            <a:r>
              <a:rPr b="1" lang="ru-RU" sz="3600" spc="-1" strike="noStrike">
                <a:solidFill>
                  <a:srgbClr val="672020"/>
                </a:solidFill>
                <a:latin typeface="Century Schoolbook"/>
              </a:rPr>
              <a:t>РД1706. 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4674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</a:rPr>
              <a:t>Проведение замеров уровня радиации в помещении </a:t>
            </a:r>
            <a:br>
              <a:rPr sz="3200"/>
            </a:br>
            <a:endParaRPr b="0" lang="en-US" sz="36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80" name="Прямоугольник 2"/>
          <p:cNvSpPr/>
          <p:nvPr/>
        </p:nvSpPr>
        <p:spPr>
          <a:xfrm>
            <a:off x="468360" y="1504800"/>
            <a:ext cx="788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a6378"/>
                </a:solidFill>
                <a:latin typeface="Century Schoolbook"/>
                <a:ea typeface="Times New Roman"/>
              </a:rPr>
              <a:t>Ход работы.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6378"/>
                </a:solidFill>
                <a:latin typeface="Century Schoolbook"/>
                <a:ea typeface="Times New Roman"/>
              </a:rPr>
              <a:t>1. Были проведены пятикратные замеры в помещениях двухкомнатной квартиры, расположенной в кирпичном доме, по принципу конверта.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6378"/>
                </a:solidFill>
                <a:latin typeface="Century Schoolbook"/>
                <a:ea typeface="Times New Roman"/>
              </a:rPr>
              <a:t>2. Далее рассчитано среднее арифметическое показание уровня радиации.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6378"/>
                </a:solidFill>
                <a:latin typeface="Century Schoolbook"/>
                <a:ea typeface="Times New Roman"/>
              </a:rPr>
              <a:t>3. Результаты были занесены в таблицу (см. таблица 1)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6378"/>
                </a:solidFill>
                <a:latin typeface="Century Schoolbook"/>
                <a:ea typeface="Times New Roman"/>
              </a:rPr>
              <a:t>4. Сделаны выводы.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0" y="0"/>
          <a:ext cx="9180360" cy="6908760"/>
        </p:xfrm>
        <a:graphic>
          <a:graphicData uri="http://schemas.openxmlformats.org/drawingml/2006/table">
            <a:tbl>
              <a:tblPr/>
              <a:tblGrid>
                <a:gridCol w="2124000"/>
                <a:gridCol w="1227240"/>
                <a:gridCol w="1150920"/>
                <a:gridCol w="1152360"/>
                <a:gridCol w="1152720"/>
                <a:gridCol w="1152360"/>
                <a:gridCol w="1220760"/>
              </a:tblGrid>
              <a:tr h="117216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бъект исследования</a:t>
                      </a:r>
                      <a:endParaRPr b="0" lang="en-US" sz="19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 замер, мкЗв/ч</a:t>
                      </a:r>
                      <a:endParaRPr b="0" lang="en-US" sz="19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 </a:t>
                      </a:r>
                      <a:endParaRPr b="0" lang="en-US" sz="19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амер, мкЗв/ч</a:t>
                      </a:r>
                      <a:endParaRPr b="0" lang="en-US" sz="19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 </a:t>
                      </a:r>
                      <a:endParaRPr b="0" lang="en-US" sz="19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амер, мкЗв/ч</a:t>
                      </a:r>
                      <a:endParaRPr b="0" lang="en-US" sz="19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4 </a:t>
                      </a:r>
                      <a:endParaRPr b="0" lang="en-US" sz="19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амер, мкЗв/ч</a:t>
                      </a:r>
                      <a:endParaRPr b="0" lang="en-US" sz="19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 </a:t>
                      </a:r>
                      <a:endParaRPr b="0" lang="en-US" sz="19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амер, мкЗв/ч</a:t>
                      </a:r>
                      <a:endParaRPr b="0" lang="en-US" sz="19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реднее значе-ние, мкЗв/ч</a:t>
                      </a:r>
                      <a:endParaRPr b="0" lang="en-US" sz="19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568440"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ухня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20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2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2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2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3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512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ухня (после проветривания)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8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6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0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8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0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0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472320"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ридор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8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8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6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7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7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7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7318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анная комната (пол)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28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24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8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7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7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0,20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7318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уалет 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27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27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25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5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6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0,22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744840"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ьшая комната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8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8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8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0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9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9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731880"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ленькая комната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0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3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2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731880"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алкон (застеклен)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0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4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9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2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-20520" y="1434960"/>
          <a:ext cx="9144000" cy="5405400"/>
        </p:xfrm>
        <a:graphic>
          <a:graphicData uri="http://schemas.openxmlformats.org/drawingml/2006/table">
            <a:tbl>
              <a:tblPr/>
              <a:tblGrid>
                <a:gridCol w="2700360"/>
                <a:gridCol w="1008000"/>
                <a:gridCol w="1079280"/>
                <a:gridCol w="1008360"/>
                <a:gridCol w="1079280"/>
                <a:gridCol w="1081080"/>
                <a:gridCol w="1187640"/>
              </a:tblGrid>
              <a:tr h="109764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бъект исследования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 замер, мкЗв/ч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 замер, мкЗв/ч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 замер, мкЗв/ч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4 замер, мкЗв/ч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 замер, мкЗв/ч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реднее значе-ние, мкЗв/ч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10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арк у «Ровесника»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3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2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3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0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2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82332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л. Панфилова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Старая мельница» и промзона за ней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9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2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2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82332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дземный переход в Н.-Иерусалиме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6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4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5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5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3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5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82332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л. Почтовая,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жарная часть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4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8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3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7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6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6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09764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дник на ул. Шоссейная в Сычёвках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7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6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5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5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5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6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383" name="Прямоугольник 2"/>
          <p:cNvSpPr/>
          <p:nvPr/>
        </p:nvSpPr>
        <p:spPr>
          <a:xfrm>
            <a:off x="179280" y="115920"/>
            <a:ext cx="841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2020"/>
                </a:solidFill>
                <a:latin typeface="Century Schoolbook"/>
                <a:ea typeface="Tahoma"/>
              </a:rPr>
              <a:t>Измерение радиационного фона в некоторых точках города</a:t>
            </a:r>
            <a:endParaRPr b="0" lang="en-US" sz="32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3240" y="-65160"/>
          <a:ext cx="9144000" cy="6923160"/>
        </p:xfrm>
        <a:graphic>
          <a:graphicData uri="http://schemas.openxmlformats.org/drawingml/2006/table">
            <a:tbl>
              <a:tblPr/>
              <a:tblGrid>
                <a:gridCol w="2865240"/>
                <a:gridCol w="1008360"/>
                <a:gridCol w="1152360"/>
                <a:gridCol w="1224000"/>
                <a:gridCol w="1008000"/>
                <a:gridCol w="914400"/>
                <a:gridCol w="971640"/>
              </a:tblGrid>
              <a:tr h="82332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ьница, ул. Урицкого, 83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0c9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0c9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0c9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2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0c9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0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0c9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0c9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0c9"/>
                    </a:solidFill>
                  </a:tcPr>
                </a:tc>
              </a:tr>
              <a:tr h="6620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л. Загородная, АБЗ, СтройПрофиль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3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3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2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2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2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7002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порткомплекс «Арена» стоянка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6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6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5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7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6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6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8730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л. Первомайская Парк культуры и отдыха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8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7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8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8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8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8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0192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л.Урицкого, 40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8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7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7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8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8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8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86832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л. Рябкина, 41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коло Пожарной части №60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5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3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2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2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3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984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л. 25 лет Октября, д.9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7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6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4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5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6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6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8748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газин «Магнит» на Советской, 13 (у входа)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2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8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9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8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7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8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8233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арковка Ашан</a:t>
                      </a: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2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2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0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11</a:t>
                      </a:r>
                      <a:endParaRPr b="0" lang="en-US" sz="20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3203640" y="333360"/>
            <a:ext cx="38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a3130"/>
                </a:solidFill>
                <a:latin typeface="Century Schoolbook"/>
              </a:rPr>
              <a:t>Выводы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86" name="Прямоугольник 1"/>
          <p:cNvSpPr/>
          <p:nvPr/>
        </p:nvSpPr>
        <p:spPr>
          <a:xfrm>
            <a:off x="179280" y="979560"/>
            <a:ext cx="8425080" cy="67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Aft>
                <a:spcPts val="601"/>
              </a:spcAft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Цель данной работы была достигнута – измерен МЭД гамма-излучения в различных точках города, в помещении и на открытом воздухе. </a:t>
            </a:r>
            <a:endParaRPr b="0" lang="en-US" sz="2500" spc="-1" strike="noStrike">
              <a:solidFill>
                <a:srgbClr val="5a6378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Aft>
                <a:spcPts val="601"/>
              </a:spcAft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Подведены итоги работы.</a:t>
            </a:r>
            <a:endParaRPr b="0" lang="en-US" sz="2500" spc="-1" strike="noStrike">
              <a:solidFill>
                <a:srgbClr val="5a6378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Aft>
                <a:spcPts val="601"/>
              </a:spcAft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Представлены в виде таблиц результаты замеров. Максимальный уровень МЭД гамма-излучения не превысил 0,18 мкЗв/ч на улице и 0,22 мкЗв в жилом помещении.</a:t>
            </a:r>
            <a:endParaRPr b="0" lang="en-US" sz="2500" spc="-1" strike="noStrike">
              <a:solidFill>
                <a:srgbClr val="5a6378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Aft>
                <a:spcPts val="601"/>
              </a:spcAft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В помещениях уровень МЭД всегда выше.</a:t>
            </a:r>
            <a:endParaRPr b="0" lang="en-US" sz="2500" spc="-1" strike="noStrike">
              <a:solidFill>
                <a:srgbClr val="5a6378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Aft>
                <a:spcPts val="601"/>
              </a:spcAft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1"/>
          <p:cNvSpPr/>
          <p:nvPr/>
        </p:nvSpPr>
        <p:spPr>
          <a:xfrm>
            <a:off x="108000" y="-171360"/>
            <a:ext cx="85294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spcAft>
                <a:spcPts val="601"/>
              </a:spcAft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marL="171360" indent="-171360" algn="just">
              <a:lnSpc>
                <a:spcPct val="150000"/>
              </a:lnSpc>
              <a:spcAft>
                <a:spcPts val="601"/>
              </a:spcAft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.Работа с дозиметром показала, что данный прибор неплохо иметь в каждой семье для своевременной  оценки уровня опасности.</a:t>
            </a:r>
            <a:endParaRPr b="0" lang="en-US" sz="25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760" y="-23760"/>
            <a:ext cx="8232480" cy="538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67202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672020"/>
                </a:solidFill>
                <a:latin typeface="Century Schoolbook"/>
              </a:rPr>
              <a:t>Гипотеза</a:t>
            </a:r>
            <a:r>
              <a:rPr b="1" lang="ru-RU" sz="3200" spc="-1" strike="noStrike">
                <a:solidFill>
                  <a:srgbClr val="672020"/>
                </a:solidFill>
                <a:latin typeface="Calibri"/>
              </a:rPr>
              <a:t>:</a:t>
            </a:r>
            <a:r>
              <a:rPr b="1" lang="ru-RU" sz="2600" spc="-1" strike="noStrike">
                <a:solidFill>
                  <a:srgbClr val="5a6378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343437"/>
                </a:solidFill>
                <a:latin typeface="Tahoma"/>
                <a:ea typeface="Tahoma"/>
              </a:rPr>
              <a:t>радиационный фон нашего города может отклоняться от нормы. </a:t>
            </a:r>
            <a:br>
              <a:rPr sz="2600"/>
            </a:br>
            <a:br>
              <a:rPr sz="2600"/>
            </a:br>
            <a:r>
              <a:rPr b="1" lang="ru-RU" sz="3200" spc="-1" strike="noStrike">
                <a:solidFill>
                  <a:srgbClr val="672020"/>
                </a:solidFill>
                <a:latin typeface="Century Schoolbook"/>
              </a:rPr>
              <a:t>Цель работы:</a:t>
            </a:r>
            <a:r>
              <a:rPr b="1" lang="ru-RU" sz="3200" spc="-1" strike="noStrike">
                <a:solidFill>
                  <a:srgbClr val="5a6378"/>
                </a:solidFill>
                <a:latin typeface="Century Schoolbook"/>
              </a:rPr>
              <a:t> </a:t>
            </a:r>
            <a:r>
              <a:rPr b="0" lang="ru-RU" sz="2600" spc="-1" strike="noStrike">
                <a:solidFill>
                  <a:srgbClr val="343437"/>
                </a:solidFill>
                <a:latin typeface="Tahoma"/>
                <a:ea typeface="Tahoma"/>
              </a:rPr>
              <a:t>оценить радиационный фон в городе Истре, в помещениях и на открытой местности</a:t>
            </a:r>
            <a:endParaRPr b="0" lang="en-US" sz="2600" spc="-1" strike="noStrike">
              <a:solidFill>
                <a:srgbClr val="5a6378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468360" y="260280"/>
            <a:ext cx="8207280" cy="61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6378"/>
                </a:solidFill>
                <a:latin typeface="Tahoma"/>
              </a:rPr>
              <a:t>Список использованных источников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6378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6378"/>
                </a:solidFill>
                <a:latin typeface="Tahoma"/>
              </a:rPr>
              <a:t>Максимов М.Т., Оджагов Г.О. Радиоактивные загрязнения и их измерение. Учеб. пособие – М.: Энергоатомиздат, 1986 г., 224 с.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6378"/>
                </a:solidFill>
                <a:latin typeface="Tahoma"/>
              </a:rPr>
              <a:t>Повреждающее воздействие ИИ.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68bba"/>
                </a:solidFill>
                <a:uFillTx/>
                <a:latin typeface="Tahoma"/>
                <a:hlinkClick r:id="rId1"/>
              </a:rPr>
              <a:t>https://www.bsmu.by/downloads/kafedri/k_pat_fiz/7.pdf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6378"/>
                </a:solidFill>
                <a:latin typeface="Tahoma"/>
              </a:rPr>
              <a:t>Радиация – доступным языком. Статья доктора физико-математических наук, профессора МИФИ Н.М. Гаврилова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68bba"/>
                </a:solidFill>
                <a:uFillTx/>
                <a:latin typeface="Tahoma"/>
                <a:hlinkClick r:id="rId2"/>
              </a:rPr>
              <a:t>https://www.quarta-rad.ru/useful/vse-o-radiacii/radiaciya/#opasnost-realnaya-mnimaya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>
              <a:buClr>
                <a:srgbClr val="5a63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6378"/>
                </a:solidFill>
                <a:latin typeface="Tahoma"/>
              </a:rPr>
              <a:t>Что такое радиация.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68bba"/>
                </a:solidFill>
                <a:uFillTx/>
                <a:latin typeface="Tahoma"/>
                <a:hlinkClick r:id="rId3"/>
              </a:rPr>
              <a:t>http://ekosf.ru/stati/724-chto-takoe-radiatsiya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4678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Задачи исследования: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48760" y="1000080"/>
            <a:ext cx="8643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1. изучить литературу по данной теме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  </a:t>
            </a: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2. научиться пользоваться дозиметром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  </a:t>
            </a: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3. провести замеры уровня радиации в разных районах город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  </a:t>
            </a: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4. проанализировать результаты измерений и сделать вывод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  </a:t>
            </a: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5. ознакомить с результатами моей работы общественност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000" y="342864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a6378"/>
                </a:solidFill>
                <a:latin typeface="Century Schoolbook"/>
              </a:rPr>
              <a:t>«ОТНОШЕНИЕ ЛЮДЕЙ К ТОЙ ИЛИ ИНОЙ </a:t>
            </a:r>
            <a:br>
              <a:rPr sz="3200"/>
            </a:br>
            <a:r>
              <a:rPr b="1" i="1" lang="ru-RU" sz="3200" spc="-1" strike="noStrike">
                <a:solidFill>
                  <a:srgbClr val="5a6378"/>
                </a:solidFill>
                <a:latin typeface="Century Schoolbook"/>
              </a:rPr>
              <a:t>ОПАСНОСТИ ОПРЕДЕЛЯЕТСЯ ТЕМ, </a:t>
            </a:r>
            <a:br>
              <a:rPr sz="3200"/>
            </a:br>
            <a:r>
              <a:rPr b="1" i="1" lang="ru-RU" sz="3200" spc="-1" strike="noStrike">
                <a:solidFill>
                  <a:srgbClr val="5a6378"/>
                </a:solidFill>
                <a:latin typeface="Century Schoolbook"/>
              </a:rPr>
              <a:t>НАСКОЛЬКО ХОРОШО ОНА ИМ ЗНАКОМА».</a:t>
            </a:r>
            <a:endParaRPr b="0" lang="en-US" sz="3200" spc="-1" strike="noStrike">
              <a:solidFill>
                <a:srgbClr val="5a6378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025720" y="764640"/>
            <a:ext cx="7129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6378"/>
                </a:solidFill>
                <a:latin typeface="Century Schoolbook"/>
              </a:rPr>
              <a:t>В природе существует явление, на которое человек из-за отсутствия необходимых органов чувств не может мгновенно реагировать. Это…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2484360" y="4365720"/>
            <a:ext cx="59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Tahoma"/>
              </a:rPr>
              <a:t>радиоактивность</a:t>
            </a:r>
            <a:endParaRPr b="0" lang="en-US" sz="5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6"/>
          <p:cNvSpPr/>
          <p:nvPr/>
        </p:nvSpPr>
        <p:spPr>
          <a:xfrm>
            <a:off x="-757080" y="3045960"/>
            <a:ext cx="658944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a6378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a6378"/>
                </a:solidFill>
                <a:latin typeface="Tahoma"/>
              </a:rPr>
              <a:t>Такие элементы 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a6378"/>
                </a:solidFill>
                <a:latin typeface="Tahoma"/>
              </a:rPr>
              <a:t>называют 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радиоактивными</a:t>
            </a:r>
            <a:r>
              <a:rPr b="0" lang="ru-RU" sz="3600" spc="-1" strike="noStrike">
                <a:solidFill>
                  <a:srgbClr val="5a6378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363" name="Рисунок 4" descr=""/>
          <p:cNvPicPr/>
          <p:nvPr/>
        </p:nvPicPr>
        <p:blipFill>
          <a:blip r:embed="rId1"/>
          <a:stretch/>
        </p:blipFill>
        <p:spPr>
          <a:xfrm>
            <a:off x="5832360" y="3789360"/>
            <a:ext cx="2916360" cy="291780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6"/>
          <p:cNvSpPr/>
          <p:nvPr/>
        </p:nvSpPr>
        <p:spPr>
          <a:xfrm>
            <a:off x="574560" y="404640"/>
            <a:ext cx="799488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Радиоактивность</a:t>
            </a:r>
            <a:r>
              <a:rPr b="0" lang="ru-RU" sz="3600" spc="-1" strike="noStrike">
                <a:solidFill>
                  <a:srgbClr val="5a6378"/>
                </a:solidFill>
                <a:latin typeface="Tahoma"/>
              </a:rPr>
              <a:t> – это способность некоторых химических элементов (урана, тория, радия, калифорния и др.) самопроизвольно распадаться и испускать невидимые излучения.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468360" y="9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Самые опасные виды ионизирующих излучений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66" name="Прямоугольник 1"/>
          <p:cNvSpPr/>
          <p:nvPr/>
        </p:nvSpPr>
        <p:spPr>
          <a:xfrm>
            <a:off x="217440" y="1058760"/>
            <a:ext cx="8709120" cy="58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-излучение</a:t>
            </a:r>
            <a:r>
              <a:rPr b="0" lang="ru-RU" sz="32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 – поток положительно-заряженных частиц (ядер атомов гелия), движущихся со скоростью около 20000 км/с.</a:t>
            </a:r>
            <a:endParaRPr b="0" lang="en-US" sz="3200" spc="-1" strike="noStrike">
              <a:solidFill>
                <a:srgbClr val="5a6378"/>
              </a:solidFill>
              <a:latin typeface="Tahoma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-излучение</a:t>
            </a:r>
            <a:r>
              <a:rPr b="0" lang="ru-RU" sz="32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 – поток отрицательно-заряженных частиц, их скорость приближается к скорости света.</a:t>
            </a:r>
            <a:endParaRPr b="0" lang="en-US" sz="3200" spc="-1" strike="noStrike">
              <a:solidFill>
                <a:srgbClr val="5a6378"/>
              </a:solidFill>
              <a:latin typeface="Tahoma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γ-излучение</a:t>
            </a:r>
            <a:r>
              <a:rPr b="0" lang="ru-RU" sz="3200" spc="-1" strike="noStrike">
                <a:solidFill>
                  <a:srgbClr val="5a6378"/>
                </a:solidFill>
                <a:latin typeface="Times New Roman"/>
                <a:ea typeface="Times New Roman"/>
              </a:rPr>
              <a:t> представляет собой коротковолновое электромагнитное излучение. Оно распространяется со скоростью света.</a:t>
            </a:r>
            <a:endParaRPr b="0" lang="en-US" sz="32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2" descr=""/>
          <p:cNvPicPr/>
          <p:nvPr/>
        </p:nvPicPr>
        <p:blipFill>
          <a:blip r:embed="rId1"/>
          <a:stretch/>
        </p:blipFill>
        <p:spPr>
          <a:xfrm>
            <a:off x="1608120" y="1052640"/>
            <a:ext cx="5927760" cy="558936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4"/>
          <p:cNvSpPr/>
          <p:nvPr/>
        </p:nvSpPr>
        <p:spPr>
          <a:xfrm>
            <a:off x="0" y="-307080"/>
            <a:ext cx="90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Источники ионизирующих излучений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2" descr=""/>
          <p:cNvPicPr/>
          <p:nvPr/>
        </p:nvPicPr>
        <p:blipFill>
          <a:blip r:embed="rId1"/>
          <a:stretch/>
        </p:blipFill>
        <p:spPr>
          <a:xfrm>
            <a:off x="0" y="1962000"/>
            <a:ext cx="9144000" cy="4289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4"/>
          <p:cNvSpPr/>
          <p:nvPr/>
        </p:nvSpPr>
        <p:spPr>
          <a:xfrm>
            <a:off x="73080" y="291960"/>
            <a:ext cx="907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Проникающая способность 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разных видов ионизирующих излучений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3:40:18Z</dcterms:created>
  <dc:creator>NOCH</dc:creator>
  <dc:description/>
  <dc:language>en-US</dc:language>
  <cp:lastModifiedBy>Asus</cp:lastModifiedBy>
  <dcterms:modified xsi:type="dcterms:W3CDTF">2019-12-12T19:52:12Z</dcterms:modified>
  <cp:revision>193</cp:revision>
  <dc:subject/>
  <dc:title>Классификация меда</dc:title>
</cp:coreProperties>
</file>