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78D8-ACCB-4BF5-AD27-F5FD648F2D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28CE-C3F6-4420-B7C8-39632DC8DD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942E-AECB-4A06-A72C-4C850AC12C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6392-198D-4FD1-BA07-CFCD36DFC7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5C86-F7D7-45AF-91C8-07DA5F8075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B1E5-43A3-4049-A82E-B8CAA784B1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C222-17F8-4FC6-A1CC-E385C47303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232-54B8-428E-8F9E-50CC48B3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7019-1223-4A50-8589-1AD0C458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3CE-5E5D-4D13-B9EC-AABD2DBE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42C-EECC-4A5C-9F9D-B5868877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07DD-AE25-497E-9017-993B00AE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BFFD-8DA4-4612-B4BD-44C4CB33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C569-CFFA-400C-ACE0-089B6D74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D87C-6A7A-412B-BAE4-0181A1E0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B34B-F620-4780-B4BA-0D0EE864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55E4-666A-423B-A141-132E5183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BCBB-EC88-4C97-94B9-D72A71EA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FF2-E0BA-4683-8544-3915DFB6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D69A-8453-4C4C-81BD-6C78A107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724C-0D81-4B57-8859-8F69D0F6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7FE7-E9D2-47C5-A854-C7C39BB4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912B-F68A-4072-8BDF-9DF2244C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2F53-4FFC-4E41-BBDA-78CB5A5C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6499-1193-431B-9459-D9B83274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63FF-56E9-456C-AA79-6F64F3B3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3C1-8BBB-4A90-B058-53623B3B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8B4-D11C-4C29-A124-C7367072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5FC9-CEFE-4C32-8FC1-34477710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5FD-0BE6-45B9-9284-F245EAF8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532-D017-42FB-A85B-75199C8C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5584-8B75-414B-82D3-7AE5986EA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FD04-A218-494D-BD6E-209E6217B2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700092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 United Kingdom of Great Britain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d Northern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Ireland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560" y="524196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1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1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9" descr="Флаг_Великобритании"/>
          <p:cNvPicPr/>
          <p:nvPr/>
        </p:nvPicPr>
        <p:blipFill>
          <a:blip r:embed="rId1"/>
          <a:stretch/>
        </p:blipFill>
        <p:spPr>
          <a:xfrm>
            <a:off x="928800" y="3571920"/>
            <a:ext cx="2525760" cy="132228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pic>
        <p:nvPicPr>
          <p:cNvPr id="221" name="Picture 10" descr="Карта_Великобритании"/>
          <p:cNvPicPr/>
          <p:nvPr/>
        </p:nvPicPr>
        <p:blipFill>
          <a:blip r:embed="rId2"/>
          <a:srcRect l="13319" t="18717" r="1903" b="8336"/>
          <a:stretch/>
        </p:blipFill>
        <p:spPr>
          <a:xfrm>
            <a:off x="4143240" y="1285920"/>
            <a:ext cx="4786560" cy="535788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sp>
        <p:nvSpPr>
          <p:cNvPr id="222" name="Прямоугольник 5"/>
          <p:cNvSpPr/>
          <p:nvPr/>
        </p:nvSpPr>
        <p:spPr>
          <a:xfrm>
            <a:off x="2286000" y="35712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2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38640" y="581040"/>
            <a:ext cx="8507160" cy="412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ckingham Palace</a:t>
            </a:r>
            <a:r>
              <a:rPr b="1" lang="en-US" sz="2800" spc="-1" strike="noStrike">
                <a:solidFill>
                  <a:srgbClr val="001d2e"/>
                </a:solidFill>
                <a:latin typeface="Arial"/>
              </a:rPr>
              <a:t> is the London home of the Queen.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0800" y="5071680"/>
            <a:ext cx="8583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2e"/>
                </a:solidFill>
                <a:latin typeface="Arial"/>
              </a:rPr>
              <a:t>When the flag is flying on the top she is at h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6" descr="Buckingham Palace"/>
          <p:cNvPicPr/>
          <p:nvPr/>
        </p:nvPicPr>
        <p:blipFill>
          <a:blip r:embed="rId1"/>
          <a:stretch/>
        </p:blipFill>
        <p:spPr>
          <a:xfrm>
            <a:off x="2071800" y="1357200"/>
            <a:ext cx="5668920" cy="344484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pic>
        <p:nvPicPr>
          <p:cNvPr id="260" name="Buckingham Palace.mp3" descr=""/>
          <p:cNvPicPr/>
          <p:nvPr/>
        </p:nvPicPr>
        <p:blipFill>
          <a:blip r:embed="rId2"/>
          <a:stretch/>
        </p:blipFill>
        <p:spPr>
          <a:xfrm>
            <a:off x="357120" y="4287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8">
            <a:hlinkClick r:id="" action="ppaction://hlinkshowjump?jump=previousslide"/>
          </p:cNvPr>
          <p:cNvSpPr/>
          <p:nvPr/>
        </p:nvSpPr>
        <p:spPr>
          <a:xfrm>
            <a:off x="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611280" y="65390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0">
            <a:hlinkClick r:id="" action="ppaction://hlinkshowjump?jump=nextslide"/>
          </p:cNvPr>
          <p:cNvSpPr/>
          <p:nvPr/>
        </p:nvSpPr>
        <p:spPr>
          <a:xfrm>
            <a:off x="2124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BuckinghamPalace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9535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1d2e"/>
                </a:solidFill>
                <a:latin typeface="Arial"/>
              </a:rPr>
              <a:t>The Tower of Lond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Picture 7" descr="656px-Tower_of_London,_Traitors_Gate"/>
          <p:cNvPicPr/>
          <p:nvPr/>
        </p:nvPicPr>
        <p:blipFill>
          <a:blip r:embed="rId1"/>
          <a:srcRect l="2161" t="7937" r="0" b="5386"/>
          <a:stretch/>
        </p:blipFill>
        <p:spPr>
          <a:xfrm>
            <a:off x="4786200" y="1928880"/>
            <a:ext cx="3929040" cy="454968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sp>
        <p:nvSpPr>
          <p:cNvPr id="267" name="AutoShape 6">
            <a:hlinkClick r:id="" action="ppaction://hlinkshowjump?jump=previousslide"/>
          </p:cNvPr>
          <p:cNvSpPr/>
          <p:nvPr/>
        </p:nvSpPr>
        <p:spPr>
          <a:xfrm>
            <a:off x="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84360" y="65390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8">
            <a:hlinkClick r:id="" action="ppaction://hlinkshowjump?jump=nextslide"/>
          </p:cNvPr>
          <p:cNvSpPr/>
          <p:nvPr/>
        </p:nvSpPr>
        <p:spPr>
          <a:xfrm>
            <a:off x="219564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6"/>
          <p:cNvSpPr/>
          <p:nvPr/>
        </p:nvSpPr>
        <p:spPr>
          <a:xfrm>
            <a:off x="285840" y="1785960"/>
            <a:ext cx="4214880" cy="4483080"/>
          </a:xfrm>
          <a:prstGeom prst="rect">
            <a:avLst/>
          </a:prstGeom>
          <a:solidFill>
            <a:srgbClr val="90d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entury Gothic"/>
              </a:rPr>
              <a:t>The Tower of London is the fortress in the historic centre of London, on the north bank of the river Tha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entury Gothic"/>
              </a:rPr>
              <a:t>It is the oldest building in The Tower of Londo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entury Gothic"/>
              </a:rPr>
              <a:t>Now Tower is the historical site and muse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icle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                       zero artic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0" y="1628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ited Kingdom of Great Britain and Northern  Irel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5940360" y="1628640"/>
            <a:ext cx="14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do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4"/>
          <p:cNvSpPr/>
          <p:nvPr/>
        </p:nvSpPr>
        <p:spPr>
          <a:xfrm>
            <a:off x="6091560" y="227484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оугольник 5"/>
          <p:cNvSpPr/>
          <p:nvPr/>
        </p:nvSpPr>
        <p:spPr>
          <a:xfrm flipH="1">
            <a:off x="6084000" y="26449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179280" y="22748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ouses of Parlia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оугольник 7"/>
          <p:cNvSpPr/>
          <p:nvPr/>
        </p:nvSpPr>
        <p:spPr>
          <a:xfrm flipH="1">
            <a:off x="6219720" y="324468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g B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оугольник 8"/>
          <p:cNvSpPr/>
          <p:nvPr/>
        </p:nvSpPr>
        <p:spPr>
          <a:xfrm>
            <a:off x="5565600" y="3244680"/>
            <a:ext cx="29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minster Abbey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9"/>
          <p:cNvSpPr/>
          <p:nvPr/>
        </p:nvSpPr>
        <p:spPr>
          <a:xfrm flipH="1">
            <a:off x="5977800" y="4173480"/>
            <a:ext cx="25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ckingham Pal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10"/>
          <p:cNvSpPr/>
          <p:nvPr/>
        </p:nvSpPr>
        <p:spPr>
          <a:xfrm>
            <a:off x="324000" y="32446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wer of Lond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3059280" y="3244680"/>
            <a:ext cx="53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13"/>
          <p:cNvSpPr/>
          <p:nvPr/>
        </p:nvSpPr>
        <p:spPr>
          <a:xfrm>
            <a:off x="5724360" y="3244680"/>
            <a:ext cx="324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t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 would like to visit……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 London, because….. 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Picture 9" descr="50834_1024_768"/>
          <p:cNvPicPr/>
          <p:nvPr/>
        </p:nvPicPr>
        <p:blipFill>
          <a:blip r:embed="rId1"/>
          <a:stretch/>
        </p:blipFill>
        <p:spPr>
          <a:xfrm>
            <a:off x="798480" y="4308480"/>
            <a:ext cx="3135240" cy="2306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5219640" y="4365720"/>
            <a:ext cx="3351240" cy="2092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5502240" y="2205000"/>
            <a:ext cx="2786040" cy="2095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глаз"/>
          <p:cNvPicPr/>
          <p:nvPr/>
        </p:nvPicPr>
        <p:blipFill>
          <a:blip r:embed="rId4"/>
          <a:stretch/>
        </p:blipFill>
        <p:spPr>
          <a:xfrm>
            <a:off x="1035000" y="220500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Картинка 16 из 412283"/>
          <p:cNvPicPr/>
          <p:nvPr/>
        </p:nvPicPr>
        <p:blipFill>
          <a:blip r:embed="rId1"/>
          <a:stretch/>
        </p:blipFill>
        <p:spPr>
          <a:xfrm>
            <a:off x="-142920" y="0"/>
            <a:ext cx="942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500040" y="642960"/>
            <a:ext cx="83581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London is the capital of  Great Britain.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2060"/>
                </a:solidFill>
                <a:latin typeface="Bookman Old Style"/>
              </a:rPr>
              <a:t>It was founded by the Rom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Bookman Old Style"/>
              </a:rPr>
              <a:t>It is very old city. It is two thousand years old. London is not only the capital of the country; it is also a huge 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2" descr="C:\Documents and Settings\SP\Рабочий стол\английский\b2yUFneA[1].jpg"/>
          <p:cNvPicPr/>
          <p:nvPr/>
        </p:nvPicPr>
        <p:blipFill>
          <a:blip r:embed="rId1"/>
          <a:stretch/>
        </p:blipFill>
        <p:spPr>
          <a:xfrm>
            <a:off x="3857760" y="3214800"/>
            <a:ext cx="4628880" cy="3143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714240" y="3143160"/>
            <a:ext cx="2500560" cy="331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324000" y="981000"/>
            <a:ext cx="850104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2e"/>
                </a:solidFill>
                <a:latin typeface="Arial"/>
              </a:rPr>
              <a:t>London is one</a:t>
            </a:r>
            <a:r>
              <a:rPr b="1" lang="ru-RU" sz="2800" spc="-1" strike="noStrike">
                <a:solidFill>
                  <a:srgbClr val="001d2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1d2e"/>
                </a:solidFill>
                <a:latin typeface="Arial"/>
              </a:rPr>
              <a:t>of the largest cities in the world</a:t>
            </a:r>
            <a:r>
              <a:rPr b="0" lang="en-US" sz="2800" spc="-1" strike="noStrike">
                <a:solidFill>
                  <a:srgbClr val="001d2e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bout seven million people live h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London is more than two thousand years old. London’s most famous sights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ower Bridg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Big Ben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Houses of Parliamen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falgar Square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t. Paul’s Cathedral and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глаз"/>
          <p:cNvPicPr/>
          <p:nvPr/>
        </p:nvPicPr>
        <p:blipFill>
          <a:blip r:embed="rId1"/>
          <a:stretch/>
        </p:blipFill>
        <p:spPr>
          <a:xfrm>
            <a:off x="5929200" y="3357720"/>
            <a:ext cx="2714760" cy="1928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d2e"/>
                </a:solidFill>
                <a:latin typeface="Arial"/>
              </a:rPr>
              <a:t>Articles</a:t>
            </a:r>
            <a:br>
              <a:rPr sz="4400"/>
            </a:br>
            <a:r>
              <a:rPr b="1" lang="en-US" sz="4400" spc="-1" strike="noStrike">
                <a:solidFill>
                  <a:srgbClr val="001d2e"/>
                </a:solidFill>
                <a:latin typeface="Arial"/>
              </a:rPr>
              <a:t>The                        zero artic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324000" y="15573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nited Kingdom of Great Britain and Northern  Irel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5867280" y="18795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9" descr="BritainLondonmapsightseeing"/>
          <p:cNvPicPr/>
          <p:nvPr/>
        </p:nvPicPr>
        <p:blipFill>
          <a:blip r:embed="rId1"/>
          <a:stretch/>
        </p:blipFill>
        <p:spPr>
          <a:xfrm>
            <a:off x="285840" y="714240"/>
            <a:ext cx="8424720" cy="558324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sp>
        <p:nvSpPr>
          <p:cNvPr id="232" name="Прямоугольник 4"/>
          <p:cNvSpPr/>
          <p:nvPr/>
        </p:nvSpPr>
        <p:spPr>
          <a:xfrm>
            <a:off x="2643120" y="142920"/>
            <a:ext cx="400068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"/>
              </a:rPr>
              <a:t>The Map of Lond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81200" y="356760"/>
            <a:ext cx="8362800" cy="37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lgar Square</a:t>
            </a:r>
            <a:r>
              <a:rPr b="0" lang="en-US" sz="3200" spc="-1" strike="noStrike">
                <a:solidFill>
                  <a:srgbClr val="71a6a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is a square in central London, Englan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6920" y="4928760"/>
            <a:ext cx="806616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On the column in the centre there is a statue of Admiral Nelson who defeated the French at the Battle of Trafalgar in 18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Trafalgar Square_1"/>
          <p:cNvPicPr/>
          <p:nvPr/>
        </p:nvPicPr>
        <p:blipFill>
          <a:blip r:embed="rId1"/>
          <a:stretch/>
        </p:blipFill>
        <p:spPr>
          <a:xfrm>
            <a:off x="2571840" y="1857240"/>
            <a:ext cx="3989160" cy="271476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sp>
        <p:nvSpPr>
          <p:cNvPr id="236" name="AutoShape 7">
            <a:hlinkClick r:id="" action="ppaction://hlinkshowjump?jump=previousslide"/>
          </p:cNvPr>
          <p:cNvSpPr/>
          <p:nvPr/>
        </p:nvSpPr>
        <p:spPr>
          <a:xfrm>
            <a:off x="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6661080" y="658332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На 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9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7"/>
          <p:cNvSpPr/>
          <p:nvPr/>
        </p:nvSpPr>
        <p:spPr>
          <a:xfrm>
            <a:off x="5429160" y="1928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1a6a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62800" cy="4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Houses of Parliamen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0" y="1860120"/>
            <a:ext cx="4392720" cy="42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ouses of Parliament is the seat of the British govern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consist of  the House of Commons, the House of Lords and Westminster H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uildings are situated in central London overlooking the riv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6" descr="The Houses of Parliament"/>
          <p:cNvPicPr/>
          <p:nvPr/>
        </p:nvPicPr>
        <p:blipFill>
          <a:blip r:embed="rId1"/>
          <a:stretch/>
        </p:blipFill>
        <p:spPr>
          <a:xfrm>
            <a:off x="258840" y="1076400"/>
            <a:ext cx="4102200" cy="533088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sp>
        <p:nvSpPr>
          <p:cNvPr id="243" name="AutoShape 7">
            <a:hlinkClick r:id="" action="ppaction://hlinkshowjump?jump=previousslide"/>
          </p:cNvPr>
          <p:cNvSpPr/>
          <p:nvPr/>
        </p:nvSpPr>
        <p:spPr>
          <a:xfrm>
            <a:off x="6480000" y="6453360"/>
            <a:ext cx="540000" cy="40464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19" h="21600">
                <a:moveTo>
                  <a:pt x="0" y="0"/>
                </a:moveTo>
                <a:lnTo>
                  <a:pt x="28819" y="0"/>
                </a:lnTo>
                <a:lnTo>
                  <a:pt x="28819" y="21600"/>
                </a:lnTo>
                <a:lnTo>
                  <a:pt x="0" y="21600"/>
                </a:lnTo>
                <a:close/>
              </a:path>
              <a:path fill="lightenLess" w="28819" h="21600">
                <a:moveTo>
                  <a:pt x="0" y="0"/>
                </a:moveTo>
                <a:lnTo>
                  <a:pt x="28819" y="0"/>
                </a:lnTo>
                <a:lnTo>
                  <a:pt x="27419" y="1400"/>
                </a:lnTo>
                <a:lnTo>
                  <a:pt x="1400" y="1400"/>
                </a:lnTo>
                <a:close/>
              </a:path>
              <a:path fill="darken" w="28819" h="21600">
                <a:moveTo>
                  <a:pt x="28819" y="0"/>
                </a:moveTo>
                <a:lnTo>
                  <a:pt x="28819" y="21600"/>
                </a:lnTo>
                <a:lnTo>
                  <a:pt x="27419" y="20200"/>
                </a:lnTo>
                <a:lnTo>
                  <a:pt x="27419" y="1400"/>
                </a:lnTo>
                <a:close/>
              </a:path>
              <a:path fill="darkenLess" w="28819" h="21600">
                <a:moveTo>
                  <a:pt x="2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9" y="20200"/>
                </a:lnTo>
                <a:close/>
              </a:path>
              <a:path fill="lighten" w="2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9" h="21600">
                <a:moveTo>
                  <a:pt x="7403" y="10800"/>
                </a:moveTo>
                <a:lnTo>
                  <a:pt x="21416" y="3794"/>
                </a:lnTo>
                <a:lnTo>
                  <a:pt x="2141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7093080" y="65390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9">
            <a:hlinkClick r:id="" action="ppaction://hlinkshowjump?jump=nextslide"/>
          </p:cNvPr>
          <p:cNvSpPr/>
          <p:nvPr/>
        </p:nvSpPr>
        <p:spPr>
          <a:xfrm>
            <a:off x="8604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38240"/>
            <a:ext cx="8229600" cy="482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ig Be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211280" y="918720"/>
            <a:ext cx="475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20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Ben is the name of the huge clock in one of the tall towers of the Houses of Parlia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20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ouses of Parliament is the largest modern building in the richest Gothic style completed in 185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6" descr="Big Ben - the Clock Tower"/>
          <p:cNvPicPr/>
          <p:nvPr/>
        </p:nvPicPr>
        <p:blipFill>
          <a:blip r:embed="rId1"/>
          <a:stretch/>
        </p:blipFill>
        <p:spPr>
          <a:xfrm>
            <a:off x="326880" y="1046160"/>
            <a:ext cx="3606840" cy="511956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pic>
        <p:nvPicPr>
          <p:cNvPr id="249" name="Big Ben.mp3" descr=""/>
          <p:cNvPicPr/>
          <p:nvPr/>
        </p:nvPicPr>
        <p:blipFill>
          <a:blip r:embed="rId2"/>
          <a:stretch/>
        </p:blipFill>
        <p:spPr>
          <a:xfrm>
            <a:off x="324000" y="5877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8">
            <a:hlinkClick r:id="" action="ppaction://hlinkshowjump?jump=previousslide"/>
          </p:cNvPr>
          <p:cNvSpPr/>
          <p:nvPr/>
        </p:nvSpPr>
        <p:spPr>
          <a:xfrm>
            <a:off x="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11280" y="65390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0">
            <a:hlinkClick r:id="" action="ppaction://hlinkshowjump?jump=nextslide"/>
          </p:cNvPr>
          <p:cNvSpPr/>
          <p:nvPr/>
        </p:nvSpPr>
        <p:spPr>
          <a:xfrm>
            <a:off x="2124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BigBen.mp3" descr=""/>
          <p:cNvPicPr/>
          <p:nvPr/>
        </p:nvPicPr>
        <p:blipFill>
          <a:blip r:embed="rId3"/>
          <a:stretch/>
        </p:blipFill>
        <p:spPr>
          <a:xfrm>
            <a:off x="850104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61728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571680" y="3071880"/>
            <a:ext cx="50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1d2e"/>
                </a:solidFill>
                <a:uFillTx/>
                <a:latin typeface="Comic Sans MS"/>
              </a:rPr>
              <a:t>Westminster Abb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2e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1d2e"/>
                </a:solidFill>
                <a:latin typeface="Comic Sans MS"/>
              </a:rPr>
              <a:t>is one of the most famous, historic visited churches</a:t>
            </a:r>
            <a:r>
              <a:rPr b="1" lang="ru-RU" sz="2800" spc="-1" strike="noStrike">
                <a:solidFill>
                  <a:srgbClr val="001d2e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1d2e"/>
                </a:solidFill>
                <a:latin typeface="Comic Sans MS"/>
              </a:rPr>
              <a:t>not only in Britain but in the whole Christian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5618160" cy="2657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5715000" y="3286080"/>
            <a:ext cx="3214800" cy="3214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7T07:15:55Z</dcterms:created>
  <dc:creator>*</dc:creator>
  <dc:description/>
  <dc:language>en-US</dc:language>
  <cp:lastModifiedBy>Яковенко</cp:lastModifiedBy>
  <dcterms:modified xsi:type="dcterms:W3CDTF">2014-02-10T11:15:12Z</dcterms:modified>
  <cp:revision>326</cp:revision>
  <dc:subject/>
  <dc:title>Слайд 1</dc:title>
</cp:coreProperties>
</file>