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2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4.wmf" ContentType="image/x-wmf"/>
  <Override PartName="/ppt/media/image14.png" ContentType="image/png"/>
  <Override PartName="/ppt/media/image36.wmf" ContentType="image/x-wmf"/>
  <Override PartName="/ppt/media/image1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37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0CD-E569-4481-90F0-47EC4919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85D-6C47-45D7-979F-BB1D00D9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644-9CFE-4C88-9DE6-E50D3E6D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CD9-5136-46BF-9370-F0577627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8574-3135-4C68-AE28-5B7D0B98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4123-2EDF-445A-8B2A-0C156405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3C88-2AF9-40A7-90D5-376CABD2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D456-A716-4C6B-A9BE-D8C38C68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1A0E-50C2-43AD-8DA0-1A604A3A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9EB2-061B-462E-B4EF-B15FE125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710E-F618-44D0-9585-86458B3C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A09-37AE-4070-90AF-F2A58B2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7AAD-38DD-4B47-97B8-0C25D19A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F7C0-216D-4014-8388-758112B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EC34-098C-469B-96C5-C7BEFA68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475E-BDCA-4D4B-A0A4-D285670A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59EE-B8AB-4BDE-99D1-0EF8E3F6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A4F-31B0-4DB2-89B6-B689B69B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398-3F6A-4B1F-829C-D77A3F8A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8DD-4CB6-4128-A97C-8257E895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DD4-E672-4FFA-AA17-097A44B6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820-3F70-4758-9613-89B5EFA8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C19-BD40-45DC-B42C-1D39DD89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6C7-493B-43AD-BD7F-9F93A3E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4E68-6B37-40C8-9AEE-2C0374FEBB8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C8B6-2DEC-4CA7-9BAB-5AD478C8D54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ердце 3"/>
          <p:cNvSpPr/>
          <p:nvPr/>
        </p:nvSpPr>
        <p:spPr>
          <a:xfrm>
            <a:off x="1042920" y="115920"/>
            <a:ext cx="7345440" cy="662616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КОНФЛИКТЫ МЕЖД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ВЗРОСЛЫМ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ДЕТЬ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6732720" y="4152960"/>
            <a:ext cx="2251080" cy="25509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4"/>
          <a:stretch/>
        </p:blipFill>
        <p:spPr>
          <a:xfrm>
            <a:off x="304920" y="3848040"/>
            <a:ext cx="1963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2"/>
          <a:stretch/>
        </p:blipFill>
        <p:spPr>
          <a:xfrm>
            <a:off x="2914560" y="-208080"/>
            <a:ext cx="3346560" cy="156708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3"/>
          <a:stretch/>
        </p:blipFill>
        <p:spPr>
          <a:xfrm>
            <a:off x="669960" y="1298520"/>
            <a:ext cx="3170160" cy="18525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3" descr=""/>
          <p:cNvPicPr/>
          <p:nvPr/>
        </p:nvPicPr>
        <p:blipFill>
          <a:blip r:embed="rId4"/>
          <a:stretch/>
        </p:blipFill>
        <p:spPr>
          <a:xfrm>
            <a:off x="4962600" y="1311120"/>
            <a:ext cx="3346200" cy="110340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4" descr=""/>
          <p:cNvPicPr/>
          <p:nvPr/>
        </p:nvPicPr>
        <p:blipFill>
          <a:blip r:embed="rId5"/>
          <a:stretch/>
        </p:blipFill>
        <p:spPr>
          <a:xfrm>
            <a:off x="1920960" y="2779560"/>
            <a:ext cx="5290920" cy="1116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"/>
          <p:cNvPicPr/>
          <p:nvPr/>
        </p:nvPicPr>
        <p:blipFill>
          <a:blip r:embed="rId6"/>
          <a:stretch/>
        </p:blipFill>
        <p:spPr>
          <a:xfrm>
            <a:off x="6640560" y="4005360"/>
            <a:ext cx="210816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"/>
          <p:cNvPicPr/>
          <p:nvPr/>
        </p:nvPicPr>
        <p:blipFill>
          <a:blip r:embed="rId7"/>
          <a:stretch/>
        </p:blipFill>
        <p:spPr>
          <a:xfrm>
            <a:off x="3502080" y="4121280"/>
            <a:ext cx="1963800" cy="2259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"/>
          <p:cNvPicPr/>
          <p:nvPr/>
        </p:nvPicPr>
        <p:blipFill>
          <a:blip r:embed="rId8"/>
          <a:stretch/>
        </p:blipFill>
        <p:spPr>
          <a:xfrm>
            <a:off x="355680" y="3429000"/>
            <a:ext cx="19047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2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2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Скругленный прямоугольник 5"/>
          <p:cNvSpPr/>
          <p:nvPr/>
        </p:nvSpPr>
        <p:spPr>
          <a:xfrm>
            <a:off x="179280" y="189000"/>
            <a:ext cx="8713800" cy="640872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Прямоугольник 1" descr=""/>
          <p:cNvPicPr/>
          <p:nvPr/>
        </p:nvPicPr>
        <p:blipFill>
          <a:blip r:embed="rId2"/>
          <a:stretch/>
        </p:blipFill>
        <p:spPr>
          <a:xfrm>
            <a:off x="907920" y="-12600"/>
            <a:ext cx="7871040" cy="1152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179280" y="1341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</a:rPr>
              <a:t>проблемы физического плана, связанные со здоровье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179280" y="213372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</a:rPr>
              <a:t>проблемы психологического плана (уход в себя, в свою душевную боль, изменение</a:t>
            </a:r>
            <a:r>
              <a:rPr b="1" i="1" lang="en-US" sz="2800" spc="-1" strike="noStrike">
                <a:solidFill>
                  <a:srgbClr val="660066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 Narrow"/>
              </a:rPr>
              <a:t>характера человека, психическое расстройство, суицид и т. д.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287280" y="414972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Narrow"/>
              </a:rPr>
              <a:t>проблемы социального плана (потеря семьи, развод, потеря работы, потеря себя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Рисунок 6" descr=""/>
          <p:cNvPicPr/>
          <p:nvPr/>
        </p:nvPicPr>
        <p:blipFill>
          <a:blip r:embed="rId3"/>
          <a:stretch/>
        </p:blipFill>
        <p:spPr>
          <a:xfrm>
            <a:off x="6875640" y="4819680"/>
            <a:ext cx="1809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108000" y="141300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стиль и характер родительского взаимодействия с детьми непроизвольно записывается  в психике ребён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79280" y="2797200"/>
            <a:ext cx="89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Став взрослым, человек воспроизводит родительский стиль общения со своим ребёнком как естественный. Так из поколения в поколение происходит наследование стиля общения: большинство родителей воспитывают своих детей так, как их самих воспитывали в детст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2"/>
          <a:stretch/>
        </p:blipFill>
        <p:spPr>
          <a:xfrm>
            <a:off x="2212920" y="73080"/>
            <a:ext cx="4425840" cy="115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Program Files\Microsoft Office\MEDIA\CAGCAT10\j0216724.wmf"/>
          <p:cNvPicPr/>
          <p:nvPr/>
        </p:nvPicPr>
        <p:blipFill>
          <a:blip r:embed="rId3"/>
          <a:stretch/>
        </p:blipFill>
        <p:spPr>
          <a:xfrm>
            <a:off x="7308720" y="87480"/>
            <a:ext cx="14511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</a:rPr>
              <a:t>ПУТИ ФОРМИРОВАНИЯ БЕСКОНФЛИКТНЫХ ОТНОШЕНИЙ С ДЕТЬМИ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зрослые должны согласовать правила между соб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авила должны быть обязательно в жизни каждого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и наказании ребенка лучше лишать его хорошего, чем делать ему плох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Дайте своб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Никаких нота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Уступает тот, кто умне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314280" y="1413000"/>
            <a:ext cx="864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1. Прежде чем вы вступите в конфликтную ситуацию, подумайте над тем, какой результат от этого вы хотите получ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2. Утвердитесь в том, что этот результат для вас действительно важе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3. В конфликте признавайте не только свои интересы, но и интересы другого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4. Соблюдайте этику поведения в конфликтной ситуации, решайте проблему, а не сводите счёт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5. Будьте тверды и открыты, если убеждены в своей правот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6. Заставьте себя слышать доводы своего оппонен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7. Не унижайте и не оскорбляйте другого человека для того, чтобы потом не сгорать со стыда при встрече с ним и не мучиться раская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8. Будьте справедливы и честны в конфликте, не жалейте себ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9. Умейте вовремя останавливать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Times New Roman"/>
              </a:rPr>
              <a:t>10. Дорожите собственным уважением к самому себе, решаясь идти на конфликт с тем, кто слабее ва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Прямоугольник 2" descr=""/>
          <p:cNvPicPr/>
          <p:nvPr/>
        </p:nvPicPr>
        <p:blipFill>
          <a:blip r:embed="rId2"/>
          <a:stretch/>
        </p:blipFill>
        <p:spPr>
          <a:xfrm>
            <a:off x="334800" y="-30240"/>
            <a:ext cx="6274080" cy="127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Program Files\Microsoft Office\MEDIA\CAGCAT10\j0301252.wmf"/>
          <p:cNvPicPr/>
          <p:nvPr/>
        </p:nvPicPr>
        <p:blipFill>
          <a:blip r:embed="rId3"/>
          <a:stretch/>
        </p:blipFill>
        <p:spPr>
          <a:xfrm>
            <a:off x="6659640" y="1951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611280" y="2127240"/>
            <a:ext cx="7308720" cy="47307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250920" y="18900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 Black"/>
              </a:rPr>
              <a:t>"От любви до ненависти один шаг, от ненависти к любви – километры шагов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826920" y="836640"/>
            <a:ext cx="7705800" cy="5121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Родители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– главные “проектировщики, конструкторы и строители” личности ребёнка.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2"/>
          <a:stretch/>
        </p:blipFill>
        <p:spPr>
          <a:xfrm>
            <a:off x="108000" y="3009960"/>
            <a:ext cx="2736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2419200" y="480960"/>
            <a:ext cx="6688440" cy="42991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3"/>
          <a:srcRect l="0" t="3330" r="0" b="5211"/>
          <a:stretch/>
        </p:blipFill>
        <p:spPr>
          <a:xfrm>
            <a:off x="0" y="3016080"/>
            <a:ext cx="2720880" cy="358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2"/>
          <a:stretch/>
        </p:blipFill>
        <p:spPr>
          <a:xfrm>
            <a:off x="-96840" y="268200"/>
            <a:ext cx="7156440" cy="3475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3"/>
          <a:stretch/>
        </p:blipFill>
        <p:spPr>
          <a:xfrm>
            <a:off x="3446640" y="2852640"/>
            <a:ext cx="50641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2766960" y="6480"/>
            <a:ext cx="6778800" cy="4005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3"/>
          <a:stretch/>
        </p:blipFill>
        <p:spPr>
          <a:xfrm>
            <a:off x="179280" y="2205000"/>
            <a:ext cx="30243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2"/>
          <a:stretch/>
        </p:blipFill>
        <p:spPr>
          <a:xfrm>
            <a:off x="-219240" y="85680"/>
            <a:ext cx="6918480" cy="4626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"/>
          <p:cNvPicPr/>
          <p:nvPr/>
        </p:nvPicPr>
        <p:blipFill>
          <a:blip r:embed="rId3"/>
          <a:stretch/>
        </p:blipFill>
        <p:spPr>
          <a:xfrm>
            <a:off x="5940360" y="3500280"/>
            <a:ext cx="30448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2"/>
          <a:stretch/>
        </p:blipFill>
        <p:spPr>
          <a:xfrm>
            <a:off x="208080" y="6480"/>
            <a:ext cx="8875440" cy="30114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3"/>
          <a:stretch/>
        </p:blipFill>
        <p:spPr>
          <a:xfrm>
            <a:off x="2614680" y="2852640"/>
            <a:ext cx="3914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-219240" y="36360"/>
            <a:ext cx="9741240" cy="2859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"/>
          <p:cNvPicPr/>
          <p:nvPr/>
        </p:nvPicPr>
        <p:blipFill>
          <a:blip r:embed="rId3"/>
          <a:srcRect l="0" t="0" r="0" b="16913"/>
          <a:stretch/>
        </p:blipFill>
        <p:spPr>
          <a:xfrm>
            <a:off x="1403280" y="2843280"/>
            <a:ext cx="6215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1" descr=""/>
          <p:cNvPicPr/>
          <p:nvPr/>
        </p:nvPicPr>
        <p:blipFill>
          <a:blip r:embed="rId2"/>
          <a:stretch/>
        </p:blipFill>
        <p:spPr>
          <a:xfrm>
            <a:off x="1560600" y="152280"/>
            <a:ext cx="6278400" cy="19576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343800" y="2333520"/>
            <a:ext cx="87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это опасение хотя бы одной стороны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64360" y="2981160"/>
            <a:ext cx="818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что её ИНТЕРЕСЫ НАРУШАЮ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Прямоугольник 5" descr=""/>
          <p:cNvPicPr/>
          <p:nvPr/>
        </p:nvPicPr>
        <p:blipFill>
          <a:blip r:embed="rId3"/>
          <a:stretch/>
        </p:blipFill>
        <p:spPr>
          <a:xfrm>
            <a:off x="268200" y="3713040"/>
            <a:ext cx="2853000" cy="11145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6" descr=""/>
          <p:cNvPicPr/>
          <p:nvPr/>
        </p:nvPicPr>
        <p:blipFill>
          <a:blip r:embed="rId4"/>
          <a:stretch/>
        </p:blipFill>
        <p:spPr>
          <a:xfrm>
            <a:off x="5565600" y="3706920"/>
            <a:ext cx="3230640" cy="11142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7" descr=""/>
          <p:cNvPicPr/>
          <p:nvPr/>
        </p:nvPicPr>
        <p:blipFill>
          <a:blip r:embed="rId5"/>
          <a:stretch/>
        </p:blipFill>
        <p:spPr>
          <a:xfrm>
            <a:off x="2060640" y="4297320"/>
            <a:ext cx="469404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8" descr=""/>
          <p:cNvPicPr/>
          <p:nvPr/>
        </p:nvPicPr>
        <p:blipFill>
          <a:blip r:embed="rId6"/>
          <a:stretch/>
        </p:blipFill>
        <p:spPr>
          <a:xfrm>
            <a:off x="237960" y="5443560"/>
            <a:ext cx="3883320" cy="11462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9" descr=""/>
          <p:cNvPicPr/>
          <p:nvPr/>
        </p:nvPicPr>
        <p:blipFill>
          <a:blip r:embed="rId7"/>
          <a:stretch/>
        </p:blipFill>
        <p:spPr>
          <a:xfrm>
            <a:off x="3797280" y="5443560"/>
            <a:ext cx="5213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5:03:35Z</dcterms:created>
  <dc:creator>лада</dc:creator>
  <dc:description/>
  <dc:language>en-US</dc:language>
  <cp:lastModifiedBy>COMP</cp:lastModifiedBy>
  <dcterms:modified xsi:type="dcterms:W3CDTF">2012-05-04T15:47:34Z</dcterms:modified>
  <cp:revision>16</cp:revision>
  <dc:subject/>
  <dc:title>ПУТЬ К СЕРДЦУ РЕБЕНКА</dc:title>
</cp:coreProperties>
</file>