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54.png" ContentType="image/png"/>
  <Override PartName="/ppt/media/image10.png" ContentType="image/png"/>
  <Override PartName="/ppt/media/image14.png" ContentType="image/png"/>
  <Override PartName="/ppt/media/image49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4.png" ContentType="image/png"/>
  <Override PartName="/ppt/media/image61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43.jpeg" ContentType="image/jpe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1.jpeg" ContentType="image/jpeg"/>
  <Override PartName="/ppt/media/image21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40.png" ContentType="image/png"/>
  <Override PartName="/ppt/media/image66.png" ContentType="image/pn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BC4-5F93-4A1C-B460-0AC97FB7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034-FD45-4FA7-8686-CB1EC1C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44F-9286-4A1F-B681-EBE2D147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42F-AEB5-4572-8FF3-A11CB8A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875-933C-4EBA-9CDF-9B28E59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F2F-5EA4-4B90-8C5B-09365DC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4C3-A9C8-46DF-AD71-98D1B81B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34E-D1AE-4E69-AB84-1258CEA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A60-FE9E-4FCB-81D7-2971B56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FAD-D6B2-44BE-A2C1-20EBF52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F3C-4D3B-415F-B33E-3F2E804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DD4-1B62-47C8-8F03-E794656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FC2-2AA7-46DB-AC30-40F9EC7E6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42.jpeg"/><Relationship Id="rId4" Type="http://schemas.openxmlformats.org/officeDocument/2006/relationships/slide" Target="slide10.xml"/><Relationship Id="rId5" Type="http://schemas.openxmlformats.org/officeDocument/2006/relationships/image" Target="../media/image43.jpeg"/><Relationship Id="rId6" Type="http://schemas.openxmlformats.org/officeDocument/2006/relationships/slide" Target="slide10.xml"/><Relationship Id="rId7" Type="http://schemas.openxmlformats.org/officeDocument/2006/relationships/image" Target="../media/image44.jpeg"/><Relationship Id="rId8" Type="http://schemas.openxmlformats.org/officeDocument/2006/relationships/slide" Target="slide2.xml"/><Relationship Id="rId9" Type="http://schemas.openxmlformats.org/officeDocument/2006/relationships/image" Target="../media/image45.jpeg"/><Relationship Id="rId10" Type="http://schemas.openxmlformats.org/officeDocument/2006/relationships/slide" Target="slide10.xml"/><Relationship Id="rId11" Type="http://schemas.openxmlformats.org/officeDocument/2006/relationships/image" Target="../media/image46.jpeg"/><Relationship Id="rId12" Type="http://schemas.openxmlformats.org/officeDocument/2006/relationships/slide" Target="slide10.xml"/><Relationship Id="rId13" Type="http://schemas.openxmlformats.org/officeDocument/2006/relationships/image" Target="../media/image47.jpeg"/><Relationship Id="rId14" Type="http://schemas.openxmlformats.org/officeDocument/2006/relationships/slide" Target="slide10.xml"/><Relationship Id="rId15" Type="http://schemas.openxmlformats.org/officeDocument/2006/relationships/image" Target="../media/image48.jpeg"/><Relationship Id="rId16" Type="http://schemas.openxmlformats.org/officeDocument/2006/relationships/slide" Target="slide2.xml"/><Relationship Id="rId17" Type="http://schemas.openxmlformats.org/officeDocument/2006/relationships/image" Target="../media/image49.jpeg"/><Relationship Id="rId18" Type="http://schemas.openxmlformats.org/officeDocument/2006/relationships/slide" Target="slide10.xml"/><Relationship Id="rId19" Type="http://schemas.openxmlformats.org/officeDocument/2006/relationships/image" Target="../media/image50.jpeg"/><Relationship Id="rId20" Type="http://schemas.openxmlformats.org/officeDocument/2006/relationships/slide" Target="slide10.xml"/><Relationship Id="rId21" Type="http://schemas.openxmlformats.org/officeDocument/2006/relationships/image" Target="../media/image51.jpeg"/><Relationship Id="rId22" Type="http://schemas.openxmlformats.org/officeDocument/2006/relationships/slide" Target="slide10.xml"/><Relationship Id="rId23" Type="http://schemas.openxmlformats.org/officeDocument/2006/relationships/image" Target="../media/image52.jpeg"/><Relationship Id="rId24" Type="http://schemas.openxmlformats.org/officeDocument/2006/relationships/slide" Target="slide2.xml"/><Relationship Id="rId25" Type="http://schemas.openxmlformats.org/officeDocument/2006/relationships/image" Target="../media/image53.jpeg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69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6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2347560"/>
            <a:ext cx="698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 О С У Д 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866920" y="5229360"/>
            <a:ext cx="284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жу Валентина Ива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http://www.playcast.ru/uploads/2015/06/30/14164827.png"/>
          <p:cNvPicPr/>
          <p:nvPr/>
        </p:nvPicPr>
        <p:blipFill>
          <a:blip r:embed="rId2"/>
          <a:stretch/>
        </p:blipFill>
        <p:spPr>
          <a:xfrm>
            <a:off x="-4680" y="3284640"/>
            <a:ext cx="4386240" cy="356076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368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е зубцы сталь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ные и остр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ю подцеплять кус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даже просто н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56360" y="189000"/>
            <a:ext cx="2674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ь для хлеба созда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ежет его он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ухне ей всегда поче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и жарит и печ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иготовить нам 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кухонной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5" descr="img1.jpg"/>
          <p:cNvPicPr/>
          <p:nvPr/>
        </p:nvPicPr>
        <p:blipFill>
          <a:blip r:embed="rId2"/>
          <a:stretch/>
        </p:blipFill>
        <p:spPr>
          <a:xfrm>
            <a:off x="179280" y="155736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-17136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2708280"/>
          <a:ext cx="6096240" cy="3657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т большой стеклянный чайник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ень важный как начальник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увают животики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ят одну руку на пояс, другую изгибают как нос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фарфоровые ча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хрупкие бедня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едают, одна рука на     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серебряные ложк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ова на тонкой ножке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ягиваются, руки вверху, смыкают над голов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пластмассовый поднос: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посуду нам принес!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яются вперед, руки,  как с подно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ягиваются впер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210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етвёртый лишни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Best\Desktop\посуда\0227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65440" y="1193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Best\Desktop\посуда\05с125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8720" y="1195560"/>
            <a:ext cx="1276560" cy="1488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Best\Desktop\посуда\GAM1610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11937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Best\Desktop\посуда\2808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859280" y="1198440"/>
            <a:ext cx="1971720" cy="14893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4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C:\Users\Best\Desktop\посуда\cast_iron_dishes__6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195640" y="30146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Best\Desktop\посуда\9c8db2ebf750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48360" y="303228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Best\Desktop\посуда\13_big_1190396785_350x350.jp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72000" y="30146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Users\Best\Desktop\посуда\7249033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0920" y="2997360"/>
            <a:ext cx="1430280" cy="19065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15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C:\Users\Best\Desktop\посуда\29772931_5593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959520" y="5178600"/>
            <a:ext cx="1489320" cy="148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C:\Users\Best\Desktop\посуда\ist2_2890967_spoon.jp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21320" y="5143680"/>
            <a:ext cx="185724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C:\Users\Best\Desktop\посуда\1117.jpg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1436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Users\Best\Desktop\посуда\144-0010-01.jpg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2154240" y="5124600"/>
            <a:ext cx="20066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6840" y="115560"/>
            <a:ext cx="7848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предели по контуру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C:\Users\Best\Desktop\посуда\i.jpg"/>
          <p:cNvPicPr/>
          <p:nvPr/>
        </p:nvPicPr>
        <p:blipFill>
          <a:blip r:embed="rId2"/>
          <a:stretch/>
        </p:blipFill>
        <p:spPr>
          <a:xfrm>
            <a:off x="3608280" y="472428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Best\Desktop\посуда\trafareti_posuda1.jpg"/>
          <p:cNvPicPr/>
          <p:nvPr/>
        </p:nvPicPr>
        <p:blipFill>
          <a:blip r:embed="rId3"/>
          <a:stretch/>
        </p:blipFill>
        <p:spPr>
          <a:xfrm>
            <a:off x="639720" y="1434960"/>
            <a:ext cx="2125800" cy="2011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Users\Best\Desktop\посуда\trafareti_posuda2.jpg"/>
          <p:cNvPicPr/>
          <p:nvPr/>
        </p:nvPicPr>
        <p:blipFill>
          <a:blip r:embed="rId4"/>
          <a:stretch/>
        </p:blipFill>
        <p:spPr>
          <a:xfrm>
            <a:off x="3664080" y="1752480"/>
            <a:ext cx="2001600" cy="14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Users\Best\Desktop\посуда\trafareti_posuda4.jpg"/>
          <p:cNvPicPr/>
          <p:nvPr/>
        </p:nvPicPr>
        <p:blipFill>
          <a:blip r:embed="rId5"/>
          <a:stretch/>
        </p:blipFill>
        <p:spPr>
          <a:xfrm>
            <a:off x="852480" y="4300560"/>
            <a:ext cx="1928880" cy="1762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Best\Desktop\посуда\trafareti_posuda3.jpg"/>
          <p:cNvPicPr/>
          <p:nvPr/>
        </p:nvPicPr>
        <p:blipFill>
          <a:blip r:embed="rId6"/>
          <a:stretch/>
        </p:blipFill>
        <p:spPr>
          <a:xfrm>
            <a:off x="7159680" y="4149720"/>
            <a:ext cx="1415880" cy="174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:\Users\Best\Desktop\посуда\trafareti_posuda7.jpg"/>
          <p:cNvPicPr/>
          <p:nvPr/>
        </p:nvPicPr>
        <p:blipFill>
          <a:blip r:embed="rId7"/>
          <a:stretch/>
        </p:blipFill>
        <p:spPr>
          <a:xfrm>
            <a:off x="7050240" y="1297080"/>
            <a:ext cx="1260360" cy="17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Best\Desktop\посуда\2254.jpg"/>
          <p:cNvPicPr/>
          <p:nvPr/>
        </p:nvPicPr>
        <p:blipFill>
          <a:blip r:embed="rId8"/>
          <a:stretch/>
        </p:blipFill>
        <p:spPr>
          <a:xfrm>
            <a:off x="82440" y="3371760"/>
            <a:ext cx="3240360" cy="290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C:\Users\Best\Desktop\посуда\kuvshin.jpg"/>
          <p:cNvPicPr/>
          <p:nvPr/>
        </p:nvPicPr>
        <p:blipFill>
          <a:blip r:embed="rId9"/>
          <a:stretch/>
        </p:blipFill>
        <p:spPr>
          <a:xfrm>
            <a:off x="6948360" y="826920"/>
            <a:ext cx="2065320" cy="264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C:\Users\Best\Desktop\посуда\54434_PE159508_S4.jpg"/>
          <p:cNvPicPr/>
          <p:nvPr/>
        </p:nvPicPr>
        <p:blipFill>
          <a:blip r:embed="rId10"/>
          <a:stretch/>
        </p:blipFill>
        <p:spPr>
          <a:xfrm>
            <a:off x="3452760" y="39304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C:\Users\Best\Desktop\посуда\0_32dd1_7d87ccdf_L.jpg"/>
          <p:cNvPicPr/>
          <p:nvPr/>
        </p:nvPicPr>
        <p:blipFill>
          <a:blip r:embed="rId11"/>
          <a:stretch/>
        </p:blipFill>
        <p:spPr>
          <a:xfrm>
            <a:off x="241200" y="1316160"/>
            <a:ext cx="2922840" cy="219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C:\Users\Best\Desktop\посуда\kastrjulja-s-kryshkoj-pensofal-inoxal-star-pen-6626-5-l-big-0.jpg"/>
          <p:cNvPicPr/>
          <p:nvPr/>
        </p:nvPicPr>
        <p:blipFill>
          <a:blip r:embed="rId12"/>
          <a:stretch/>
        </p:blipFill>
        <p:spPr>
          <a:xfrm>
            <a:off x="3112920" y="1125360"/>
            <a:ext cx="3243600" cy="224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C:\Users\Best\Desktop\посуда\samovar.gif"/>
          <p:cNvPicPr/>
          <p:nvPr/>
        </p:nvPicPr>
        <p:blipFill>
          <a:blip r:embed="rId13"/>
          <a:stretch/>
        </p:blipFill>
        <p:spPr>
          <a:xfrm>
            <a:off x="6659640" y="3827520"/>
            <a:ext cx="2152440" cy="2698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1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846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аз, два, три, четыр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 посуду перемы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, два, три, четыре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 посуду перемы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аряю кулачками друг о                                                                               дру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ладонь скользит по                                                                    другой по к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ник, чашку, ковшик,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жку и большую повареш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ибают поочередно пальч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посуду перемы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ладонь скользит п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чашку мы разбили,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 у чайника отбилс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жку мы чуть-чу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м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ибают пальцы по од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мы маме помог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яют кулаками друг о                                                            дру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Best\Desktop\посуда\ab6f2abbf4d10b5546c4.jpg"/>
          <p:cNvPicPr/>
          <p:nvPr/>
        </p:nvPicPr>
        <p:blipFill>
          <a:blip r:embed="rId2"/>
          <a:stretch/>
        </p:blipFill>
        <p:spPr>
          <a:xfrm rot="1690200">
            <a:off x="801720" y="2563560"/>
            <a:ext cx="1660320" cy="103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>
            <a:off x="6480000" y="4724280"/>
            <a:ext cx="2140200" cy="1332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2840" y="189000"/>
            <a:ext cx="6184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де находится?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Best\Desktop\посуда\2010062154405.png"/>
          <p:cNvPicPr/>
          <p:nvPr/>
        </p:nvPicPr>
        <p:blipFill>
          <a:blip r:embed="rId4"/>
          <a:stretch/>
        </p:blipFill>
        <p:spPr>
          <a:xfrm>
            <a:off x="792000" y="1139760"/>
            <a:ext cx="1895760" cy="214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Best\Desktop\посуда\2010062154405.png"/>
          <p:cNvPicPr/>
          <p:nvPr/>
        </p:nvPicPr>
        <p:blipFill>
          <a:blip r:embed="rId5"/>
          <a:stretch/>
        </p:blipFill>
        <p:spPr>
          <a:xfrm>
            <a:off x="6562800" y="3981600"/>
            <a:ext cx="2057400" cy="232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Best\Desktop\посуда\2010062154405.png"/>
          <p:cNvPicPr/>
          <p:nvPr/>
        </p:nvPicPr>
        <p:blipFill>
          <a:blip r:embed="rId6"/>
          <a:stretch/>
        </p:blipFill>
        <p:spPr>
          <a:xfrm>
            <a:off x="3633840" y="3927600"/>
            <a:ext cx="2104920" cy="2381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Best\Desktop\посуда\2010062154405.png"/>
          <p:cNvPicPr/>
          <p:nvPr/>
        </p:nvPicPr>
        <p:blipFill>
          <a:blip r:embed="rId7"/>
          <a:stretch/>
        </p:blipFill>
        <p:spPr>
          <a:xfrm>
            <a:off x="657360" y="3981600"/>
            <a:ext cx="2057400" cy="232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Best\Desktop\посуда\2010062154405.png"/>
          <p:cNvPicPr/>
          <p:nvPr/>
        </p:nvPicPr>
        <p:blipFill>
          <a:blip r:embed="rId8"/>
          <a:stretch/>
        </p:blipFill>
        <p:spPr>
          <a:xfrm>
            <a:off x="3678120" y="974880"/>
            <a:ext cx="2041560" cy="230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Best\Desktop\посуда\2010062154405.png"/>
          <p:cNvPicPr/>
          <p:nvPr/>
        </p:nvPicPr>
        <p:blipFill>
          <a:blip r:embed="rId9"/>
          <a:stretch/>
        </p:blipFill>
        <p:spPr>
          <a:xfrm>
            <a:off x="6602400" y="1001880"/>
            <a:ext cx="201780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Best\Desktop\посуда\ab6f2abbf4d10b5546c4.jpg"/>
          <p:cNvPicPr/>
          <p:nvPr/>
        </p:nvPicPr>
        <p:blipFill>
          <a:blip r:embed="rId10"/>
          <a:stretch/>
        </p:blipFill>
        <p:spPr>
          <a:xfrm rot="1543800">
            <a:off x="4032000" y="3749760"/>
            <a:ext cx="1693800" cy="1052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Best\Desktop\посуда\ab6f2abbf4d10b5546c4.jpg"/>
          <p:cNvPicPr/>
          <p:nvPr/>
        </p:nvPicPr>
        <p:blipFill>
          <a:blip r:embed="rId11"/>
          <a:stretch/>
        </p:blipFill>
        <p:spPr>
          <a:xfrm rot="16755000">
            <a:off x="597600" y="4383720"/>
            <a:ext cx="1727280" cy="107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Best\Desktop\посуда\ab6f2abbf4d10b5546c4.jpg"/>
          <p:cNvPicPr/>
          <p:nvPr/>
        </p:nvPicPr>
        <p:blipFill>
          <a:blip r:embed="rId12"/>
          <a:stretch/>
        </p:blipFill>
        <p:spPr>
          <a:xfrm rot="12606000">
            <a:off x="6970680" y="414000"/>
            <a:ext cx="1889280" cy="117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Best\Desktop\посуда\ab6f2abbf4d10b5546c4.jpg"/>
          <p:cNvPicPr/>
          <p:nvPr/>
        </p:nvPicPr>
        <p:blipFill>
          <a:blip r:embed="rId13"/>
          <a:stretch/>
        </p:blipFill>
        <p:spPr>
          <a:xfrm rot="1409400">
            <a:off x="3825360" y="2727000"/>
            <a:ext cx="179568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647360" y="404640"/>
            <a:ext cx="563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»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егут на носочках, дает напряжение, рукой показывают движения змейкой, когда река спокойная – шаг, руки разводим в стороны.</a:t>
            </a:r>
            <a:br>
              <a:rPr sz="28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еек в лесу поет                 А потом рекою стал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тей играть зовет           Река шире ручейк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 ручейком бегите          Вот какие берега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» тихонько говорите           Да и песенка друга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еек бежал, бежал             Вот она какая «С»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» «Комарики» - указательные пальцы вперед, остальные в кулачок. Производить быстрые движения вперед-назад противопоставленные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» «Тихо, тс» с указательным пальцем сверху вниз, движение быстрое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» «Шарик» ладошки вместе, губы округлены, раздуваем, пальцы округлены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мея» приползла змея и шипит – кончик языка вверху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» - большой палец и мизинец расставлены в стороны, руки вперед, движения противопоставленные, круговые (широкий язык, напряжен, вибрация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» «Ящерица» - ладошка на столе, полусогнута, бежим по столу (мелкие движения в стороны с небольшим напряжением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» «Ключи» поворачиваем в замке вправо-влево, «Чик-чик» (соед. Т+Щ)+закр. в обратн.слог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»  «Колокол» пальцы в замок, большие внизу, соединяем, двигаем ими вперед-назад «ла-ла», прижать язык к зубам, а потом опускаем. Важно оторвать, чтобы воздух не пошел в нос. Лучше «ла» или «ал», потом «ы», а потом остальное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» «Мотор». Руки согнуты в локтях, движения круговые, вперед перед грудью, вращения перед собой. Произносим многократно с убыстрением «д», затем ведущая рука резко выбрасывается вниз-отрыв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водим мотоцикл» дрынь, пальцы в кулак, рука согнута в локтях, резко вниз, как на педа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09640" y="115920"/>
            <a:ext cx="58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посуду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Best\Desktop\посуда\L C Indiv cass.jpg"/>
          <p:cNvPicPr/>
          <p:nvPr/>
        </p:nvPicPr>
        <p:blipFill>
          <a:blip r:embed="rId2"/>
          <a:stretch/>
        </p:blipFill>
        <p:spPr>
          <a:xfrm>
            <a:off x="6237360" y="3767040"/>
            <a:ext cx="2857320" cy="210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>
            <a:off x="6486480" y="1341360"/>
            <a:ext cx="2112840" cy="133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Best\Desktop\посуда\1.png"/>
          <p:cNvPicPr/>
          <p:nvPr/>
        </p:nvPicPr>
        <p:blipFill>
          <a:blip r:embed="rId4"/>
          <a:stretch/>
        </p:blipFill>
        <p:spPr>
          <a:xfrm>
            <a:off x="324000" y="4343400"/>
            <a:ext cx="2762280" cy="189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Best\Desktop\посуда\224.jpg"/>
          <p:cNvPicPr/>
          <p:nvPr/>
        </p:nvPicPr>
        <p:blipFill>
          <a:blip r:embed="rId5"/>
          <a:stretch/>
        </p:blipFill>
        <p:spPr>
          <a:xfrm>
            <a:off x="3086280" y="2381400"/>
            <a:ext cx="3298680" cy="168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Best\Desktop\посуда\shop_items_catalog_image2366.jpg"/>
          <p:cNvPicPr/>
          <p:nvPr/>
        </p:nvPicPr>
        <p:blipFill>
          <a:blip r:embed="rId6"/>
          <a:stretch/>
        </p:blipFill>
        <p:spPr>
          <a:xfrm>
            <a:off x="3086280" y="3992400"/>
            <a:ext cx="2654280" cy="157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Users\Best\Desktop\посуда\post-2-13158644894204.jpg"/>
          <p:cNvPicPr/>
          <p:nvPr/>
        </p:nvPicPr>
        <p:blipFill>
          <a:blip r:embed="rId7"/>
          <a:stretch/>
        </p:blipFill>
        <p:spPr>
          <a:xfrm>
            <a:off x="3209760" y="1341360"/>
            <a:ext cx="2592720" cy="789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coollady.ru/pic/0004/057/052.jpg"/>
          <p:cNvPicPr/>
          <p:nvPr/>
        </p:nvPicPr>
        <p:blipFill>
          <a:blip r:embed="rId8"/>
          <a:stretch/>
        </p:blipFill>
        <p:spPr>
          <a:xfrm>
            <a:off x="222120" y="1735200"/>
            <a:ext cx="2737080" cy="213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http://img-fotki.yandex.ru/get/4812/47407354.272/0_8e5b6_21c0944_orig.png"/>
          <p:cNvPicPr/>
          <p:nvPr/>
        </p:nvPicPr>
        <p:blipFill>
          <a:blip r:embed="rId9"/>
          <a:stretch/>
        </p:blipFill>
        <p:spPr>
          <a:xfrm rot="6537000">
            <a:off x="3610080" y="4629240"/>
            <a:ext cx="25524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части посуд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Best\Desktop\посуда\2257.jpg"/>
          <p:cNvPicPr/>
          <p:nvPr/>
        </p:nvPicPr>
        <p:blipFill>
          <a:blip r:embed="rId2"/>
          <a:stretch/>
        </p:blipFill>
        <p:spPr>
          <a:xfrm>
            <a:off x="468360" y="361332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Best\Desktop\посуда\051420.jpg"/>
          <p:cNvPicPr/>
          <p:nvPr/>
        </p:nvPicPr>
        <p:blipFill>
          <a:blip r:embed="rId3"/>
          <a:stretch/>
        </p:blipFill>
        <p:spPr>
          <a:xfrm>
            <a:off x="5508720" y="1511280"/>
            <a:ext cx="2516040" cy="194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Best\Desktop\посуда\iab69a5be4.jpg"/>
          <p:cNvPicPr/>
          <p:nvPr/>
        </p:nvPicPr>
        <p:blipFill>
          <a:blip r:embed="rId4"/>
          <a:stretch/>
        </p:blipFill>
        <p:spPr>
          <a:xfrm>
            <a:off x="5326200" y="836640"/>
            <a:ext cx="2797200" cy="18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Best\Desktop\посуда\p_k_4,5.jpg"/>
          <p:cNvPicPr/>
          <p:nvPr/>
        </p:nvPicPr>
        <p:blipFill>
          <a:blip r:embed="rId5"/>
          <a:stretch/>
        </p:blipFill>
        <p:spPr>
          <a:xfrm rot="21040200">
            <a:off x="5013000" y="2041200"/>
            <a:ext cx="625320" cy="636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C:\Users\Best\Desktop\посуда\p_k_4,5.jpg"/>
          <p:cNvPicPr/>
          <p:nvPr/>
        </p:nvPicPr>
        <p:blipFill>
          <a:blip r:embed="rId6"/>
          <a:stretch/>
        </p:blipFill>
        <p:spPr>
          <a:xfrm rot="907200">
            <a:off x="7949880" y="2039400"/>
            <a:ext cx="59040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C:\Users\Best\Desktop\посуда\p_k_4,5.jpg"/>
          <p:cNvPicPr/>
          <p:nvPr/>
        </p:nvPicPr>
        <p:blipFill>
          <a:blip r:embed="rId7"/>
          <a:srcRect l="16263" t="20035" r="15330" b="21084"/>
          <a:stretch/>
        </p:blipFill>
        <p:spPr>
          <a:xfrm>
            <a:off x="415800" y="1119240"/>
            <a:ext cx="3392640" cy="233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Best\Desktop\посуда\2257 - копия - копия.jpg"/>
          <p:cNvPicPr/>
          <p:nvPr/>
        </p:nvPicPr>
        <p:blipFill>
          <a:blip r:embed="rId8"/>
          <a:stretch/>
        </p:blipFill>
        <p:spPr>
          <a:xfrm>
            <a:off x="6099120" y="4143240"/>
            <a:ext cx="164484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C:\Users\Best\Desktop\посуда\2257 - копия.jpg"/>
          <p:cNvPicPr/>
          <p:nvPr/>
        </p:nvPicPr>
        <p:blipFill>
          <a:blip r:embed="rId9"/>
          <a:stretch/>
        </p:blipFill>
        <p:spPr>
          <a:xfrm>
            <a:off x="5684760" y="4941720"/>
            <a:ext cx="2471760" cy="15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C:\Users\Best\Desktop\посуда\2257 - копия (2).jpg"/>
          <p:cNvPicPr/>
          <p:nvPr/>
        </p:nvPicPr>
        <p:blipFill>
          <a:blip r:embed="rId10"/>
          <a:stretch/>
        </p:blipFill>
        <p:spPr>
          <a:xfrm>
            <a:off x="4968720" y="4941720"/>
            <a:ext cx="795600" cy="114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Users\Best\Desktop\посуда\18470_18470_big.jpg"/>
          <p:cNvPicPr/>
          <p:nvPr/>
        </p:nvPicPr>
        <p:blipFill>
          <a:blip r:embed="rId11"/>
          <a:stretch/>
        </p:blipFill>
        <p:spPr>
          <a:xfrm rot="414000">
            <a:off x="5575320" y="3481560"/>
            <a:ext cx="269064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52760" y="43920"/>
            <a:ext cx="6014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Best\Desktop\посуда\7509385.jpg"/>
          <p:cNvPicPr/>
          <p:nvPr/>
        </p:nvPicPr>
        <p:blipFill>
          <a:blip r:embed="rId2"/>
          <a:stretch/>
        </p:blipFill>
        <p:spPr>
          <a:xfrm>
            <a:off x="179280" y="1181160"/>
            <a:ext cx="2946600" cy="210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Best\Desktop\посуда\8001022.jpg"/>
          <p:cNvPicPr/>
          <p:nvPr/>
        </p:nvPicPr>
        <p:blipFill>
          <a:blip r:embed="rId3"/>
          <a:stretch/>
        </p:blipFill>
        <p:spPr>
          <a:xfrm>
            <a:off x="6254640" y="1820880"/>
            <a:ext cx="1482840" cy="914400"/>
          </a:xfrm>
          <a:prstGeom prst="rect">
            <a:avLst/>
          </a:prstGeom>
          <a:ln w="0">
            <a:noFill/>
          </a:ln>
        </p:spPr>
      </p:pic>
      <p:cxnSp>
        <p:nvCxnSpPr>
          <p:cNvPr id="81" name="Прямая со стрелкой 4"/>
          <p:cNvCxnSpPr/>
          <p:nvPr/>
        </p:nvCxnSpPr>
        <p:spPr>
          <a:xfrm>
            <a:off x="3419640" y="2277720"/>
            <a:ext cx="252144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pic>
        <p:nvPicPr>
          <p:cNvPr id="82" name="Picture 5" descr="C:\Users\Best\Desktop\посуда\ist2_2890967_spoon.jpg"/>
          <p:cNvPicPr/>
          <p:nvPr/>
        </p:nvPicPr>
        <p:blipFill>
          <a:blip r:embed="rId4"/>
          <a:srcRect l="4804" t="4352" r="0" b="0"/>
          <a:stretch/>
        </p:blipFill>
        <p:spPr>
          <a:xfrm rot="2407800">
            <a:off x="423360" y="2900160"/>
            <a:ext cx="2471760" cy="1987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Best\Desktop\посуда\ist2_2890967_spoon.jpg"/>
          <p:cNvPicPr/>
          <p:nvPr/>
        </p:nvPicPr>
        <p:blipFill>
          <a:blip r:embed="rId5"/>
          <a:srcRect l="9135" t="8346" r="2627" b="4084"/>
          <a:stretch/>
        </p:blipFill>
        <p:spPr>
          <a:xfrm rot="2326200">
            <a:off x="6243120" y="3330360"/>
            <a:ext cx="1571760" cy="124596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10"/>
          <p:cNvCxnSpPr/>
          <p:nvPr/>
        </p:nvCxnSpPr>
        <p:spPr>
          <a:xfrm>
            <a:off x="3342960" y="3838320"/>
            <a:ext cx="252180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pic>
        <p:nvPicPr>
          <p:cNvPr id="85" name="Picture 7" descr="C:\Users\Best\Desktop\посуда\40765.jpg"/>
          <p:cNvPicPr/>
          <p:nvPr/>
        </p:nvPicPr>
        <p:blipFill>
          <a:blip r:embed="rId6"/>
          <a:stretch/>
        </p:blipFill>
        <p:spPr>
          <a:xfrm>
            <a:off x="6443640" y="4772160"/>
            <a:ext cx="1401840" cy="1401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Best\Desktop\посуда\40765.jpg"/>
          <p:cNvPicPr/>
          <p:nvPr/>
        </p:nvPicPr>
        <p:blipFill>
          <a:blip r:embed="rId7"/>
          <a:stretch/>
        </p:blipFill>
        <p:spPr>
          <a:xfrm>
            <a:off x="539640" y="4226040"/>
            <a:ext cx="2448000" cy="244944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13"/>
          <p:cNvCxnSpPr/>
          <p:nvPr/>
        </p:nvCxnSpPr>
        <p:spPr>
          <a:xfrm>
            <a:off x="3303720" y="5449680"/>
            <a:ext cx="252000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Best\Desktop\посуда\post-2-13158644894204.jpg"/>
          <p:cNvPicPr/>
          <p:nvPr/>
        </p:nvPicPr>
        <p:blipFill>
          <a:blip r:embed="rId2"/>
          <a:stretch/>
        </p:blipFill>
        <p:spPr>
          <a:xfrm>
            <a:off x="262080" y="765000"/>
            <a:ext cx="3571560" cy="108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Best\Desktop\посуда\post-2-13158644894204.jpg"/>
          <p:cNvPicPr/>
          <p:nvPr/>
        </p:nvPicPr>
        <p:blipFill>
          <a:blip r:embed="rId3"/>
          <a:stretch/>
        </p:blipFill>
        <p:spPr>
          <a:xfrm>
            <a:off x="6227640" y="934920"/>
            <a:ext cx="2449800" cy="74628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5"/>
          <p:cNvCxnSpPr/>
          <p:nvPr/>
        </p:nvCxnSpPr>
        <p:spPr>
          <a:xfrm>
            <a:off x="4066920" y="1267920"/>
            <a:ext cx="198036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pic>
        <p:nvPicPr>
          <p:cNvPr id="92" name="Picture 4" descr="C:\Users\Best\Desktop\посуда\5543_2.jpg"/>
          <p:cNvPicPr/>
          <p:nvPr/>
        </p:nvPicPr>
        <p:blipFill>
          <a:blip r:embed="rId4"/>
          <a:stretch/>
        </p:blipFill>
        <p:spPr>
          <a:xfrm>
            <a:off x="262080" y="127800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Users\Best\Desktop\посуда\5543_2.jpg"/>
          <p:cNvPicPr/>
          <p:nvPr/>
        </p:nvPicPr>
        <p:blipFill>
          <a:blip r:embed="rId5"/>
          <a:stretch/>
        </p:blipFill>
        <p:spPr>
          <a:xfrm>
            <a:off x="6948360" y="1976400"/>
            <a:ext cx="1584360" cy="158436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0"/>
          <p:cNvCxnSpPr/>
          <p:nvPr/>
        </p:nvCxnSpPr>
        <p:spPr>
          <a:xfrm>
            <a:off x="3656160" y="2768400"/>
            <a:ext cx="269928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pic>
        <p:nvPicPr>
          <p:cNvPr id="95" name="Picture 6" descr="C:\Users\Best\Desktop\посуда\x_0ce257e0.jpg"/>
          <p:cNvPicPr/>
          <p:nvPr/>
        </p:nvPicPr>
        <p:blipFill>
          <a:blip r:embed="rId6"/>
          <a:stretch/>
        </p:blipFill>
        <p:spPr>
          <a:xfrm>
            <a:off x="709560" y="3645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Best\Desktop\посуда\x_0ce257e0.jpg"/>
          <p:cNvPicPr/>
          <p:nvPr/>
        </p:nvPicPr>
        <p:blipFill>
          <a:blip r:embed="rId7"/>
          <a:stretch/>
        </p:blipFill>
        <p:spPr>
          <a:xfrm>
            <a:off x="6948360" y="4808520"/>
            <a:ext cx="1511280" cy="151308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4"/>
          <p:cNvCxnSpPr/>
          <p:nvPr/>
        </p:nvCxnSpPr>
        <p:spPr>
          <a:xfrm>
            <a:off x="3656160" y="4982760"/>
            <a:ext cx="2699280" cy="10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41560" y="68400"/>
            <a:ext cx="563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гадай – 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24000" y="4165560"/>
            <a:ext cx="28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-пузатый велика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го не нос, а кр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него исходит жа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же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195960" y="95076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я пуста бы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тебя не забы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когда несу еду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мо рта  не прой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6012000" y="3573360"/>
            <a:ext cx="244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нас она необход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пищу из нее едим 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убокая и мел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овут ее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869080" y="256536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ё за ручку мы берё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й, кофе из нее мы пьем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3516480" y="5742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ет хобот, а не сло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чашкам отдает поклон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0920" y="9237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ухоньке наш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варим в ней каш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ошку, бульон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пы, макароны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0920" y="245268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из ста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екрас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жет овощи и мяс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лезвие не трож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, конечно, это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Best\Desktop\посуда\2 Cup Essentials Pesto 0-48992.jpg"/>
          <p:cNvPicPr/>
          <p:nvPr/>
        </p:nvPicPr>
        <p:blipFill>
          <a:blip r:embed="rId2"/>
          <a:stretch/>
        </p:blipFill>
        <p:spPr>
          <a:xfrm>
            <a:off x="2984400" y="950760"/>
            <a:ext cx="1960560" cy="157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 rot="17896200">
            <a:off x="4555800" y="1225080"/>
            <a:ext cx="1609560" cy="103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Best\Desktop\посуда\shop_items_catalog_image2366.jpg"/>
          <p:cNvPicPr/>
          <p:nvPr/>
        </p:nvPicPr>
        <p:blipFill>
          <a:blip r:embed="rId4"/>
          <a:stretch/>
        </p:blipFill>
        <p:spPr>
          <a:xfrm>
            <a:off x="4211640" y="2781360"/>
            <a:ext cx="1528920" cy="90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Best\Desktop\посуда\2255.jpg"/>
          <p:cNvPicPr/>
          <p:nvPr/>
        </p:nvPicPr>
        <p:blipFill>
          <a:blip r:embed="rId5"/>
          <a:stretch/>
        </p:blipFill>
        <p:spPr>
          <a:xfrm>
            <a:off x="3929040" y="397836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Best\Desktop\посуда\10000007777.jpg"/>
          <p:cNvPicPr/>
          <p:nvPr/>
        </p:nvPicPr>
        <p:blipFill>
          <a:blip r:embed="rId6"/>
          <a:stretch/>
        </p:blipFill>
        <p:spPr>
          <a:xfrm>
            <a:off x="6622920" y="4903920"/>
            <a:ext cx="2124360" cy="212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:\Users\Best\Desktop\посуда\bg3220.jpg"/>
          <p:cNvPicPr/>
          <p:nvPr/>
        </p:nvPicPr>
        <p:blipFill>
          <a:blip r:embed="rId7"/>
          <a:stretch/>
        </p:blipFill>
        <p:spPr>
          <a:xfrm rot="19984800">
            <a:off x="757080" y="5200200"/>
            <a:ext cx="2482920" cy="187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C:\Users\Best\Desktop\посуда\4436.jpg"/>
          <p:cNvPicPr/>
          <p:nvPr/>
        </p:nvPicPr>
        <p:blipFill>
          <a:blip r:embed="rId8"/>
          <a:stretch/>
        </p:blipFill>
        <p:spPr>
          <a:xfrm>
            <a:off x="2581200" y="2913120"/>
            <a:ext cx="1630440" cy="1479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Windows User</cp:lastModifiedBy>
  <dcterms:modified xsi:type="dcterms:W3CDTF">2018-11-26T10:55:39Z</dcterms:modified>
  <cp:revision>91</cp:revision>
  <dc:subject/>
  <dc:title>ПОСУДА</dc:title>
</cp:coreProperties>
</file>