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5F5-FB02-407E-8277-0666A156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E70-A48D-4BEC-86B1-83535A00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9A9-9803-4B8E-BF1F-EAF204B6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B42-DE40-4837-B4A6-03140DC4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07DFD-AE49-4EA5-A175-A7C2710C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B40BA-F34E-4D15-A801-70AEDEF2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E63FB-5611-4785-B311-C287EDDA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5F268-1E21-4640-AE15-8427E0C4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96997-A094-4F1E-8998-EE0D2B12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D2AEC-4337-46E9-993E-ACE1A462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7A148-6CC6-4807-8D41-55B68BA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CDB-FF7C-4E99-B473-E233AA79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6610B-F16C-48AB-8CB4-BF9E7470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D31AA-BCF0-4B01-9641-8A95852A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1AB0E-16F2-4610-80B1-2380E6F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50FD9-450B-4F93-B54F-9DE2FBF5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85F63-3DF5-41B0-A82A-55CEE18A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C16-9B2B-4A64-8198-FF1E0086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644-97C6-4BAB-81D6-75F040B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FA5-D9B2-4BCE-A2D4-8ED512D2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441-C12E-497C-A691-9F31869C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938-8D06-4364-AAFB-60BEE228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721-95CE-4D05-9C21-C4065B00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C18-6473-4D80-9A22-F1A23FF8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F88F-05EC-4C91-BDA3-8AD9276390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1B5C-457A-4C1D-B18B-6920D6A6FC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МБОУ «Южная СОШ»</a:t>
            </a:r>
            <a:br>
              <a:rPr sz="4800"/>
            </a:b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Охрименко Анастасия</a:t>
            </a:r>
            <a:br>
              <a:rPr sz="4800"/>
            </a:b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2 «Б» класс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743200" y="35812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 проек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слоухая шотландская ко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20171107_085111"/>
          <p:cNvPicPr/>
          <p:nvPr/>
        </p:nvPicPr>
        <p:blipFill>
          <a:blip r:embed="rId1"/>
          <a:stretch/>
        </p:blipFill>
        <p:spPr>
          <a:xfrm>
            <a:off x="0" y="335268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Живые Картинки Для Презентаций Спасибо За Внимание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6197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Задачи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440" y="2057400"/>
            <a:ext cx="7620120" cy="3733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зать о происхожден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слоухой шотландско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ш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Р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з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аракте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Познакомить с интересными фактами жизни ко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Познакоми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и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ш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Рассказать о правила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3059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Цел</a:t>
            </a:r>
            <a:r>
              <a:rPr b="0" lang="ru-RU" sz="5400" spc="-1" strike="noStrike">
                <a:solidFill>
                  <a:srgbClr val="ccffff"/>
                </a:solidFill>
                <a:latin typeface="Arial"/>
              </a:rPr>
              <a:t>ь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680" y="25142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лечь внимание к породе Вислоухая  шотландская к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История происхождения породы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1142640"/>
            <a:ext cx="5943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преки убеждению что первая Вислоухоя кошка в мире Сьюзи это не так Сьюзи лишь дола толчок развитию именно шотландской породы Вислоухие же коты в дикой природе встречались уже давно первые упоминания о них есть в Китае Только там никому и в голову не  пришло размножать хвостатых с такими странным дефектом А вот шотландским фермерам он настолько понравился что было решено дать начало новой породе Это случилось 1960-х то есть порода считается сравнительно молодой Фермеша Мэри Росс получила в подарок дочку той самой Сьюзи полудикого белого котенка и сразу же влюбилась в него Это окозалось девочка которая потом тоже родила вислоухого котенка Родина шотландской кошки Шотланд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7" descr="Картинки по запросу шотландская короткошерстная вислоухая"/>
          <p:cNvPicPr/>
          <p:nvPr/>
        </p:nvPicPr>
        <p:blipFill>
          <a:blip r:embed="rId1"/>
          <a:stretch/>
        </p:blipFill>
        <p:spPr>
          <a:xfrm>
            <a:off x="0" y="320040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Характер Шотландской Вислоухой кошки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отландские вислоухие очень преданные кошки и, как правило, выстраивают очень тесные отношения с одним человеком в семье, за которым и будут следовать из комнаты в комнату. Они нуждаются во внимании и взаимоотношениях со своим хозяин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0" y="39477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ие шотландские вислоухие кошки любят заниматься своим собственным видом йоги, они лежаться на спину, садятся в позу медитации с вытянутыми вперед лапами, распластываются как коврик или принимают позу бурунду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54860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тландские вислоухие кошки могут почувствовать себя одиноким, если не видят своего любимого хозяина в течение длительных периодов времени. В этом случае, компанию шотландской вислоухой кошке может составить соба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Картинки по запросу характер шотландской вислоухой кошки"/>
          <p:cNvPicPr/>
          <p:nvPr/>
        </p:nvPicPr>
        <p:blipFill>
          <a:blip r:embed="rId1"/>
          <a:stretch/>
        </p:blipFill>
        <p:spPr>
          <a:xfrm>
            <a:off x="7238880" y="1905120"/>
            <a:ext cx="19051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ffff"/>
                </a:solidFill>
                <a:latin typeface="Arial"/>
              </a:rPr>
              <a:t>Важно !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4560" y="2133720"/>
            <a:ext cx="6095880" cy="4495680"/>
          </a:xfrm>
          <a:prstGeom prst="rect">
            <a:avLst/>
          </a:prstGeom>
          <a:solidFill>
            <a:srgbClr val="00cc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**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! При уходе за шерстью «шотландца» нельзя использовать пуходерку — она только выдергивает роскошный подшерсток и портит внешний ви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**Важно! Эту породу лучше кормить небольшими порциями, но чащ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80880" y="4727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\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9" descr="Картинки по запросу факты о шотландской вислоухой кошки"/>
          <p:cNvPicPr/>
          <p:nvPr/>
        </p:nvPicPr>
        <p:blipFill>
          <a:blip r:embed="rId1"/>
          <a:stretch/>
        </p:blipFill>
        <p:spPr>
          <a:xfrm>
            <a:off x="6400800" y="228600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ffff"/>
                </a:solidFill>
                <a:latin typeface="Arial"/>
              </a:rPr>
              <a:t>Масти </a:t>
            </a:r>
            <a:r>
              <a:rPr b="0" i="1" lang="en-US" sz="4000" spc="-1" strike="noStrike">
                <a:solidFill>
                  <a:srgbClr val="ccffff"/>
                </a:solidFill>
                <a:latin typeface="Arial"/>
              </a:rPr>
              <a:t>Шотландской Вислоухой кошки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чисто белый;                                                   - калико (на белом фоне черные и красные крапинки);                                                                     -различные оттенки шиншиллы (от серебристого до золотистого);                       -затушеванный (со светлым подшерстком и светлыми кончиками);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табби (на контрастном фоне шерсть украшена кругами, пятнышками или полосами);                                                         -биколор (основание — белое, пятна — различных окрасок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Картинки по запросу описание шотландская кошка"/>
          <p:cNvPicPr/>
          <p:nvPr/>
        </p:nvPicPr>
        <p:blipFill>
          <a:blip r:embed="rId1"/>
          <a:stretch/>
        </p:blipFill>
        <p:spPr>
          <a:xfrm>
            <a:off x="6705720" y="2971800"/>
            <a:ext cx="20811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Уход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4572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Купание: не чаще, чем раз в месяц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Выгул: изредка  требуют прогулок и некоторых физических нагрузок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Чем кормить:  меню кошки должны присутствовать: курятина; индейка; говядина; субпродукты; печень; морская рыба; творог; сыр; сырые яйца; ово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Здоровь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в среднем, продолжительность жизни скоттишей составляет 10-15 лет (зависит от здоровья, питания, места и условий обитания). Однако, и породистые коты, и полукровки могут иметь некоторые проблемы со здоровьем. В основном, они носят генетически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9" descr="Похожее изображение"/>
          <p:cNvPicPr/>
          <p:nvPr/>
        </p:nvPicPr>
        <p:blipFill>
          <a:blip r:embed="rId1"/>
          <a:stretch/>
        </p:blipFill>
        <p:spPr>
          <a:xfrm>
            <a:off x="5486400" y="762120"/>
            <a:ext cx="32767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Знаете ли вы? Впервые на экранах телевизора вислоухий «шотландец» появился в 1970 году в одной из серий про Карлсона. Это — питомица Фрекен Бок по имени Матильд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 Знаете ли вы? Вопреки сложившемуся мнению, прижатые уши не делают породу склонной к глухоте и ушным заболевания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4-19T11:3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